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</p:sldIdLst>
  <p:sldSz cx="9158288" cy="68722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52360" y="698400"/>
            <a:ext cx="455328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2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3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4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5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2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Rectangle 3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Rectangle 4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Rectangle 5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2"/>
          <p:cNvSpPr/>
          <p:nvPr/>
        </p:nvSpPr>
        <p:spPr>
          <a:xfrm>
            <a:off x="3875040" y="-14400"/>
            <a:ext cx="29829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3"/>
          <p:cNvSpPr/>
          <p:nvPr/>
        </p:nvSpPr>
        <p:spPr>
          <a:xfrm>
            <a:off x="3875040" y="8704440"/>
            <a:ext cx="29829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4"/>
          <p:cNvSpPr/>
          <p:nvPr/>
        </p:nvSpPr>
        <p:spPr>
          <a:xfrm>
            <a:off x="0" y="8704440"/>
            <a:ext cx="2981160" cy="45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5"/>
          <p:cNvSpPr/>
          <p:nvPr/>
        </p:nvSpPr>
        <p:spPr>
          <a:xfrm>
            <a:off x="0" y="-14400"/>
            <a:ext cx="298116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57400" y="698400"/>
            <a:ext cx="4543200" cy="340992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896760" y="4352760"/>
            <a:ext cx="508176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7F7CB-F9E0-48F2-BB6E-7FF28D07D4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85CFF-3342-4492-951C-86ED99F0FF8E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B9522C9-0918-454F-A044-802716D7E41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0F7345-4657-404C-9577-ABBC4E5F15F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4FD6A58-6EC2-4EB5-B87C-EFBF08E2AB6A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2F1CBF-FA7D-4E10-B449-7480A42978DB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B3BEC6-1B44-450B-952C-FBA3E1790A26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7A7EB3F-EB13-4EB2-9FD8-DC08225B81C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7AB0C45-AF13-491B-8C33-EEA553BA8179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5BA61A0-0328-4F2E-8BBF-4092AF999A0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C289A2A-2E1D-45E7-96C5-F31F07F4B013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E7CB14-A2A1-42C5-9EEA-0EAC71F241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C40B9-7269-40B4-976C-A46AB7F55BAC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B9FA2-A9D3-4D73-9831-54183BE7E182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007D01-8840-4979-AC43-AEA33730380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7E5A85-CBCD-4D49-A69E-6FE46B841750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BDFD55-49A7-481C-93CD-192C621137F6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631EC4-8938-431A-BE06-CB842AC96AA7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DAA381-FA49-4701-9FE1-6A088E55547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2B2894-7B96-44A7-A95D-CB5402FAB8E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CED0AD-B450-48E5-90C6-844BEB0E794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5437E-985D-4CD6-A0C5-E5554A4A58D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A290A8-B6B3-4913-9172-98DC3A6CDB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21B9C5-E8A3-47EB-8706-4C7D15ED1622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38DDE5-B5BB-4D70-BB1B-EE975D78C341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FFC534-9C72-4DE9-A9B1-D3CD7EA30609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4C2137-A0E2-4353-8037-11C75D9568F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E3E54A6-B503-4613-B55D-B1557B41C85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BC953A-22BB-4A84-AE41-20FA5F7BCEF7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2BF80AB-0B76-4B31-984A-3F16FAED1146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DED209-A489-4920-AB4E-8F539C41F595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E44F1AB-5EF1-47CF-A0AC-2970EF16B6EF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62A042-17C5-4934-84A7-B973DB55C467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903499A-BD25-45B2-9F34-0D31EFD6EF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746F5C-AACF-4F34-98FA-CE9A1012A1DC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06ED4CB-1967-4A72-AED1-5306580F350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207461-F3B2-4FB3-A1A3-19A155142DA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DE475E6-B404-4639-9517-7B1482CF8FE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13D0F6C-518E-4D9B-882A-B7F071E117C9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011C2F9-DFE1-4B7F-BB13-046B9F41B2F9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CD703CC-B952-4FA1-932B-B27322DCD038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30C32AD-636B-4782-B4C8-319B271784EA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4EE5F51-765C-44DF-AF8D-1918B0B2EC61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0D1077C-7E6F-46D0-8EA0-F899246314C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8F2E8B5-77AB-4BF9-88C6-47250C2693B9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2908947-6358-403A-923A-7BEA17A8B866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B054C9D-4FA2-44C5-A658-ECCA945AE996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1E992F0-0BEB-4C73-8C80-D858C7E35AFB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2A94EF7-7CD2-4E4F-BF3D-5BBEEDE7E13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646B5-66B2-4DD5-9E91-E3CF29067A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E0070F-CDC2-4919-8100-75F17AEB762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502D42-7A90-45A6-8E15-9E4D7F9196F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045357-888E-4CA6-8DFE-1993F41216C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4CB132-D8B7-4621-9691-79F554AA4E1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6A84FF-9691-411C-805B-149F2C6FAA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8FBE7-5711-4B3B-B0AD-33F60E090DF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D40AAF-4420-4455-AA46-640A114A373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51EB23-0D60-4AE9-9A61-DC19BD695D7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6281EA-DFC4-4341-AFC3-C0D61CE8302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95CC19-436B-4615-BBF8-A1FF4143C4C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8DB206-BC43-474A-A30D-1AE1DB0E8D3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714CA2-07AE-481B-B98D-9931BF1C51F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211553-FF2D-41FC-A23C-AC88191849D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0294E-AE1F-461F-9185-F97452A1268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8C3D5-F0C0-4BFD-A60C-C97B5772867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E6DE5-875D-41A7-814B-15C64A52E1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B288DC-9D4B-46DA-8965-F34E0D83489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A054A-6D0E-47B4-BF83-45F613E16F7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597E1-A959-4DB7-900C-34C399CF14E4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A4E45-7DAE-49EA-AF62-26E506BF7D9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E0ECB-0FFA-4281-9973-19598C44BD0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8EDFD-E9A7-46F7-8F8D-51A9EC39981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79269-7B50-4E8A-AA0C-40E748E4A90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1F42B-5B51-4233-8A84-21CC56FA29B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FDC85-8C69-4327-998F-69115AE91FF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75A79-68F6-4D33-8FB4-F74A5D4FE8A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612EED-E08A-4092-9A64-8C9D47C1BB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A121D-E927-4C6D-B06B-FFC80B8C04C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448CA0-DEE9-4347-B5A7-768BC36894C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BE8B3A-CB9C-4430-B365-82437256ADE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844156-A441-49D1-BF62-FEC1A15542ED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AA5AE4-47D5-4308-8071-CAC2816441A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C7448A-1F20-453E-AD77-FCCEAD97B2D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A4BDF42-9381-4FDE-B12C-C100996AB18F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98983E-719A-4FE9-B962-1EB884B5BD12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A53B00-D9A2-4957-AE62-8005C476AE4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D9E270-C916-4AA7-A6D1-3E0BAEF92CC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3BE2C9-9852-42B1-B90B-4C58FFF9F6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F161F-923D-4BC0-82DC-DC030D5C326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CA6A63-5C1A-47CF-B364-1D5C1FC309A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27104D-C436-4D0F-84A4-FA81F12FA60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7D04EFF-B591-497F-8726-00416E382D4B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688A00-3D19-4C92-9787-3E4B4D0D7BE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D761E0-BF5F-4FDB-8FEF-8293606D173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7EDF33-9B40-497E-91C2-7468520A2DB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24A3C30-8B56-4AB3-BE06-2F11FA71094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A2D032-2239-499A-A225-39A1707BBD40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1180B62-A17C-4A12-8EBB-53D67BDEB84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1269DE-3F3B-4725-B704-35D214120B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24B74-9683-4E3C-A9F6-5E6699C71C0E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70969F-AA32-4AE7-BA2C-675833B26B7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962571-A13F-4D5A-8536-04D53E6F6578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64E7C6-5855-4068-B102-631B784BBB8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E31DB-63E3-47EC-849F-CAF2B27ECD13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AB1EC-EE21-4832-A4EF-E45E61CA5904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1E96E-4BA1-4066-A9A7-7546847B38A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6B3ED-CEF2-41D7-9732-9698B5B1972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8774F-A16A-44B2-B74C-3F49D040C708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E49C4B-75B5-4427-BA20-23CDB6E9EDB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75998-A578-45BE-A856-0EC6490138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C9692-6FDA-4D05-BD0E-1E479390B2E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A3468-6144-4698-96FE-F13941C541D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080BE-29CD-4FCB-93F6-97E0BA034C8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C238B-4F77-4522-985B-A9D0B8CD92EF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FA687-1DE4-47A6-94F3-9CF7F898EC17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E525B-27DA-4ADA-AFEF-B8711466702D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223B51-AB39-44B2-A918-D56B97901CA3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63482B-AC3C-4DA2-8004-58DE0649CD44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51363DD-71CD-4378-9A0D-D7C24606FA4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A4C6B4-497B-43E5-AF38-F2ED362A772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E0DD87B-A678-42E7-8598-544586E289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62A57-070E-4989-BA7C-762240CBA340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2487600" y="380520"/>
            <a:ext cx="5727600" cy="416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A43534-C33E-442E-947C-1A3F328C543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21D50B-571D-4AC8-8895-DF02009A1B74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6AED75-C0FE-44E0-B080-CA527C51A8BB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47A4F1-562E-46C3-95D8-693855D3771D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92280" y="4137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3E3484-E759-4F0D-9BD1-1102583DAAAE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987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9228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4137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DCD65B-616A-4D17-A620-3BF5D4778C9F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32028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947920" y="1987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92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32028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5947920" y="4137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E56B058-2031-4A2C-A0C6-8B3539DF7F79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992BF7-B1D3-457E-BC0F-6E6078CC702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A90E283-847E-41D0-A07A-7C225FB4786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B06E6CE-AD87-4014-BD93-56C5214736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C1416-A85C-4468-944F-ABA6669E4E1A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8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515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ftr" idx="17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sldNum" idx="18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59874-34A2-4CD7-857E-28E4289D2075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572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 type="ftr" idx="19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 type="sldNum" idx="20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FA496-A069-492B-B72A-53AC345BC912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8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629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 type="ftr" idx="2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 type="sldNum" idx="2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FF664-F003-4057-9D27-374E44BFA168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7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61" name="Arc 8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9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10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12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Arc 13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14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15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16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17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18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 Box 19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20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116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3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4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12BB2-3CA4-4327-963D-8692F8F8554C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173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ftr" idx="5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sldNum" idx="6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77668-1F60-4B8B-B2C5-DC7F8D8E8B84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230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 type="ftr" idx="7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 type="sldNum" idx="8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23735-473B-414A-973D-C2AA8E78AE8C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287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ftr" idx="9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sldNum" idx="10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739C2-0DFB-46D7-B9BE-A3C13C36316B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344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ftr" idx="11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 type="sldNum" idx="12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F6636-B913-4871-879F-83E0E223BD02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401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ftr" idx="13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sldNum" idx="14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91342-6DC2-40CC-8E4F-72E51C3409A0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Line 3"/>
          <p:cNvSpPr/>
          <p:nvPr/>
        </p:nvSpPr>
        <p:spPr>
          <a:xfrm>
            <a:off x="2057400" y="920880"/>
            <a:ext cx="658512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2062800" y="971640"/>
            <a:ext cx="39038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3360" rIns="63360" tIns="25560" bIns="2556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vigation and Ancillary Information Faci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6"/>
          <p:cNvSpPr/>
          <p:nvPr/>
        </p:nvSpPr>
        <p:spPr>
          <a:xfrm>
            <a:off x="-12600" y="6531120"/>
            <a:ext cx="20952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9"/>
          <p:cNvGrpSpPr/>
          <p:nvPr/>
        </p:nvGrpSpPr>
        <p:grpSpPr>
          <a:xfrm>
            <a:off x="177840" y="182520"/>
            <a:ext cx="1824120" cy="897120"/>
            <a:chOff x="177840" y="182520"/>
            <a:chExt cx="1824120" cy="897120"/>
          </a:xfrm>
        </p:grpSpPr>
        <p:sp>
          <p:nvSpPr>
            <p:cNvPr id="458" name="Arc 10"/>
            <p:cNvSpPr/>
            <p:nvPr/>
          </p:nvSpPr>
          <p:spPr>
            <a:xfrm flipH="1">
              <a:off x="1007280" y="326880"/>
              <a:ext cx="125640" cy="112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11"/>
            <p:cNvSpPr/>
            <p:nvPr/>
          </p:nvSpPr>
          <p:spPr>
            <a:xfrm>
              <a:off x="177840" y="463680"/>
              <a:ext cx="1824120" cy="61596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12"/>
            <p:cNvSpPr/>
            <p:nvPr/>
          </p:nvSpPr>
          <p:spPr>
            <a:xfrm>
              <a:off x="912960" y="560520"/>
              <a:ext cx="311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13"/>
            <p:cNvSpPr/>
            <p:nvPr/>
          </p:nvSpPr>
          <p:spPr>
            <a:xfrm flipV="1">
              <a:off x="1068480" y="51264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14"/>
            <p:cNvSpPr/>
            <p:nvPr/>
          </p:nvSpPr>
          <p:spPr>
            <a:xfrm>
              <a:off x="525600" y="639720"/>
              <a:ext cx="733320" cy="247680"/>
            </a:xfrm>
            <a:prstGeom prst="ellipse">
              <a:avLst/>
            </a:prstGeom>
            <a:noFill/>
            <a:ln w="12600">
              <a:solidFill>
                <a:srgbClr val="00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rc 15"/>
            <p:cNvSpPr/>
            <p:nvPr/>
          </p:nvSpPr>
          <p:spPr>
            <a:xfrm flipV="1">
              <a:off x="876240" y="529920"/>
              <a:ext cx="1104840" cy="357120"/>
            </a:xfrm>
            <a:prstGeom prst="pie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16"/>
            <p:cNvSpPr/>
            <p:nvPr/>
          </p:nvSpPr>
          <p:spPr>
            <a:xfrm>
              <a:off x="893880" y="8510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17"/>
            <p:cNvSpPr/>
            <p:nvPr/>
          </p:nvSpPr>
          <p:spPr>
            <a:xfrm>
              <a:off x="1819440" y="568440"/>
              <a:ext cx="74520" cy="74520"/>
            </a:xfrm>
            <a:prstGeom prst="ellipse">
              <a:avLst/>
            </a:prstGeom>
            <a:solidFill>
              <a:srgbClr val="e30101"/>
            </a:solidFill>
            <a:ln w="9360">
              <a:solidFill>
                <a:srgbClr val="e3010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18"/>
            <p:cNvSpPr/>
            <p:nvPr/>
          </p:nvSpPr>
          <p:spPr>
            <a:xfrm flipV="1">
              <a:off x="1071720" y="241200"/>
              <a:ext cx="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Freeform 19"/>
            <p:cNvSpPr/>
            <p:nvPr/>
          </p:nvSpPr>
          <p:spPr>
            <a:xfrm>
              <a:off x="888840" y="371520"/>
              <a:ext cx="370080" cy="398520"/>
            </a:xfrm>
            <a:prstGeom prst="pie">
              <a:avLst/>
            </a:prstGeom>
            <a:solidFill>
              <a:srgbClr val="e30101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20"/>
            <p:cNvSpPr/>
            <p:nvPr/>
          </p:nvSpPr>
          <p:spPr>
            <a:xfrm flipV="1">
              <a:off x="1071720" y="304920"/>
              <a:ext cx="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1"/>
            <p:cNvSpPr/>
            <p:nvPr/>
          </p:nvSpPr>
          <p:spPr>
            <a:xfrm>
              <a:off x="393480" y="182520"/>
              <a:ext cx="584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2"/>
            <p:cNvSpPr/>
            <p:nvPr/>
          </p:nvSpPr>
          <p:spPr>
            <a:xfrm>
              <a:off x="1175040" y="182520"/>
              <a:ext cx="677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e30101"/>
                  </a:solidFill>
                  <a:latin typeface="Arial"/>
                </a:rPr>
                <a:t>IF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87600" y="380520"/>
            <a:ext cx="5727600" cy="89892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92280" y="1987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ftr" idx="15"/>
          </p:nvPr>
        </p:nvSpPr>
        <p:spPr>
          <a:xfrm>
            <a:off x="-360" y="6629400"/>
            <a:ext cx="289548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sldNum" idx="16"/>
          </p:nvPr>
        </p:nvSpPr>
        <p:spPr>
          <a:xfrm>
            <a:off x="725148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B7122-3CA6-41DB-9762-0E238BAB7E46}" type="slidenum"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988640" y="3171600"/>
            <a:ext cx="5537160" cy="952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81d58"/>
                </a:solidFill>
                <a:latin typeface="Arial"/>
              </a:rPr>
              <a:t>Geometric Event Finding</a:t>
            </a:r>
            <a:br>
              <a:rPr sz="3600"/>
            </a:b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Programming Lesson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1374840" y="5668560"/>
            <a:ext cx="6400800" cy="50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1d58"/>
                </a:solidFill>
                <a:latin typeface="Arial"/>
              </a:rPr>
              <a:t>September 2016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Slide Number Placeholder 4"/>
          <p:cNvSpPr/>
          <p:nvPr/>
        </p:nvSpPr>
        <p:spPr>
          <a:xfrm>
            <a:off x="725184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6EF07-8A8F-40B9-AB6E-26C56311C813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704880" y="1527120"/>
            <a:ext cx="7772400" cy="486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oblem statemen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termine when the ExoMars-16 Trace Gas Orbiter (TGO) is visible from ESA’s New Norcia station, within the time interv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8 Jun 10 TD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18 Jun 14 TD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the spacecraft to be considered visible, the apparent spacecraft position relative to New Norcia station must have elevation of at least 6 degrees in the station’s topocentric reference frame NEW_NORCIA_TOPO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light time and stellar aberration corrections to compute the spacecraft position relative to New Norci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ount for possible occultation of the spacecraft by Mar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mpute a SPICE window representing the visibility period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play the start and stop times of each time interval in this SPICE window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41360" y="380520"/>
            <a:ext cx="6237000" cy="42228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1d58"/>
                </a:solidFill>
                <a:latin typeface="Arial"/>
              </a:rPr>
              <a:t>Geometric Event Finding:  Overview</a:t>
            </a:r>
            <a:endParaRPr b="1" lang="en-US" sz="2800" spc="-1" strike="noStrike">
              <a:solidFill>
                <a:srgbClr val="081d58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Slide Number Placeholder 4"/>
          <p:cNvSpPr/>
          <p:nvPr/>
        </p:nvSpPr>
        <p:spPr>
          <a:xfrm>
            <a:off x="7251840" y="6629400"/>
            <a:ext cx="190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A36BB-44CF-4AAA-A3C4-FB7CF62F845D}" type="slidenum">
              <a:rPr b="1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/>
          </p:nvPr>
        </p:nvSpPr>
        <p:spPr>
          <a:xfrm>
            <a:off x="3656160" y="3691080"/>
            <a:ext cx="984240" cy="38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39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ev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397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ngl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title"/>
          </p:nvPr>
        </p:nvSpPr>
        <p:spPr>
          <a:xfrm>
            <a:off x="3457440" y="380520"/>
            <a:ext cx="3803760" cy="475200"/>
          </a:xfrm>
          <a:prstGeom prst="rect">
            <a:avLst/>
          </a:prstGeom>
          <a:noFill/>
          <a:ln w="0">
            <a:noFill/>
          </a:ln>
        </p:spPr>
        <p:txBody>
          <a:bodyPr lIns="63360" rIns="63360" tIns="25560" bIns="25560" anchor="t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81d58"/>
                </a:solidFill>
                <a:latin typeface="Arial"/>
              </a:rPr>
              <a:t>Visibility Geometry</a:t>
            </a:r>
            <a:endParaRPr b="1" lang="en-US" sz="3200" spc="-1" strike="noStrike">
              <a:solidFill>
                <a:srgbClr val="081d58"/>
              </a:solidFill>
              <a:latin typeface="Arial"/>
            </a:endParaRPr>
          </a:p>
        </p:txBody>
      </p:sp>
      <p:sp>
        <p:nvSpPr>
          <p:cNvPr id="693" name="Oval 69"/>
          <p:cNvSpPr/>
          <p:nvPr/>
        </p:nvSpPr>
        <p:spPr>
          <a:xfrm>
            <a:off x="555480" y="3308400"/>
            <a:ext cx="3276720" cy="3133800"/>
          </a:xfrm>
          <a:prstGeom prst="ellipse">
            <a:avLst/>
          </a:prstGeom>
          <a:gradFill rotWithShape="0">
            <a:gsLst>
              <a:gs pos="0">
                <a:srgbClr val="031c6b"/>
              </a:gs>
              <a:gs pos="100000">
                <a:srgbClr val="063de8"/>
              </a:gs>
            </a:gsLst>
            <a:lin ang="135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Oval 70"/>
          <p:cNvSpPr/>
          <p:nvPr/>
        </p:nvSpPr>
        <p:spPr>
          <a:xfrm>
            <a:off x="5572080" y="2808360"/>
            <a:ext cx="1501920" cy="1434960"/>
          </a:xfrm>
          <a:prstGeom prst="ellipse">
            <a:avLst/>
          </a:prstGeom>
          <a:solidFill>
            <a:srgbClr val="ce1a0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72"/>
          <p:cNvSpPr/>
          <p:nvPr/>
        </p:nvSpPr>
        <p:spPr>
          <a:xfrm flipV="1">
            <a:off x="2685960" y="2628720"/>
            <a:ext cx="609840" cy="10890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73"/>
          <p:cNvSpPr/>
          <p:nvPr/>
        </p:nvSpPr>
        <p:spPr>
          <a:xfrm flipH="1">
            <a:off x="2625840" y="3719520"/>
            <a:ext cx="64800" cy="8874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74"/>
          <p:cNvSpPr/>
          <p:nvPr/>
        </p:nvSpPr>
        <p:spPr>
          <a:xfrm flipV="1">
            <a:off x="2728800" y="3338280"/>
            <a:ext cx="3248280" cy="385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75"/>
          <p:cNvSpPr/>
          <p:nvPr/>
        </p:nvSpPr>
        <p:spPr>
          <a:xfrm flipV="1">
            <a:off x="7053120" y="3141720"/>
            <a:ext cx="838440" cy="950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76"/>
          <p:cNvSpPr/>
          <p:nvPr/>
        </p:nvSpPr>
        <p:spPr>
          <a:xfrm flipV="1">
            <a:off x="2736720" y="2126880"/>
            <a:ext cx="4573800" cy="159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Arc 78"/>
          <p:cNvSpPr/>
          <p:nvPr/>
        </p:nvSpPr>
        <p:spPr>
          <a:xfrm rot="2415600">
            <a:off x="3176280" y="3588840"/>
            <a:ext cx="549360" cy="530280"/>
          </a:xfrm>
          <a:prstGeom prst="pie">
            <a:avLst/>
          </a:prstGeom>
          <a:noFill/>
          <a:ln w="38160">
            <a:solidFill>
              <a:srgbClr val="46ec1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80"/>
          <p:cNvSpPr/>
          <p:nvPr/>
        </p:nvSpPr>
        <p:spPr>
          <a:xfrm>
            <a:off x="1136520" y="2141640"/>
            <a:ext cx="2311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sis vectors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W_NORCIA_TO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pocentric 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81"/>
          <p:cNvSpPr/>
          <p:nvPr/>
        </p:nvSpPr>
        <p:spPr>
          <a:xfrm>
            <a:off x="6122880" y="4316400"/>
            <a:ext cx="75564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82"/>
          <p:cNvSpPr/>
          <p:nvPr/>
        </p:nvSpPr>
        <p:spPr>
          <a:xfrm>
            <a:off x="3444840" y="5956200"/>
            <a:ext cx="9208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83"/>
          <p:cNvSpPr/>
          <p:nvPr/>
        </p:nvSpPr>
        <p:spPr>
          <a:xfrm>
            <a:off x="7994520" y="2908440"/>
            <a:ext cx="116208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G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cul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86"/>
          <p:cNvSpPr/>
          <p:nvPr/>
        </p:nvSpPr>
        <p:spPr>
          <a:xfrm>
            <a:off x="7107120" y="1550880"/>
            <a:ext cx="15303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G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is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71"/>
          <p:cNvSpPr/>
          <p:nvPr/>
        </p:nvSpPr>
        <p:spPr>
          <a:xfrm flipH="1" flipV="1">
            <a:off x="1412280" y="3204360"/>
            <a:ext cx="1283760" cy="50184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Arc 88"/>
          <p:cNvSpPr/>
          <p:nvPr/>
        </p:nvSpPr>
        <p:spPr>
          <a:xfrm rot="2545800">
            <a:off x="3041280" y="3740040"/>
            <a:ext cx="633600" cy="317520"/>
          </a:xfrm>
          <a:prstGeom prst="pie">
            <a:avLst/>
          </a:prstGeom>
          <a:noFill/>
          <a:ln w="57240">
            <a:solidFill>
              <a:srgbClr val="e9081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89"/>
          <p:cNvSpPr/>
          <p:nvPr/>
        </p:nvSpPr>
        <p:spPr>
          <a:xfrm>
            <a:off x="4102200" y="4511520"/>
            <a:ext cx="9842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le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m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90"/>
          <p:cNvSpPr/>
          <p:nvPr/>
        </p:nvSpPr>
        <p:spPr>
          <a:xfrm flipH="1" flipV="1">
            <a:off x="3636720" y="4276800"/>
            <a:ext cx="425160" cy="450720"/>
          </a:xfrm>
          <a:prstGeom prst="line">
            <a:avLst/>
          </a:prstGeom>
          <a:ln w="57240">
            <a:solidFill>
              <a:srgbClr val="e9081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Arc 79"/>
          <p:cNvSpPr/>
          <p:nvPr/>
        </p:nvSpPr>
        <p:spPr>
          <a:xfrm rot="2911800">
            <a:off x="3080160" y="3731400"/>
            <a:ext cx="344520" cy="381240"/>
          </a:xfrm>
          <a:prstGeom prst="pie">
            <a:avLst/>
          </a:prstGeom>
          <a:noFill/>
          <a:ln w="38160">
            <a:solidFill>
              <a:srgbClr val="46ec1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Arc 87"/>
          <p:cNvSpPr/>
          <p:nvPr/>
        </p:nvSpPr>
        <p:spPr>
          <a:xfrm rot="4287000">
            <a:off x="2469960" y="3402000"/>
            <a:ext cx="1287360" cy="249120"/>
          </a:xfrm>
          <a:prstGeom prst="pie">
            <a:avLst/>
          </a:prstGeom>
          <a:noFill/>
          <a:ln w="57240">
            <a:solidFill>
              <a:srgbClr val="e9081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91"/>
          <p:cNvSpPr/>
          <p:nvPr/>
        </p:nvSpPr>
        <p:spPr>
          <a:xfrm>
            <a:off x="1258920" y="3800520"/>
            <a:ext cx="130320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9900"/>
                </a:solidFill>
                <a:latin typeface="Arial"/>
              </a:rPr>
              <a:t>New Nor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Line 92"/>
          <p:cNvSpPr/>
          <p:nvPr/>
        </p:nvSpPr>
        <p:spPr>
          <a:xfrm>
            <a:off x="2706840" y="3727440"/>
            <a:ext cx="4510080" cy="1671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93"/>
          <p:cNvSpPr/>
          <p:nvPr/>
        </p:nvSpPr>
        <p:spPr>
          <a:xfrm>
            <a:off x="5927760" y="5425920"/>
            <a:ext cx="287640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GO:  not occulted, bu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low elevation lim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 visib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95"/>
          <p:cNvSpPr/>
          <p:nvPr/>
        </p:nvSpPr>
        <p:spPr>
          <a:xfrm>
            <a:off x="331920" y="1373040"/>
            <a:ext cx="874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Rectangle 96"/>
          <p:cNvSpPr/>
          <p:nvPr/>
        </p:nvSpPr>
        <p:spPr>
          <a:xfrm>
            <a:off x="1092240" y="29494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a109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97"/>
          <p:cNvSpPr/>
          <p:nvPr/>
        </p:nvSpPr>
        <p:spPr>
          <a:xfrm>
            <a:off x="2430000" y="4606920"/>
            <a:ext cx="42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a109"/>
                </a:solidFill>
                <a:latin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98"/>
          <p:cNvSpPr/>
          <p:nvPr/>
        </p:nvSpPr>
        <p:spPr>
          <a:xfrm>
            <a:off x="2976480" y="2241720"/>
            <a:ext cx="7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a109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eda109"/>
                </a:solidFill>
                <a:latin typeface="Arial"/>
              </a:rPr>
              <a:t>UP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</cp:lastModifiedBy>
  <dcterms:modified xsi:type="dcterms:W3CDTF">2016-08-26T16:37:30Z</dcterms:modified>
  <cp:revision>121</cp:revision>
  <dc:subject/>
  <dc:title>Time Conversion and Formats</dc:title>
</cp:coreProperties>
</file>