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CCBB-08BC-400E-9CCD-CF229DA84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B0A3-1E29-44D3-A739-5021B96AA4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D59EDD-045C-4580-A842-028381B456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EA58C3-93A9-4651-96D7-32434344817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6B3F3B-7DE4-40B4-8D66-9CA350628C0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090726-C31E-4437-A395-AF1CF37EB6B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FA7FFD-7BDA-42D4-99E6-9009F8AA034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A74F4-8BA4-4111-B341-AB7CB57769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0F4B3C-BE73-47A0-B55B-9935A275A4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4FA5B1-1631-4FCD-B1F1-A1A1985BBEA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60BD30-6159-44E8-B412-CE3D6D1A832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0636E-01D1-4BF8-B9A5-5BE20F0C0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54DF-044A-473F-9E5A-AA180915E6B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AAA33-7713-421A-A9B4-3A63A2EC3D5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73EF4-A7BF-4250-BE9C-F63C944949D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8EF6D-301D-443B-9507-4E4AC26711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B884C-A0B0-47A5-8849-93A6889CBBC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E198-19E9-43CE-9CCD-BD12C96AFD9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207EF-0277-4E37-BA9E-16B11C43F2A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433AE-5F73-4B3D-9852-8080B581FD9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73DBA-30F3-4F6D-8118-547392A50D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C3148-C889-46E8-828B-8C3E08F3F86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48750-4FAE-4877-B969-58A87FC46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0602-1EF0-4BB5-8DEE-3E82CA9D343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CDC42-3948-47EB-9495-285E90BE82C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25D58-8FFB-489D-BE0E-FD0B78B11E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01E16-9C4B-48A1-82EA-3D4FE9546BC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2BDB5-7CA1-4D4A-9FF3-7E844EE7F8E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003D0-2CDA-49A3-AF6D-E6A33D4495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6832F-EBC3-4DF2-866B-72DCB70201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C50B5-D2A6-4453-86ED-32FFAE5A73C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E1D4F-212E-4E96-B0C5-63F9E77D6AF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4DA506-B38C-427B-B0BD-A29EE86678A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1F299-039A-4A78-9770-9AB0ED34A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0ABBA-FE49-47B8-984D-97D1E4B2BF8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ECFF2-FD11-4583-BC77-1311BE412A2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2C83F-A60C-4918-873E-A1346A7B25D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6AC974-22D8-4638-A384-F48F11ECF71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1217BB-E7B1-47CB-90F6-833E91618F8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4BBCF2-782A-4553-8B8B-320DB894241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D8F8DC-AD3A-427E-8E6B-40568CAE643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82217F-9BD5-4A62-99D2-98C39DE00ED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D66FE6-94AF-4B58-82BB-FF484E13CE0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47C7CD-455D-4038-B5CC-50054E52CB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0A64CB-C5E8-4F36-860A-B661FEEBE6B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9BAC1F-3F11-45CC-8707-D508880AC1C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95F290-C88C-4370-8362-B87329CD772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094734-F8FB-4F5B-83D5-A8FC6DB3277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B20AA0-93E7-495A-B9D4-7C9E30921A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3FA68-B959-448B-B186-50EDF715D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3E9B1-2560-4C79-8A1D-657813F4AE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822A4-F421-4ED3-96D4-477B85F0DE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627FE-2F2E-4028-9131-BD4304EF66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7BDD9-9731-41D2-B1F4-6141565CF0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FEF4C-0133-420F-B02B-CE7BA3C7D3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2336-D110-46CE-A3F9-39C0DD48EF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F4929-286A-4D95-B8F9-69A42B3225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E4C06-F44F-42E8-9AA0-2D4223CC69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5CB40-83C9-465B-9570-3443A2CD94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0D625-9151-400D-8353-A206AF6193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9BB38-97AB-4B90-9E26-7578FA0309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582E5-BB55-4DC6-9098-BFA7500E3F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92AC5-95BA-4E18-BE7E-35CC1BAFA7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8199-592B-4F2F-BBA5-F0E3E27F00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CC18-4DB7-4C9D-A0D8-79AC83245F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5039-B516-42B1-BD0F-9BF30FDC8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ED5E-0978-40B3-9585-07174AA04F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3FBE-C954-4B3D-BEEC-2BE2892DFC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4D1D-012A-4FED-988E-4D94E053B9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5984-100C-4083-93E6-CA3F5C1E82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C671-511B-4AEA-AEAC-3AA2F91256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33EC-B499-4008-BA35-8F62D15518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F9CE-D765-4061-BB6E-1A11250127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3DB4-D15D-40EC-8329-ABD719A6EC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D430-30BF-462D-AA86-0BC8D2F597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2B07-E105-4910-BC69-30A79D4DBA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51799-5AED-45DE-99FE-FA14A4EC1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F3EC-E2A1-494E-92E6-921E8BBFD3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4A41E-79AB-49BD-881E-3158271C3E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D7E19-E849-4CCE-AC93-E629FBF1716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0B146-7B2A-41A9-8DF4-F85A6C78FC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A5123-774F-4509-A77B-2C6B0EC2CD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EE785-BF98-48F5-8CD9-4204F030FB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DFD6E-2E0F-4671-A1EA-3AF277359C3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B6203-35F9-4769-B683-FD5EC88035B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8D649-9849-4D7F-B9FF-085A8057EA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8B423-C5A4-4A24-9504-284AC49B80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A05BC-2F5E-407E-9A68-3874A3C57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2841-3BF2-4908-9BEB-7A6A318F51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C19DB-3BB0-4E3F-9EDD-A5DFD170EA4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F9CEEB-AA74-49D1-8526-130A2CA068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5BDB1-6BAF-4B0D-B62F-F1F0C7F4B78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F98C6-36DB-4792-9FFF-2E7877F6CC9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7ACE64-77DA-4EC7-8D57-6009C13ED95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970A1-5202-4048-9C89-173C8C4060E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52471-15F7-4D8F-9127-C3CA96BB25D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A519E-29E4-4E09-B249-3451A34873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F54A6-20FD-4633-9F59-F6D929CA86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24B035-27B9-4BC5-8D4C-BDEFB6BE7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40D8-26AC-4DE1-9864-960785E439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4C610-B220-4565-91ED-C95E0940ED4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3915A7-B1B5-4644-872F-62D11780DF3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02ABB-5F43-4282-B47F-E4A1363DA9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18DC-C9FF-4496-A5A4-60DAE70201A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9030-6FBA-499D-A153-9E2520A518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0A63A-2968-4313-9D00-0063A0B538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75E5-3EA1-4A2E-8F49-98FA658F29D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7BE3A-7F82-4B04-A673-D4C97102EEE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E6970-6DB7-4006-8720-CEEC626E9A3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774E-C7B9-4486-BAB8-9865B303C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C885-9912-43C0-B1CD-43C49F68D68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D3AD2-FA13-4AD5-9B97-26F8D73E05C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EE7DC-FEB2-41E3-8BB3-755E173E3A2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EEBEB-76CC-4EAD-AEB2-5DF7836610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B6502-D9AE-4F4B-9F96-D7730F0803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3F1B2-04B5-4319-8DCC-24A661D20C1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A4009-59D6-468E-81DC-9872A1CD76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DB109-7BE7-414B-AE70-27E3EB0EA77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A37B0-A61F-4FFE-BD4E-1130E3D5C3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90A87-EF93-49D3-8627-CDD0C0BD353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C0780-E057-40BE-BAAC-ABD8681B5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C053-D862-4161-BD2E-D3D9A17198D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14D9E-CC82-4841-8DD9-6641A44A6BB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3A4EA-B42F-473F-94A1-A25B881894A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CA6AE-EBE6-4229-A909-F0AEADC115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B211B-F99F-4C7B-95A1-3E9F667BFE3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C08C3-EA47-4334-B033-E89527CE84B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5704A-EE6D-465A-8BDC-44DCB7AD30B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5425A-0B92-4C00-92ED-72DB3256FC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367311-4A7A-47D3-9F37-A70C77B5E50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D80974-260E-4D40-97F2-84D1A91F04E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D33B9D-CCFD-4A8B-97F1-49E483739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29EC-7B98-41D5-8005-61B6A60DC12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DC13-4072-4CFE-A99B-635B4993EE1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6E34-0DFC-4CCF-9D62-8991447FAB7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D747-7F80-41CE-B6C9-D6B8E0A28A5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ADD2-AAAD-43BC-ADC6-5643B01CAF1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0B6A-F087-4A17-AA6B-1EBDC353D0C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5DAD-52C8-4EC1-9EE9-029D1D7960A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22DF-C07B-44DE-B17B-8EF86E1E948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E538-1C45-4E48-86C6-FA37D3BB46A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11DA-5D72-4B19-8839-892EC775309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08DC-43D0-43D4-8B64-2AE3BF4DBE4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7783-4B26-45CB-87D1-F7F9BC3BB8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ExoMars-16 Trace Gas Orbiter (TGO) is visible from ESA’s New Norcia station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0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4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New Norcia station must have elevation of at least 6 degrees in the station’s topocentric reference frame NEW_NORCIA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New Nor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379E-A547-41BA-BD73-5A4BFEFB7A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Oval 69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31c6b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0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2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3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4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5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6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78"/>
          <p:cNvSpPr/>
          <p:nvPr/>
        </p:nvSpPr>
        <p:spPr>
          <a:xfrm rot="2415600">
            <a:off x="3176280" y="3588840"/>
            <a:ext cx="549360" cy="53028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_NORCIA_T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1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1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88"/>
          <p:cNvSpPr/>
          <p:nvPr/>
        </p:nvSpPr>
        <p:spPr>
          <a:xfrm rot="2545800">
            <a:off x="3041280" y="3740040"/>
            <a:ext cx="633600" cy="3175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9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0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rc 79"/>
          <p:cNvSpPr/>
          <p:nvPr/>
        </p:nvSpPr>
        <p:spPr>
          <a:xfrm rot="2911800">
            <a:off x="3080160" y="3731400"/>
            <a:ext cx="344520" cy="38124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rc 87"/>
          <p:cNvSpPr/>
          <p:nvPr/>
        </p:nvSpPr>
        <p:spPr>
          <a:xfrm rot="4287000">
            <a:off x="2469960" y="3402000"/>
            <a:ext cx="1287360" cy="2491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1"/>
          <p:cNvSpPr/>
          <p:nvPr/>
        </p:nvSpPr>
        <p:spPr>
          <a:xfrm>
            <a:off x="1258920" y="3800520"/>
            <a:ext cx="1303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ew No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2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3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  not occult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5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8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</cp:lastModifiedBy>
  <dcterms:modified xsi:type="dcterms:W3CDTF">2016-08-26T16:37:30Z</dcterms:modified>
  <cp:revision>121</cp:revision>
  <dc:subject/>
  <dc:title>Time Conversion and Formats</dc:title>
</cp:coreProperties>
</file>