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2CC4-E084-458A-B4D1-CAECDC1A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B5B9-3E4C-4561-B81B-BA5FF74F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299F-6FC1-475D-8713-44156BCC7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ED07-C572-4F81-8E80-E579BF9DE36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EA104F-DCDC-4E5C-9FEA-E8CCBD31105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DF5F5-0D45-4B54-9B75-28FA69A9B3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98F95D-908D-4233-BFED-73F95A0B782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DFA04-74F8-446B-AFED-85F413B222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75AF9-C4CE-45C8-B30C-22EC0DAA88B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394AD-2063-4974-8FF2-BCD1F2E2BE8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EE066F-824A-42AD-BD78-A6A6371447D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4F9443-223C-4513-8A4E-198749E92E7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5C66FC-407D-4A43-95BA-477E0A2760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F973-C49C-4362-A96C-BC166AC8F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538AF-70EA-46A5-A8C6-F20D39131F5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BDFA-8A8F-4512-B0EA-DECEF4EEC6A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CBE9D-84CF-43D0-BA61-A67B61DF3C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3005-9501-420F-9D1F-5566093490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F3FD3-C90E-4DC1-942F-DAA18D19E8B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BB11-DDC2-4621-99BD-5E48725A4E7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87FB2-C350-469F-A143-E59DEA0D2EA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4454C-8CDB-419E-A8B4-57E87858678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25C10-11A4-4703-BA24-D7DCBB6FB02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C0042-B59E-40AF-A7C6-FE84D29D69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54F27-32DD-4DB2-9179-93A088DA5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68F89-FE0C-4137-9BFD-75E134E83AC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F518F-8C56-4597-B683-ED1C62E509D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F76A2-79FD-4053-BA81-084C8FFE63C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D9D8EF-78FC-4A8E-A4C2-366FE2E7983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B7288-32D1-4B86-BCBF-28CB1EDC41A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38BF8-8BE4-4537-A20E-597F230DA9F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2087F5-2D3F-43E6-B3B1-008C38F763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029A9-2103-411D-8797-262D1A758D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9C907A-9792-4B26-83E7-C0E767D329C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D8191B-E95E-4288-8350-C8B12CC761F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A7C40-7DCA-47CD-A277-692904E80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6AB669-F035-4F56-BD3B-58495058624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DCB45F-041E-48CD-A2DB-C2BFD66977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96BC7B-CC30-438C-8636-E633EFE6273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D9F9AB-90B1-4730-8B92-0033AE05369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F80E7-855D-4194-A776-1BEA2806534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8D46FC-7E7B-4FCF-BB41-500DA7D8223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A665B2-5B70-4D2A-A474-8ECDA1DFD3A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BD3DD4-F228-4413-BE3F-8220277BE99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95E0EF-CDD5-4702-B4BA-8EA4EAEA207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40C6C8-CA25-4AA9-BDDF-432E866A7B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26560E-A23A-4C23-8F27-C45092C99B2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A075AE-1F40-441A-8202-B47D6C75B45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13270BC-114E-4102-B342-0C41255B6CB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6E4A2B-348E-467E-99B3-FFDE4B531B1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1C8EA6-A14A-4721-8830-290C68EBBE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FA638-AAC2-4C19-80EA-0E29D79B6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C7612-1D0C-4CE2-A2BF-D9CF9196ED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1A62B-2C79-4277-B66B-0D90B05AA2D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0BC97-91B9-440A-BD9C-F5C0CDAD29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5B29B1-39E5-4701-8F07-983E2EF05D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A40AB-9D49-4822-875B-52311E9B72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FD80-5E41-4AF8-A0AC-2324B14C8A1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AB58E-190A-429F-B862-40A0869513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EACEB-40E3-4574-8375-FBAC2A86C7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E0F2F-3324-45DA-AF40-330CB1CA6CF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6DF91-DE50-4AFA-87CC-D00B886D55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47C7C-51E2-4F25-B2A8-89C20C4A27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40385-C671-4180-A07F-4252873E0B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A3204-49C1-404B-B286-83F82F8A55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661A-1F5F-4899-B212-ABAED13B57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993B-AF46-4ACC-8C22-F6F6DD6125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66F6-0118-4738-BBD9-224100ED6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DA892-6744-418D-AE28-950499C764C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CD3-27B8-4677-BE6A-3801D6A8E9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477B-B446-4386-B9A0-0AD8DE185C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4D0C-64AD-448B-A2B6-8490DFBE872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3F84-4577-4902-ABC8-0314662E8DE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C90B-294F-4F3B-842B-5591AA7DACA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C20-0A63-46FF-A2A8-11662715FB2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845F-12CE-45DD-BE9A-1FFD32C4733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7154-7FA2-40E3-BEB2-817066F9397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7ABA-4D49-4407-8912-F00A8C87DA4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25172-74C4-4343-A75E-7B96B829C6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B6D3-B264-451A-9ABC-F0541E5998A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6F40F-E269-4713-AF57-4CB5ECF9A0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32DFC-FB04-4F4B-9E25-4BC0A53F9C0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2B23EC-825C-4848-B50C-5F8FAEFB511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0615F-20C2-4E6C-AE8B-4D915DC72B4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E09E4B-7795-45E6-8190-4C24D88C16F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C0DB8-3F89-4658-BACC-315A8D4874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EBC45E-2EEF-4461-BE3F-CDD28CAD11D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9F9DF-09E4-46D4-9884-8BA3A04ED46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40BEC-B82F-4534-AA42-92D42AF1176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DA325-13D5-4E07-9BA6-A47EB6444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F3676-5A33-4846-B276-93DCBDA3686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4E42F-08CD-4B00-BD79-5DB30B444A1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A01A89-8C2B-465A-AB7D-DB03F61E259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97510D-CEEA-4ED2-8858-198CAEA8232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39FDB7-7582-4210-BD5A-168DAA07FDB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D0BB6D-7133-42A6-B8F9-814F6F88695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AB304-51D7-429A-82D1-1DEF6AE5277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A2918-88C2-42F0-BC6E-6C84B785A8C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E0972-9237-4FDE-8204-BAC956504C8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B7E37-F930-43BA-AFCC-6DAC0D02CB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71B1E2-2A76-40FF-875E-EBFC06A18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36039-7E6F-411D-BA66-E2C7DD0BD5B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42F2E-B348-477B-8B34-3AD1BE39995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9DC34B-3629-425A-87CC-0B0DCFA99A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B51181-B443-4222-871D-86F0E7C4780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A3CFC-0C13-4EDC-BADB-656488E7CE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F4796-5B6D-453C-A7D6-79B69065D84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63FC-466B-4660-9AD5-F3B0F9457F0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67438-E93D-4C6A-8175-FD6DCAA002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E2D9D-A4AC-46E2-951D-17728A2924A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83E5-4653-4466-8FE1-984CB559B2E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B67DD-D52F-4868-9542-171B5E98D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9179-1EB9-4FCF-A2F4-F1B349DA3A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781CF-CC6D-42E3-933C-D301B63CC97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DA5D0-B980-4B7F-855F-AE6B3FCF1F5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81331-1375-4641-BA74-F476E74476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911BC-AD78-427E-B779-6D0D3EA992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60FA-9A15-4C42-ABAB-5DB9E08BAA4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1DDD5-6317-4FE5-BD74-F2548AFB22C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7B555-55A2-477A-8D4B-128051EAF0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75EC18-6280-4707-AF63-DC9155AD9FE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2C2C1-1DAA-4172-95B2-FCAE36250C7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35BEC-3112-4B8E-812B-0342B9B19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AF60-8D20-4EA2-876E-6C4580F4FFE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68975-902C-4B40-AD6B-1C71FFAC3F6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E35B1-ECA7-4237-95AB-2A390C1F890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97B973-F386-4BF2-B5D3-2F6BC4E914B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D3515-17FF-41C4-BEEF-F31E07CF9C2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E0DEA-D40A-4F9B-A724-555CF2DC1B7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3E1EE-17F6-4C62-9980-65BB68B05D1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B0F805-035F-43CA-82A1-60213101FE3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41C75-BE6A-45C7-81ED-23EB1D81A52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33BB23-99F3-4850-9F50-86C5D5014B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EE6381-8B3B-4B14-9038-8ACE928E47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00DB-488D-478B-804D-C65916EC1E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8DFF-C113-4EA4-B869-EA6302A86B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6FF-9EC5-4C11-8F25-41248F13A0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537E-6234-43A7-A422-2B257D2DD4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EC9E-23EF-4300-9AD1-2E8A25B8D7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C744-8558-4D27-B77E-726AD43DD9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1377-ED48-449C-BF89-EE951B724C9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FDD8-F517-495E-9DA5-599B2B6D37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2D14-D72D-4133-B134-8D446A0C35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376C-FB4F-4140-A641-BEEFD5405CA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2017-BEB9-4F3A-BD08-34787CF02A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998280" y="2666520"/>
            <a:ext cx="7404120" cy="1430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Applications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February 20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A239-04FD-47EB-B1FB-BB3AD26A2FE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225520" y="380520"/>
            <a:ext cx="6405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actice Using Toolkit Programs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3320" y="1371240"/>
            <a:ext cx="8381880" cy="526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 using these application programs provided in the Toolkit by completing a series of simple assignments for each of th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KBRIE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summarizing contents of C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AC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utility program for converting and summarizing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utility program for accessing internal comments in SPICE binary kerne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XF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inary SPICE kernels to transfer for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B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transfer SPICE kernels to binary format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N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nverting between various time syste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 interactive cookbook program demonstrating use of routines computing stat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K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trajectories stored in two SPK fi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MDIF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command line utility program for comparing or sampling orientations of reference fram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51:38Z</cp:lastPrinted>
  <dcterms:modified xsi:type="dcterms:W3CDTF">2010-02-12T21:22:20Z</dcterms:modified>
  <cp:revision>74</cp:revision>
  <dc:subject/>
  <dc:title>Preview of Coming Attractions</dc:title>
</cp:coreProperties>
</file>