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26B0-9246-462F-8347-4BD618B0B6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1D28E-16AC-442C-945D-2971BC6A74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C17E2-29AD-462A-BE13-BCC1AA8CE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0C9D9-4576-4E82-AA00-A43823E72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329EE-BAA7-43F4-90D2-516F616962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BD70F-3FF7-46BB-B8AA-A2660568B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0D495-DA3E-4D32-97E7-8CBB766FE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D3630-A16A-4065-A74C-B8B2FFB33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79853-4155-4985-9EDE-01DCB9AF1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62A55-2B7A-41F6-92FA-11CF81A11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FC264-8432-4BE1-8032-EF5917DAA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2E77-8F50-4B26-974A-B3BF602570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3E049-5F55-46D4-9AB9-E1645EA0DD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9D8C-B99A-42B9-A661-3E6731C3CE5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2666520"/>
            <a:ext cx="7112160" cy="19083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Navigating Through the SPICE </a:t>
            </a:r>
            <a:br>
              <a:rPr sz="3600"/>
            </a:b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Components”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Hands-On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82104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What’s in the Toolkit?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e and exam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Toolkit director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ubdirectories under the main Toolkit direc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version.txt”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version”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op level SPICE HTML documentation ind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SPICE API Reference Guide” HTML index document and the API header HTML page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Most Used APIs” HTML document and the API header HTML page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Required Reading Documents’’ HTML index and the Required Reading document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User’s Guides” HTML index and the User’s Guide documents linked from 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“What's New in SPICE” HTML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ource code of a specific Toolkit rout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nswer a set of simple 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F5274-D72E-4995-91C7-AD5F14EF2F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7-05-04T23:14:51Z</cp:lastPrinted>
  <dcterms:modified xsi:type="dcterms:W3CDTF">2007-05-04T23:37:08Z</dcterms:modified>
  <cp:revision>68</cp:revision>
  <dc:subject/>
  <dc:title>Preview of Coming Attractions</dc:title>
</cp:coreProperties>
</file>