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EC7E-A4F4-4ABD-965E-ACB6062B9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31FE-717D-4799-8C17-107FAC23B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9A0CE-4E8E-43A2-8823-44298D888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7F59-E675-4DC1-B61E-3505E9670E6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9D801-8A0F-4E81-9C83-7BD0A0C83A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B49B37-AEF6-4424-9A77-9ED9897CF34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6A5F4-87FB-4A4A-A479-59C0FC9E27A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55702D-28C4-45CD-9609-0285505037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BEF23-B97F-434C-A324-89D3F4E11B6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CF3AB1-5147-4F8A-B37F-202DC5CB0E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349F1-3B40-428D-9CA2-D06B49788C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25247C-D3B4-47F3-82DF-12D2983AF51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B1A3E2-4574-4926-8963-ACDBA42469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A81C-5F1B-46C3-8886-E1655E6E0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21D9-8080-4692-A2B7-754AF2F98CF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BF947-F6CD-42C8-A8D3-CF5E1C6125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B0D6-FB33-480C-BA4A-8535A01DA5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7238C-D71F-4764-899D-B32955BC1D2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6B80F-0F94-444A-AAEC-91EA6B7868B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AD03E-EC2B-4B1E-9331-A5B98751456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C934A-9283-4EB7-9D7E-2E83AB00BB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447D1-096C-4F0E-9117-EFEBC676090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BDD2C-7B22-4C00-AB67-7C8523CEA41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29BAF-2F80-4B71-BC47-21DEFF092D2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D6A3-5FC2-49D5-889C-E2FE5FFEA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616A9-A255-4DAB-909A-D8993D56B0A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2FC56-523C-4A6A-BB22-9AA4BBCC04B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AC9F1-57B9-4B5C-B840-0CEAACC5DDB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7BFF51-D20F-4D13-B169-21B3EF4C4F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B86EE5-AA53-43AD-8A6A-2E2DEA66CEE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A2BDB-400B-4826-A750-6B69347EB5E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C8552-5E95-45D2-9CB8-C790394B98E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E558A2-1D7E-4755-B165-39698C0122A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498B0-811A-43ED-A9DD-74FC64B8B9C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8084A1-B678-46FD-80DA-EF73195BF18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C0E2D4-5A22-447B-8367-24FC78985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62692-A00F-4DEB-B341-BC736B1CC2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CBBFDF-2EC6-4940-B10C-C69D9E69523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79E63-FEB1-4257-A8EB-910416087F8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8F007A-D187-455B-A2F8-6B25C086BC1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397EB9-39A4-4B3E-A02A-78798B824D3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033F0B-8E22-49FC-AB6A-433DBEB12C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EEABFC-1948-45C5-AD8D-15AE66376BF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F4913D-8F03-42FD-84FE-87420C278A9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F6D13-BF2E-425D-9982-70518E48B6C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B218F4-6292-450C-B678-0D1FD78FC5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97C9D3-DB94-4739-B880-88A686B9179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B09B49-9145-4906-B708-150AD6A540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79F6A-9847-4E0A-8617-C0EEA39140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AA6277-2D74-48E3-BAF2-B8D0D12A5E6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BCCFD1-DD8A-4716-BD00-418E8FE71B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8C9B-8A3A-47EC-9E7B-B41C26FB3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AA7B7-8A86-4F63-B594-567435AECA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B97A1-CAC8-4718-A28A-A06BF8D152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ED387-B210-4876-B404-E09B6F09F4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0AEC3-C25C-46EB-BB57-B4DBDBA8A0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BF8D0-D52B-4CBA-9B2B-3628A976B8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9F4A-EEEB-4ABB-9EE4-ADF23AC159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4D6B0-245C-4B36-A5E7-B94132B0600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0C588-5DCD-4C40-BDEB-86E0B06E9F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ED81C-ABDB-4610-AE43-87F5D489D1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02707-A2DE-4598-ABBA-E9B560C9B3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A1886-5927-49BC-83B6-8FF0E6AB17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5FB23-9550-4874-A14B-48D7AEBE78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1CB61-54E5-47A8-8E3A-D9BBAE3D73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1707-6D13-4956-B706-DBEE5DAD16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63BA-FD0C-4235-8E9A-CB46D57CB6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1F00-83DF-4BE1-8A75-D35D19329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98FA3-71C5-47CD-8601-DE49DBC7A9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0558-AE83-4EE3-A308-380DC7803C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7995-B767-439A-B4DF-DC14B219291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1CD3-181C-473E-A976-4E95DD559B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E7B2-6369-45C5-8A54-AB24152038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C6A8-8F9D-44A1-A8C8-C88E198937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9783-F85F-4282-96F2-8951FEFC5E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CF1F-37BE-4698-B00B-0CC9107272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D1E8-6884-47EC-9B71-4D8FD1D99DE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37BA-83AF-494D-959D-8A1DA6B98E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920F5-3B17-4D71-9BD6-0F49DACC0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458B3-F6A6-4893-9C93-AE6AFCA8DA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6BDAA-C281-43E1-B271-C54278474E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C0257-EAFF-42CB-A826-11EFEBE61F1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327A6-3A53-4BB0-BF75-A79FBE7A682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77FD0-BC6A-422B-A01B-B34930A4F00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687FD-3EAF-4326-9876-860E9F4638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BFE4B-117F-41C3-B341-FCC2A6BC5C7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36DDB-39E4-4AE0-8FA5-5DF2D6B57A0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B2BAF-57D9-4311-B9DB-5131B98ACE9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3358D-2EDD-4D5A-B562-34796175CF4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BFDE2-6D59-43C0-828B-89F2E03EF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0568-4026-4DFE-B757-0D165E6922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9670E-B0C0-4AA8-9168-B3A3EA30B02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B02E0C-AAB9-454E-8DDC-ADEFD5C69B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2C539F-0E70-49D9-B556-FD12B0B506E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92ABAB-035A-4AA2-9017-0B00B69D8CA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D324FA-57E3-4BF5-88B5-5935986FE1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A92C7-0358-4C86-A03D-29628F3A2D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840BC-4A1A-4823-AFFE-C65F6B75C04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8E2EE-77CE-43CB-894F-0DCE903B04E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57936B-DEAB-4B91-87C7-02B102F245D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03DEF-8AAD-4E69-BDB2-9CE97676D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8E0E-ACED-4D33-A046-B35B65550EC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48348-C9AB-4BBD-95F6-8C7073D5973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B31C24-1167-499C-BA96-B844D8A2C1D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1B3C2-75BC-42D3-AF76-C99A2D9B4AB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0EEC1-A5EA-4368-8393-E1D3188241D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7C70-096D-40BF-8A4F-F37A77BBF0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05B1-EE75-4DA6-8474-EA1ECD332D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13853-0758-4F0D-869C-FEDC99C1C87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2B4B-34EA-45EA-8898-2423E49C26D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88871-28F4-439C-BC74-379C94E5ED0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8CF9-6FC6-476B-8619-11005A72D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7F51-2EF2-4CE7-89E7-3505DCEB644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6D70-14BD-4917-A92C-BCD0DC0B310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FF20-2836-44C1-A4AE-D72C4093C3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C9AE4-952C-48BD-9312-8F5070DB27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233C8-960E-4B9D-8B27-D3A9C4874AA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23FBA-5738-4FB4-86F0-2D365340CF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240E1-25C0-4F2F-8B1A-6B2E541C9B4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D2E6F-DD41-4869-B00C-4D64F5AE58D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AB74C-BA0C-4D5F-AD39-628BDE8B6E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08F8E-46BD-44FB-98AD-F245B622EE6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1C6E0-EE0F-46CC-A4CF-C38DD3F2B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BC25-F63C-4337-93A5-9AA6A24D329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FA84DD-FE29-4085-917C-1E75803C21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B608A-5F45-4DDA-8C96-0E5B489856D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CE11F-CFAD-4507-83F4-09285B6E87C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3AF81-9E67-4051-B651-E4F9F020D21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9AF7E-6CE6-4F37-9C59-4064E1D3D15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3D84D-408C-4387-99D5-A0B1A0750DE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411EC-C36E-4ACD-8C0C-150BD7EFE68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5B73EC-40DC-4679-BA50-CFB2D1F06D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DE6E9F-2127-4721-B3DA-0C8C876AAA0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E9DC89-88E6-4CFA-BDB3-6DA808AC7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BFC-6FE2-4858-9868-CD5C219348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8AB9-16D1-4B16-A789-E6FB0A4867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9A7E-DF18-4E01-BD66-CB68C74F18C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9469-5A3F-46B7-8A69-28F3FBDF87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B8AA-B85F-4B9E-A9BB-A8408A1757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C461-D56D-4108-BC6D-B1F3604406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5AEF-0E87-40CC-9780-3B7BBE091BD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2517-130D-4CC8-80E4-8C116E5911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0408-472F-40C5-BE8A-720C296C9B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ED9C-759F-4EBE-81FE-BC3FE7C625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8566-5CFD-4F80-AC53-5479F5B1A6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1729-ADEF-4F89-944A-F3F1B83A5FB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3225600" y="3123720"/>
            <a:ext cx="1674000" cy="927720"/>
            <a:chOff x="3225600" y="3123720"/>
            <a:chExt cx="1674000" cy="927720"/>
          </a:xfrm>
        </p:grpSpPr>
        <p:sp>
          <p:nvSpPr>
            <p:cNvPr id="694" name="Parallelogram 7"/>
            <p:cNvSpPr/>
            <p:nvPr/>
          </p:nvSpPr>
          <p:spPr>
            <a:xfrm rot="9700800">
              <a:off x="4118760" y="32796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Parallelogram 8"/>
            <p:cNvSpPr/>
            <p:nvPr/>
          </p:nvSpPr>
          <p:spPr>
            <a:xfrm rot="17591400">
              <a:off x="3810240" y="34077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Parallelogram 9"/>
            <p:cNvSpPr/>
            <p:nvPr/>
          </p:nvSpPr>
          <p:spPr>
            <a:xfrm rot="2221800">
              <a:off x="4066560" y="32065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Parallelogram 10"/>
            <p:cNvSpPr/>
            <p:nvPr/>
          </p:nvSpPr>
          <p:spPr>
            <a:xfrm rot="9717600">
              <a:off x="3992040" y="33861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3931920" y="3717720"/>
              <a:ext cx="417600" cy="333720"/>
              <a:chOff x="3931920" y="3717720"/>
              <a:chExt cx="417600" cy="333720"/>
            </a:xfrm>
          </p:grpSpPr>
          <p:sp>
            <p:nvSpPr>
              <p:cNvPr id="699" name="Isosceles Triangle 15"/>
              <p:cNvSpPr/>
              <p:nvPr/>
            </p:nvSpPr>
            <p:spPr>
              <a:xfrm rot="1825800">
                <a:off x="4006440" y="37965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6"/>
              <p:cNvSpPr/>
              <p:nvPr/>
            </p:nvSpPr>
            <p:spPr>
              <a:xfrm rot="6727800">
                <a:off x="4040640" y="37418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7"/>
              <p:cNvSpPr/>
              <p:nvPr/>
            </p:nvSpPr>
            <p:spPr>
              <a:xfrm rot="6727800">
                <a:off x="4097160" y="39207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18"/>
              <p:cNvSpPr/>
              <p:nvPr/>
            </p:nvSpPr>
            <p:spPr>
              <a:xfrm flipH="1">
                <a:off x="4115160" y="38390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19"/>
              <p:cNvSpPr/>
              <p:nvPr/>
            </p:nvSpPr>
            <p:spPr>
              <a:xfrm>
                <a:off x="3983400" y="39272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20"/>
              <p:cNvSpPr/>
              <p:nvPr/>
            </p:nvSpPr>
            <p:spPr>
              <a:xfrm flipH="1" flipV="1">
                <a:off x="4134960" y="39567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Straight Connector 12"/>
            <p:cNvSpPr/>
            <p:nvPr/>
          </p:nvSpPr>
          <p:spPr>
            <a:xfrm>
              <a:off x="4145400" y="37490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3"/>
            <p:cNvSpPr/>
            <p:nvPr/>
          </p:nvSpPr>
          <p:spPr>
            <a:xfrm flipV="1">
              <a:off x="4008600" y="35168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Parallelogram 14"/>
            <p:cNvSpPr/>
            <p:nvPr/>
          </p:nvSpPr>
          <p:spPr>
            <a:xfrm rot="9700800">
              <a:off x="3239640" y="35283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Group 21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09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oup 25" descr=""/>
          <p:cNvPicPr/>
          <p:nvPr/>
        </p:nvPicPr>
        <p:blipFill>
          <a:blip r:embed="rId2"/>
          <a:stretch/>
        </p:blipFill>
        <p:spPr>
          <a:xfrm>
            <a:off x="7596360" y="332892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29"/>
          <p:cNvSpPr/>
          <p:nvPr/>
        </p:nvSpPr>
        <p:spPr>
          <a:xfrm>
            <a:off x="1073160" y="160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0"/>
          <p:cNvSpPr/>
          <p:nvPr/>
        </p:nvSpPr>
        <p:spPr>
          <a:xfrm>
            <a:off x="3164040" y="3859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1"/>
          <p:cNvSpPr/>
          <p:nvPr/>
        </p:nvSpPr>
        <p:spPr>
          <a:xfrm>
            <a:off x="7931160" y="3130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3"/>
          <p:cNvSpPr/>
          <p:nvPr/>
        </p:nvSpPr>
        <p:spPr>
          <a:xfrm>
            <a:off x="5797440" y="5492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Obtaining Target States and Posi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traight Arrow Connector 35"/>
          <p:cNvCxnSpPr/>
          <p:nvPr/>
        </p:nvCxnSpPr>
        <p:spPr>
          <a:xfrm flipH="1">
            <a:off x="3164040" y="3445560"/>
            <a:ext cx="1033560" cy="2656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7" name="TextBox 37"/>
          <p:cNvSpPr/>
          <p:nvPr/>
        </p:nvSpPr>
        <p:spPr>
          <a:xfrm>
            <a:off x="3544920" y="48837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arth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Straight Arrow Connector 38"/>
          <p:cNvCxnSpPr/>
          <p:nvPr/>
        </p:nvCxnSpPr>
        <p:spPr>
          <a:xfrm flipH="1" flipV="1">
            <a:off x="2215440" y="2368080"/>
            <a:ext cx="1981800" cy="1078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9" name="TextBox 41"/>
          <p:cNvSpPr/>
          <p:nvPr/>
        </p:nvSpPr>
        <p:spPr>
          <a:xfrm>
            <a:off x="2521080" y="3112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4"/>
          <p:cNvCxnSpPr/>
          <p:nvPr/>
        </p:nvCxnSpPr>
        <p:spPr>
          <a:xfrm>
            <a:off x="2215800" y="2368080"/>
            <a:ext cx="5715720" cy="12963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21" name="TextBox 48"/>
          <p:cNvSpPr/>
          <p:nvPr/>
        </p:nvSpPr>
        <p:spPr>
          <a:xfrm>
            <a:off x="5340240" y="267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n as seen from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Group 36" descr=""/>
          <p:cNvPicPr/>
          <p:nvPr/>
        </p:nvPicPr>
        <p:blipFill>
          <a:blip r:embed="rId1"/>
          <a:stretch/>
        </p:blipFill>
        <p:spPr>
          <a:xfrm>
            <a:off x="1504800" y="189540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3340-A709-4505-A52B-249A36BC8254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6840" y="380520"/>
            <a:ext cx="589752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682800" y="3885480"/>
            <a:ext cx="1674000" cy="928080"/>
            <a:chOff x="3682800" y="3885480"/>
            <a:chExt cx="1674000" cy="928080"/>
          </a:xfrm>
        </p:grpSpPr>
        <p:sp>
          <p:nvSpPr>
            <p:cNvPr id="726" name="Parallelogram 7"/>
            <p:cNvSpPr/>
            <p:nvPr/>
          </p:nvSpPr>
          <p:spPr>
            <a:xfrm rot="9700800">
              <a:off x="4575960" y="404136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arallelogram 8"/>
            <p:cNvSpPr/>
            <p:nvPr/>
          </p:nvSpPr>
          <p:spPr>
            <a:xfrm rot="17591400">
              <a:off x="4267440" y="416952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arallelogram 9"/>
            <p:cNvSpPr/>
            <p:nvPr/>
          </p:nvSpPr>
          <p:spPr>
            <a:xfrm rot="2221800">
              <a:off x="4523760" y="396828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arallelogram 10"/>
            <p:cNvSpPr/>
            <p:nvPr/>
          </p:nvSpPr>
          <p:spPr>
            <a:xfrm rot="9717600">
              <a:off x="4449240" y="414756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24"/>
            <p:cNvGrpSpPr/>
            <p:nvPr/>
          </p:nvGrpSpPr>
          <p:grpSpPr>
            <a:xfrm>
              <a:off x="4389120" y="4479840"/>
              <a:ext cx="417600" cy="333720"/>
              <a:chOff x="4389120" y="4479840"/>
              <a:chExt cx="417600" cy="333720"/>
            </a:xfrm>
          </p:grpSpPr>
          <p:sp>
            <p:nvSpPr>
              <p:cNvPr id="731" name="Isosceles Triangle 15"/>
              <p:cNvSpPr/>
              <p:nvPr/>
            </p:nvSpPr>
            <p:spPr>
              <a:xfrm rot="1825800">
                <a:off x="4463640" y="455868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6"/>
              <p:cNvSpPr/>
              <p:nvPr/>
            </p:nvSpPr>
            <p:spPr>
              <a:xfrm rot="6727800">
                <a:off x="4497840" y="450396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"/>
              <p:cNvSpPr/>
              <p:nvPr/>
            </p:nvSpPr>
            <p:spPr>
              <a:xfrm rot="6727800">
                <a:off x="4554360" y="468288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Straight Connector 18"/>
              <p:cNvSpPr/>
              <p:nvPr/>
            </p:nvSpPr>
            <p:spPr>
              <a:xfrm flipH="1">
                <a:off x="4572360" y="460116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Straight Connector 19"/>
              <p:cNvSpPr/>
              <p:nvPr/>
            </p:nvSpPr>
            <p:spPr>
              <a:xfrm>
                <a:off x="4440600" y="468936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Straight Connector 20"/>
              <p:cNvSpPr/>
              <p:nvPr/>
            </p:nvSpPr>
            <p:spPr>
              <a:xfrm flipH="1" flipV="1">
                <a:off x="4592160" y="471888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Straight Connector 12"/>
            <p:cNvSpPr/>
            <p:nvPr/>
          </p:nvSpPr>
          <p:spPr>
            <a:xfrm>
              <a:off x="4602600" y="451116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Straight Connector 13"/>
            <p:cNvSpPr/>
            <p:nvPr/>
          </p:nvSpPr>
          <p:spPr>
            <a:xfrm flipV="1">
              <a:off x="4465800" y="427860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arallelogram 14"/>
            <p:cNvSpPr/>
            <p:nvPr/>
          </p:nvSpPr>
          <p:spPr>
            <a:xfrm rot="9700800">
              <a:off x="3696840" y="429012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Group 25" descr=""/>
          <p:cNvPicPr/>
          <p:nvPr/>
        </p:nvPicPr>
        <p:blipFill>
          <a:blip r:embed="rId2"/>
          <a:stretch/>
        </p:blipFill>
        <p:spPr>
          <a:xfrm>
            <a:off x="7596360" y="500544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9"/>
          <p:cNvSpPr/>
          <p:nvPr/>
        </p:nvSpPr>
        <p:spPr>
          <a:xfrm>
            <a:off x="1073160" y="1911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3621240" y="4621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1"/>
          <p:cNvSpPr/>
          <p:nvPr/>
        </p:nvSpPr>
        <p:spPr>
          <a:xfrm>
            <a:off x="7931160" y="480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3"/>
          <p:cNvSpPr/>
          <p:nvPr/>
        </p:nvSpPr>
        <p:spPr>
          <a:xfrm>
            <a:off x="6635880" y="2063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Spacecraft Orientation and Reference Fram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Straight Arrow Connector 38"/>
          <p:cNvCxnSpPr/>
          <p:nvPr/>
        </p:nvCxnSpPr>
        <p:spPr>
          <a:xfrm flipH="1" flipV="1">
            <a:off x="2292120" y="2673000"/>
            <a:ext cx="2381760" cy="1381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48" name="TextBox 41"/>
          <p:cNvSpPr/>
          <p:nvPr/>
        </p:nvSpPr>
        <p:spPr>
          <a:xfrm>
            <a:off x="2825640" y="3588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43"/>
          <p:cNvCxnSpPr/>
          <p:nvPr/>
        </p:nvCxnSpPr>
        <p:spPr>
          <a:xfrm flipH="1" flipV="1">
            <a:off x="2063160" y="168228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0" name="Straight Arrow Connector 45"/>
          <p:cNvCxnSpPr/>
          <p:nvPr/>
        </p:nvCxnSpPr>
        <p:spPr>
          <a:xfrm>
            <a:off x="2292480" y="267336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1" name="Straight Arrow Connector 49"/>
          <p:cNvCxnSpPr/>
          <p:nvPr/>
        </p:nvCxnSpPr>
        <p:spPr>
          <a:xfrm flipH="1">
            <a:off x="1878840" y="267300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52" name="TextBox 58"/>
          <p:cNvSpPr/>
          <p:nvPr/>
        </p:nvSpPr>
        <p:spPr>
          <a:xfrm>
            <a:off x="2139840" y="16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62"/>
          <p:cNvCxnSpPr/>
          <p:nvPr/>
        </p:nvCxnSpPr>
        <p:spPr>
          <a:xfrm>
            <a:off x="4697280" y="4049640"/>
            <a:ext cx="6105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4" name="Straight Arrow Connector 64"/>
          <p:cNvCxnSpPr/>
          <p:nvPr/>
        </p:nvCxnSpPr>
        <p:spPr>
          <a:xfrm flipV="1">
            <a:off x="4700160" y="3752280"/>
            <a:ext cx="842040" cy="286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5" name="Straight Arrow Connector 71"/>
          <p:cNvCxnSpPr/>
          <p:nvPr/>
        </p:nvCxnSpPr>
        <p:spPr>
          <a:xfrm flipV="1">
            <a:off x="4697280" y="3206160"/>
            <a:ext cx="339120" cy="843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6" name="Straight Arrow Connector 74"/>
          <p:cNvCxnSpPr/>
          <p:nvPr/>
        </p:nvCxnSpPr>
        <p:spPr>
          <a:xfrm flipH="1" flipV="1">
            <a:off x="3282120" y="2977920"/>
            <a:ext cx="1415160" cy="10720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57" name="TextBox 76"/>
          <p:cNvSpPr/>
          <p:nvPr/>
        </p:nvSpPr>
        <p:spPr>
          <a:xfrm>
            <a:off x="4883040" y="35114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TGO_SPACE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7"/>
          <p:cNvSpPr/>
          <p:nvPr/>
        </p:nvSpPr>
        <p:spPr>
          <a:xfrm>
            <a:off x="3664080" y="31312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minal instrument view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9"/>
          <p:cNvSpPr/>
          <p:nvPr/>
        </p:nvSpPr>
        <p:spPr>
          <a:xfrm>
            <a:off x="3435480" y="3282840"/>
            <a:ext cx="228600" cy="76320"/>
          </a:xfrm>
          <a:prstGeom prst="pie">
            <a:avLst/>
          </a:pr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2"/>
          <p:cNvSpPr/>
          <p:nvPr/>
        </p:nvSpPr>
        <p:spPr>
          <a:xfrm>
            <a:off x="3206880" y="297828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3"/>
          <p:cNvSpPr/>
          <p:nvPr/>
        </p:nvSpPr>
        <p:spPr>
          <a:xfrm>
            <a:off x="615960" y="4730760"/>
            <a:ext cx="213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: </a:t>
            </a:r>
            <a:r>
              <a:rPr b="0" lang="en-US" sz="1000" spc="-1" strike="noStrike">
                <a:solidFill>
                  <a:srgbClr val="fc0128"/>
                </a:solidFill>
                <a:latin typeface="Lucida Grande"/>
              </a:rPr>
              <a:t>Angular separation between nominal instrument direction and direction to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Group 36" descr=""/>
          <p:cNvPicPr/>
          <p:nvPr/>
        </p:nvPicPr>
        <p:blipFill>
          <a:blip r:embed="rId1"/>
          <a:stretch/>
        </p:blipFill>
        <p:spPr>
          <a:xfrm>
            <a:off x="1504800" y="1974960"/>
            <a:ext cx="1549440" cy="162216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3EB1-F5EA-4452-A6F6-AFFAC7B8E1A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33520" y="380520"/>
            <a:ext cx="610416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3682800" y="3961800"/>
            <a:ext cx="1674000" cy="928080"/>
            <a:chOff x="3682800" y="3961800"/>
            <a:chExt cx="1674000" cy="928080"/>
          </a:xfrm>
        </p:grpSpPr>
        <p:sp>
          <p:nvSpPr>
            <p:cNvPr id="766" name="Parallelogram 7"/>
            <p:cNvSpPr/>
            <p:nvPr/>
          </p:nvSpPr>
          <p:spPr>
            <a:xfrm rot="9700800">
              <a:off x="4575960" y="411768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Parallelogram 8"/>
            <p:cNvSpPr/>
            <p:nvPr/>
          </p:nvSpPr>
          <p:spPr>
            <a:xfrm rot="17591400">
              <a:off x="4267440" y="424584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Parallelogram 9"/>
            <p:cNvSpPr/>
            <p:nvPr/>
          </p:nvSpPr>
          <p:spPr>
            <a:xfrm rot="2221800">
              <a:off x="4523760" y="404460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Parallelogram 10"/>
            <p:cNvSpPr/>
            <p:nvPr/>
          </p:nvSpPr>
          <p:spPr>
            <a:xfrm rot="9717600">
              <a:off x="4449240" y="422388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24"/>
            <p:cNvGrpSpPr/>
            <p:nvPr/>
          </p:nvGrpSpPr>
          <p:grpSpPr>
            <a:xfrm>
              <a:off x="4389120" y="4556160"/>
              <a:ext cx="417600" cy="333720"/>
              <a:chOff x="4389120" y="4556160"/>
              <a:chExt cx="417600" cy="333720"/>
            </a:xfrm>
          </p:grpSpPr>
          <p:sp>
            <p:nvSpPr>
              <p:cNvPr id="771" name="Isosceles Triangle 15"/>
              <p:cNvSpPr/>
              <p:nvPr/>
            </p:nvSpPr>
            <p:spPr>
              <a:xfrm rot="1825800">
                <a:off x="4463640" y="463500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16"/>
              <p:cNvSpPr/>
              <p:nvPr/>
            </p:nvSpPr>
            <p:spPr>
              <a:xfrm rot="6727800">
                <a:off x="4497840" y="458028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7"/>
              <p:cNvSpPr/>
              <p:nvPr/>
            </p:nvSpPr>
            <p:spPr>
              <a:xfrm rot="6727800">
                <a:off x="4554360" y="475920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Straight Connector 18"/>
              <p:cNvSpPr/>
              <p:nvPr/>
            </p:nvSpPr>
            <p:spPr>
              <a:xfrm flipH="1">
                <a:off x="4572360" y="467748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9"/>
              <p:cNvSpPr/>
              <p:nvPr/>
            </p:nvSpPr>
            <p:spPr>
              <a:xfrm>
                <a:off x="4440600" y="476568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20"/>
              <p:cNvSpPr/>
              <p:nvPr/>
            </p:nvSpPr>
            <p:spPr>
              <a:xfrm flipH="1" flipV="1">
                <a:off x="4592160" y="479520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Straight Connector 12"/>
            <p:cNvSpPr/>
            <p:nvPr/>
          </p:nvSpPr>
          <p:spPr>
            <a:xfrm>
              <a:off x="4602600" y="458748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3"/>
            <p:cNvSpPr/>
            <p:nvPr/>
          </p:nvSpPr>
          <p:spPr>
            <a:xfrm flipV="1">
              <a:off x="4465800" y="435492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Parallelogram 14"/>
            <p:cNvSpPr/>
            <p:nvPr/>
          </p:nvSpPr>
          <p:spPr>
            <a:xfrm rot="9700800">
              <a:off x="3696840" y="436644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Group 25" descr=""/>
          <p:cNvPicPr/>
          <p:nvPr/>
        </p:nvPicPr>
        <p:blipFill>
          <a:blip r:embed="rId2"/>
          <a:stretch/>
        </p:blipFill>
        <p:spPr>
          <a:xfrm>
            <a:off x="7523280" y="2798640"/>
            <a:ext cx="663480" cy="6638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9"/>
          <p:cNvSpPr/>
          <p:nvPr/>
        </p:nvSpPr>
        <p:spPr>
          <a:xfrm>
            <a:off x="1073160" y="1987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0"/>
          <p:cNvSpPr/>
          <p:nvPr/>
        </p:nvSpPr>
        <p:spPr>
          <a:xfrm>
            <a:off x="3621240" y="4697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1"/>
          <p:cNvSpPr/>
          <p:nvPr/>
        </p:nvSpPr>
        <p:spPr>
          <a:xfrm>
            <a:off x="7854840" y="259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Computing Sub-spacecraft and Sub-solar Po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Arrow Connector 38"/>
          <p:cNvCxnSpPr/>
          <p:nvPr/>
        </p:nvCxnSpPr>
        <p:spPr>
          <a:xfrm flipH="1" flipV="1">
            <a:off x="2596680" y="3053880"/>
            <a:ext cx="2057760" cy="123120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88" name="TextBox 41"/>
          <p:cNvSpPr/>
          <p:nvPr/>
        </p:nvSpPr>
        <p:spPr>
          <a:xfrm>
            <a:off x="1682640" y="361692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pacecraft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43"/>
          <p:cNvCxnSpPr/>
          <p:nvPr/>
        </p:nvCxnSpPr>
        <p:spPr>
          <a:xfrm flipH="1" flipV="1">
            <a:off x="2063160" y="175860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2292480" y="274932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1" name="Straight Arrow Connector 49"/>
          <p:cNvCxnSpPr/>
          <p:nvPr/>
        </p:nvCxnSpPr>
        <p:spPr>
          <a:xfrm flipH="1">
            <a:off x="1878840" y="274932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92" name="TextBox 58"/>
          <p:cNvSpPr/>
          <p:nvPr/>
        </p:nvSpPr>
        <p:spPr>
          <a:xfrm>
            <a:off x="2139840" y="168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48"/>
          <p:cNvCxnSpPr/>
          <p:nvPr/>
        </p:nvCxnSpPr>
        <p:spPr>
          <a:xfrm flipH="1" flipV="1">
            <a:off x="2901960" y="2901240"/>
            <a:ext cx="4953240" cy="2293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4" name="Straight Arrow Connector 52"/>
          <p:cNvCxnSpPr/>
          <p:nvPr/>
        </p:nvCxnSpPr>
        <p:spPr>
          <a:xfrm>
            <a:off x="2292480" y="2749680"/>
            <a:ext cx="305280" cy="3052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cxnSp>
        <p:nvCxnSpPr>
          <p:cNvPr id="795" name="Straight Arrow Connector 55"/>
          <p:cNvCxnSpPr/>
          <p:nvPr/>
        </p:nvCxnSpPr>
        <p:spPr>
          <a:xfrm>
            <a:off x="2292120" y="2749320"/>
            <a:ext cx="610200" cy="154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796" name="TextBox 59"/>
          <p:cNvSpPr/>
          <p:nvPr/>
        </p:nvSpPr>
        <p:spPr>
          <a:xfrm>
            <a:off x="3054240" y="25218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olar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36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C628-52C7-4D5D-9C6A-C76137C10BD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48000" y="380520"/>
            <a:ext cx="587520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00" name="Group 6"/>
          <p:cNvGrpSpPr/>
          <p:nvPr/>
        </p:nvGrpSpPr>
        <p:grpSpPr>
          <a:xfrm>
            <a:off x="3682800" y="3809520"/>
            <a:ext cx="1674000" cy="927720"/>
            <a:chOff x="3682800" y="3809520"/>
            <a:chExt cx="1674000" cy="927720"/>
          </a:xfrm>
        </p:grpSpPr>
        <p:sp>
          <p:nvSpPr>
            <p:cNvPr id="801" name="Parallelogram 7"/>
            <p:cNvSpPr/>
            <p:nvPr/>
          </p:nvSpPr>
          <p:spPr>
            <a:xfrm rot="9700800">
              <a:off x="4575960" y="39654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Parallelogram 8"/>
            <p:cNvSpPr/>
            <p:nvPr/>
          </p:nvSpPr>
          <p:spPr>
            <a:xfrm rot="17591400">
              <a:off x="4267440" y="40935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Parallelogram 9"/>
            <p:cNvSpPr/>
            <p:nvPr/>
          </p:nvSpPr>
          <p:spPr>
            <a:xfrm rot="2221800">
              <a:off x="4523760" y="38923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Parallelogram 10"/>
            <p:cNvSpPr/>
            <p:nvPr/>
          </p:nvSpPr>
          <p:spPr>
            <a:xfrm rot="9717600">
              <a:off x="4449240" y="40719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4389120" y="4403520"/>
              <a:ext cx="417600" cy="333720"/>
              <a:chOff x="4389120" y="4403520"/>
              <a:chExt cx="417600" cy="333720"/>
            </a:xfrm>
          </p:grpSpPr>
          <p:sp>
            <p:nvSpPr>
              <p:cNvPr id="806" name="Isosceles Triangle 15"/>
              <p:cNvSpPr/>
              <p:nvPr/>
            </p:nvSpPr>
            <p:spPr>
              <a:xfrm rot="1825800">
                <a:off x="4463640" y="44823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16"/>
              <p:cNvSpPr/>
              <p:nvPr/>
            </p:nvSpPr>
            <p:spPr>
              <a:xfrm rot="6727800">
                <a:off x="4497840" y="44276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17"/>
              <p:cNvSpPr/>
              <p:nvPr/>
            </p:nvSpPr>
            <p:spPr>
              <a:xfrm rot="6727800">
                <a:off x="4554360" y="46065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Straight Connector 18"/>
              <p:cNvSpPr/>
              <p:nvPr/>
            </p:nvSpPr>
            <p:spPr>
              <a:xfrm flipH="1">
                <a:off x="4572360" y="45248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Straight Connector 19"/>
              <p:cNvSpPr/>
              <p:nvPr/>
            </p:nvSpPr>
            <p:spPr>
              <a:xfrm>
                <a:off x="4440600" y="46130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Straight Connector 20"/>
              <p:cNvSpPr/>
              <p:nvPr/>
            </p:nvSpPr>
            <p:spPr>
              <a:xfrm flipH="1" flipV="1">
                <a:off x="4592160" y="46425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Straight Connector 12"/>
            <p:cNvSpPr/>
            <p:nvPr/>
          </p:nvSpPr>
          <p:spPr>
            <a:xfrm>
              <a:off x="4602600" y="44348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traight Connector 13"/>
            <p:cNvSpPr/>
            <p:nvPr/>
          </p:nvSpPr>
          <p:spPr>
            <a:xfrm flipV="1">
              <a:off x="4465800" y="42026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Parallelogram 14"/>
            <p:cNvSpPr/>
            <p:nvPr/>
          </p:nvSpPr>
          <p:spPr>
            <a:xfrm rot="9700800">
              <a:off x="3696840" y="42141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25" descr=""/>
          <p:cNvPicPr/>
          <p:nvPr/>
        </p:nvPicPr>
        <p:blipFill>
          <a:blip r:embed="rId2"/>
          <a:stretch/>
        </p:blipFill>
        <p:spPr>
          <a:xfrm>
            <a:off x="7523280" y="2646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817" name="TextBox 29"/>
          <p:cNvSpPr/>
          <p:nvPr/>
        </p:nvSpPr>
        <p:spPr>
          <a:xfrm>
            <a:off x="1073160" y="183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0"/>
          <p:cNvSpPr/>
          <p:nvPr/>
        </p:nvSpPr>
        <p:spPr>
          <a:xfrm>
            <a:off x="3621240" y="454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1"/>
          <p:cNvSpPr/>
          <p:nvPr/>
        </p:nvSpPr>
        <p:spPr>
          <a:xfrm>
            <a:off x="7854840" y="2444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Intersecting Vectors with a Triaxial Ellips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38"/>
          <p:cNvCxnSpPr/>
          <p:nvPr/>
        </p:nvCxnSpPr>
        <p:spPr>
          <a:xfrm flipH="1" flipV="1">
            <a:off x="2977920" y="2596680"/>
            <a:ext cx="1620000" cy="1402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823" name="TextBox 41"/>
          <p:cNvSpPr/>
          <p:nvPr/>
        </p:nvSpPr>
        <p:spPr>
          <a:xfrm>
            <a:off x="3816360" y="229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rmal to the surface at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43"/>
          <p:cNvCxnSpPr/>
          <p:nvPr/>
        </p:nvCxnSpPr>
        <p:spPr>
          <a:xfrm flipH="1" flipV="1">
            <a:off x="2063160" y="1605960"/>
            <a:ext cx="229320" cy="99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5" name="Straight Arrow Connector 45"/>
          <p:cNvCxnSpPr/>
          <p:nvPr/>
        </p:nvCxnSpPr>
        <p:spPr>
          <a:xfrm>
            <a:off x="2292480" y="259704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6" name="Straight Arrow Connector 49"/>
          <p:cNvCxnSpPr/>
          <p:nvPr/>
        </p:nvCxnSpPr>
        <p:spPr>
          <a:xfrm flipH="1">
            <a:off x="1878840" y="2597040"/>
            <a:ext cx="413640" cy="70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27" name="TextBox 58"/>
          <p:cNvSpPr/>
          <p:nvPr/>
        </p:nvSpPr>
        <p:spPr>
          <a:xfrm>
            <a:off x="2139840" y="153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48"/>
          <p:cNvCxnSpPr/>
          <p:nvPr/>
        </p:nvCxnSpPr>
        <p:spPr>
          <a:xfrm flipH="1" flipV="1">
            <a:off x="2977920" y="2596320"/>
            <a:ext cx="4877280" cy="381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29" name="Straight Arrow Connector 55"/>
          <p:cNvCxnSpPr/>
          <p:nvPr/>
        </p:nvCxnSpPr>
        <p:spPr>
          <a:xfrm>
            <a:off x="2292120" y="2596680"/>
            <a:ext cx="595800" cy="1897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30" name="TextBox 59"/>
          <p:cNvSpPr/>
          <p:nvPr/>
        </p:nvSpPr>
        <p:spPr>
          <a:xfrm>
            <a:off x="5721480" y="24454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Direction to the Sun from the surface interse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/>
          <p:nvPr/>
        </p:nvCxnSpPr>
        <p:spPr>
          <a:xfrm flipH="1" flipV="1">
            <a:off x="4196880" y="3663720"/>
            <a:ext cx="348480" cy="310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/>
          <p:nvPr/>
        </p:nvCxnSpPr>
        <p:spPr>
          <a:xfrm flipV="1">
            <a:off x="4548240" y="3816000"/>
            <a:ext cx="411840" cy="14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3" name="Straight Arrow Connector 47"/>
          <p:cNvCxnSpPr/>
          <p:nvPr/>
        </p:nvCxnSpPr>
        <p:spPr>
          <a:xfrm flipV="1">
            <a:off x="4545000" y="3511080"/>
            <a:ext cx="186480" cy="462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34" name="TextBox 50"/>
          <p:cNvSpPr/>
          <p:nvPr/>
        </p:nvSpPr>
        <p:spPr>
          <a:xfrm>
            <a:off x="4730760" y="3556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TGO_NOMAD_LNO_N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traight Arrow Connector 62"/>
          <p:cNvCxnSpPr/>
          <p:nvPr/>
        </p:nvCxnSpPr>
        <p:spPr>
          <a:xfrm flipH="1" flipV="1">
            <a:off x="2672640" y="2749320"/>
            <a:ext cx="1924920" cy="12499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6" name="Straight Arrow Connector 69"/>
          <p:cNvCxnSpPr/>
          <p:nvPr/>
        </p:nvCxnSpPr>
        <p:spPr>
          <a:xfrm flipH="1" flipV="1">
            <a:off x="2862000" y="2785320"/>
            <a:ext cx="1735920" cy="1213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7" name="Straight Arrow Connector 72"/>
          <p:cNvCxnSpPr/>
          <p:nvPr/>
        </p:nvCxnSpPr>
        <p:spPr>
          <a:xfrm flipH="1" flipV="1">
            <a:off x="2748960" y="2901240"/>
            <a:ext cx="1848600" cy="10976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8" name="Straight Arrow Connector 75"/>
          <p:cNvCxnSpPr/>
          <p:nvPr/>
        </p:nvCxnSpPr>
        <p:spPr>
          <a:xfrm flipH="1" flipV="1">
            <a:off x="2977920" y="2824920"/>
            <a:ext cx="1620000" cy="1173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9" name="Straight Arrow Connector 81"/>
          <p:cNvCxnSpPr/>
          <p:nvPr/>
        </p:nvCxnSpPr>
        <p:spPr>
          <a:xfrm flipV="1">
            <a:off x="2978280" y="2520360"/>
            <a:ext cx="915120" cy="76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40" name="TextBox 88"/>
          <p:cNvSpPr/>
          <p:nvPr/>
        </p:nvSpPr>
        <p:spPr>
          <a:xfrm>
            <a:off x="3130560" y="37411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MAD LNO Nadir boresight and FOV corner ve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9"/>
          <p:cNvSpPr/>
          <p:nvPr/>
        </p:nvSpPr>
        <p:spPr>
          <a:xfrm>
            <a:off x="2859120" y="183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llumination angles at the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0"/>
          <p:cNvSpPr/>
          <p:nvPr/>
        </p:nvSpPr>
        <p:spPr>
          <a:xfrm>
            <a:off x="1735200" y="358416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s surface intersects for NOMAD LNO Nadir boresight and FOV corners (five po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3"/>
          <p:cNvCxnSpPr/>
          <p:nvPr/>
        </p:nvCxnSpPr>
        <p:spPr>
          <a:xfrm flipH="1">
            <a:off x="3076200" y="2204640"/>
            <a:ext cx="240480" cy="27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Straight Arrow Connector 6"/>
          <p:cNvCxnSpPr/>
          <p:nvPr/>
        </p:nvCxnSpPr>
        <p:spPr>
          <a:xfrm flipV="1">
            <a:off x="2550600" y="3030480"/>
            <a:ext cx="167040" cy="621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9:04:14Z</dcterms:created>
  <dc:creator/>
  <dc:description/>
  <dc:language>en-US</dc:language>
  <cp:lastModifiedBy>J</cp:lastModifiedBy>
  <cp:lastPrinted>2004-04-30T20:29:12Z</cp:lastPrinted>
  <dcterms:modified xsi:type="dcterms:W3CDTF">2016-08-31T16:00:32Z</dcterms:modified>
  <cp:revision>111</cp:revision>
  <dc:subject/>
  <dc:title>Preview of Coming Attractions</dc:title>
</cp:coreProperties>
</file>