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2EBA-E1E4-4C09-AEE4-63C476E39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CF4B-26C2-4A2B-96F7-BD0944E3A2D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D83E3D-08AE-4781-AE83-F08690FF0CC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05825C-A386-493C-B1FF-32ED7EF2B0D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652EA5-D3D7-47D4-8373-B0145EBF94F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CF2FCC-CEA1-471D-9B22-A5AF251FF5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4952E-22DC-40B3-B32B-3BA0AF5443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2DC4C2-F192-4C4D-ACB7-4AE9204FE05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6BAB36-D73B-4C46-9C3C-D9B73EC928F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C71951-4F89-4C97-8FEF-AC1285BEE3A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C0B717-EBEA-4888-A4EF-D2E9D76E81D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E4088-99A8-46A5-910B-A8725675B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44A9-172E-4E68-BD8C-8182C73400C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23D0A-48C8-43FB-B91E-5C69BBD68C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20FE4-D6D2-4186-8C31-F37E488616D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0EAAD-F7D0-40CA-A541-3CC2A323039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45EBC-DDAA-4324-A267-38DE5DA05D7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49206-3B85-4FCF-A6DA-1B39EF1F837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4DEF7-FEB1-45E3-A543-67580EE6262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A0759-B746-4C3A-BA4C-54FF7790D6F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50B0-4495-4EED-A3FD-6E8C7E16638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899CC-24C8-473C-8792-A33CB100F2E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FC4B7-C5DF-43FB-8C72-3D3020AAF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1097-F38E-4175-BA42-11E9E4710B5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D515F-6107-4891-B258-3A4EBBDCEB2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2AAB2-110D-462B-BE04-6B42D3B4EA2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91BE2-4019-4AA2-86AA-A55361E32AF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2F72C3-39BE-4F4C-829E-837DB7D1106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41F64-9852-493C-809C-FFEFBE262B1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DD71B-30B1-4C45-BC85-C544FAB7415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BDB69-D2D1-4A01-8C34-725A2F29CE8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25605-DBE5-4FA2-8C39-C8F4E3CA5FB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AEDE0-99A4-40DC-8FAC-E24EFB9812D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C0085-FE94-4091-985D-967D487AF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FEAC5-4C32-4AA2-85C0-AE3A8882FA3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8DB0B-A615-493F-B43D-9986DDB3AC0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27C4D-4687-4D9F-AF96-C45193B2073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2B527A-EDA3-4CCD-98FC-F45DC785CB7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A09447-5C1C-4835-ADE1-4F17BD38866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A39309-ECE8-4BF8-9201-A61F5BDFAD3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193618-F42E-4FB1-9796-8920730FF47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D4A228-74F6-4062-8CA0-625C491DB47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2DB757-8CF4-4A99-89A2-C8C883D7E29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F2B9C2-F0A9-43E3-B5C8-376A59173C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5C4734-FBA5-4351-BF40-16FE133EAD0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A9495A-A908-48E5-9299-1E0F3ACB931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838117-3741-4019-972D-0FF846B37D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BC133-0EE7-4841-9FE7-C71FA1B1E09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186ABB-B9C9-4AA0-883E-2763224A8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E8A9-A0A7-47F0-9583-0EAB9E984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0D7A4-ABD2-49F3-B137-7AFB16053F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F3FE6-321A-4ED8-A0F7-7B683574FA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A1687-5A30-43EF-9096-8E1699F596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4D369-9B99-4BC1-B649-8EBD802721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96709-D397-4A34-A9F8-5B1EAF07D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8CE7-2C5D-4B0A-90D6-3B9C42206A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CBC0C-04BC-4A1D-A096-61B35029E1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77FCB-DB8A-451D-8A0A-87E2FF6292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33D74-2BCC-43E0-98BC-B64910ED01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7FA81-6CC2-433E-ACDB-04693D3807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D616A-A0DD-4290-8205-5645DEA1FD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AA2BC-146A-4305-A945-D0C23C9FC9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F3EC1-95A6-4702-B194-3D47EB49C9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CFC5-0DC5-41F0-B5B0-20E0D4AA65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F1B4-EA36-4718-9698-C5BA9D1C53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FCF7-BADE-4F4B-9CA9-F7C3F16F5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C1A6-4CB2-4603-961E-105C8412D2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A969-007C-47A0-A8C4-99122D4395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430A-3F7F-4430-99B8-73257A4A08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C40C-E09E-4A4A-8A37-955CAF8626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4ACB-4775-4B1C-A700-FE11F3C800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BC3E-613C-4560-979E-9E62D7FB7C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FBA7-35B5-44F3-97AB-A2B7A65B05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4278-7854-400B-A59F-95A6A2D945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A580-3713-47D7-894C-E729DF587B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3439-918C-451C-B2AE-9C79CA57001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DB186-A1EE-485C-95A6-49DCEBBD1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0D13-34E0-4B1C-9F3F-643C42A022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49690-64B4-4027-852C-04B092FB91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96F2F-E079-45F6-9209-8E7162B767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74C85-4849-4667-B47D-60988C974D9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7F036-6F88-4AB6-ADC8-DB699740CA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83D7E-51C9-4423-BE7C-7FC188AC7E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3F80A-7DEC-4986-A36A-9DA974F18C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5C706-4C86-48BE-8EA7-7D14380EA42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A57FD-00C3-45C4-888A-1B01511AAE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C8AB5-A270-4161-9304-359AFD46D81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072BF-50E4-448E-B0C5-748FE2413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1986D-C025-46E3-BDE4-0C1B586800E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83144-4E61-4095-A1A7-C90F696B13A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3FFB0-D174-49C8-9C99-97D2FF2715C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389ACD-6CA2-46ED-B55A-A0904B3B7E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35846-B93B-461D-B57A-9B398F5B805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0E0AA-0102-4784-960C-5FAE202145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828FAB-C1BC-4A26-A7B8-CF30B5A3E9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FD78B-C615-4D05-8FCF-C281944084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361212-4D1B-4B72-B28E-B5F3F858757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613E88-8603-478E-B399-E09A424CF9F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8F839-C27A-481D-B7EB-B426867E8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E7BA-A7D8-4B16-8A05-F45A51E0F56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C0C898-9838-40D0-B718-D4B2BDD1209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71855-5080-4830-8063-4D414F4725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E14C1-13B5-494C-ADFD-16059D48C16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6AEF7-6F78-4E78-BC3B-C0341461EAB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38F1-9F93-44AC-9CEB-F659C28C1A2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25046-18B1-436A-BDA8-8DCCA406E8E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012B-4061-43A9-B6A8-90AFB633348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4D2A-CF3E-4DAD-A9B9-4E2EB06E7B8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44D94-6647-4FA8-89AE-2D146218EFF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0362-7B98-4ED0-8410-80F215BCF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3496-2706-46A8-94AE-F1438BBE669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36F57-6A62-433B-8E1B-C92946278BB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D02E3-7767-45DE-A032-348EF36B22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83135-AC7F-4AFD-9E9B-505E5DAD3FA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0469-3408-4970-B8A3-6780BCF186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14F36-925A-4B16-9D79-9836A36353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7530A-C8BF-42A9-8C51-2AF71408794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8C805-D07D-4139-87C2-782CB604807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986A3-2003-44C6-BB2D-DBEB3E9B54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91973-6C92-400C-B625-B48B11CE8E1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2924A-1A9B-4DFC-B41F-1B718773E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F37C-3050-4675-B119-04EDD3D5E76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A948E-564A-49A2-9FEA-9859138C1E9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57C80-AA35-44A8-A7EA-7A8064DA497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653B7-FB9D-4CC4-A340-7968B42ED23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A9AD6-2778-4CB5-88DF-A6978C9043A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3D2BA-EF45-4CD4-A913-F9F4473B885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A8D8A-6F9D-43BB-A5C8-5D1136122DE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7B1BA-5A50-4F8A-A238-501FA7D170E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91E2F-D7B4-477A-AC88-57374F1185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C353C5-B8A6-4524-B56E-0BF83FDD130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2CF70C-8131-4E24-ABC1-6B62DD930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8BD3-0565-4071-A964-A326AF89C82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16A7-2A93-4E06-ADF4-66369D9248F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D339-F3A8-4B9B-8B94-E83AF2B0BEC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1247-29EB-49EC-8972-4B4BBE07692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D4D0-0EC2-4374-BE11-0F3CFD0A2A2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D74F-BA2B-4BF1-8969-074B6A2BB85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62E9-B240-4508-B08D-C5F4BB5C046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689D-73B0-435F-8E0E-D13FAEB47F7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4A4D-9E19-470B-8962-FDF0CA4E3EE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4B30-29E1-4C6A-9805-42609935D2E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9C99-8D6D-4DB8-9CEB-D4F59392AE6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0EA9-E139-493C-A7EA-D7A0FC0C769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ExoMars-16 Trace Gas Orbiter (TGO) is visible from ESA’s New Norcia station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0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4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New Norcia station must have elevation of at least 6 degrees in the station’s topocentric reference frame NEW_NORCIA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New Nor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013A-3BC4-4146-B022-4ED2BC5A9EB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Oval 69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31c6b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0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2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3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4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5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6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78"/>
          <p:cNvSpPr/>
          <p:nvPr/>
        </p:nvSpPr>
        <p:spPr>
          <a:xfrm rot="2415600">
            <a:off x="3176280" y="3588840"/>
            <a:ext cx="549360" cy="53028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_NORCIA_TO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1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2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3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1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88"/>
          <p:cNvSpPr/>
          <p:nvPr/>
        </p:nvSpPr>
        <p:spPr>
          <a:xfrm rot="2545800">
            <a:off x="3041280" y="3740040"/>
            <a:ext cx="633600" cy="3175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9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0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rc 79"/>
          <p:cNvSpPr/>
          <p:nvPr/>
        </p:nvSpPr>
        <p:spPr>
          <a:xfrm rot="2911800">
            <a:off x="3080160" y="3731400"/>
            <a:ext cx="344520" cy="38124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rc 87"/>
          <p:cNvSpPr/>
          <p:nvPr/>
        </p:nvSpPr>
        <p:spPr>
          <a:xfrm rot="4287000">
            <a:off x="2469960" y="3402000"/>
            <a:ext cx="1287360" cy="2491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1"/>
          <p:cNvSpPr/>
          <p:nvPr/>
        </p:nvSpPr>
        <p:spPr>
          <a:xfrm>
            <a:off x="1258920" y="3800520"/>
            <a:ext cx="1303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ew No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2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3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  not occult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5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8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</cp:lastModifiedBy>
  <dcterms:modified xsi:type="dcterms:W3CDTF">2016-08-26T16:37:30Z</dcterms:modified>
  <cp:revision>121</cp:revision>
  <dc:subject/>
  <dc:title>Time Conversion and Formats</dc:title>
</cp:coreProperties>
</file>