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423F-986C-4EFE-BC0B-6BD715847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3601-6DE8-4D0A-AF4F-DDE84D946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EC32-AEA3-47DD-9588-91E16E200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9D9A2-DC3B-4B08-BD4B-8E4F51E5C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9B5E3-9119-45FD-AC61-A6DF4DAC9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E7AB6-D26A-4DFE-BC82-4F299930F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7B840-45DD-46ED-95C1-5B62FE655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15AA-ECF0-4942-B3DF-E8D1C649D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4D9FB-1410-4350-AC4B-835E53E55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19585-E37F-401B-89BF-7754E76B0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34E75-AB1F-4EB7-9458-975C2C23D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69396-44E7-4DE8-BF65-7E1F8D31B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D4C6B-ED4D-4F3C-8C92-89D1EDEC0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CF0B-B179-4518-AE63-0CA6F521A5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Binary PCK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00480" y="380520"/>
            <a:ext cx="5976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mrota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95840" y="3220920"/>
            <a:ext cx="2887920" cy="2911680"/>
          </a:xfrm>
          <a:prstGeom prst="ellipse">
            <a:avLst/>
          </a:prstGeom>
          <a:gradFill rotWithShape="0">
            <a:gsLst>
              <a:gs pos="0">
                <a:srgbClr val="10286c"/>
              </a:gs>
              <a:gs pos="100000">
                <a:srgbClr val="2357eb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840" y="2106720"/>
            <a:ext cx="2401560" cy="2392200"/>
          </a:xfrm>
          <a:prstGeom prst="ellipse">
            <a:avLst/>
          </a:prstGeom>
          <a:gradFill rotWithShape="0">
            <a:gsLst>
              <a:gs pos="0">
                <a:srgbClr val="e9f7b1"/>
              </a:gs>
              <a:gs pos="100000">
                <a:srgbClr val="6b7151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16040" y="3319560"/>
            <a:ext cx="5451480" cy="139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1635120" y="2084040"/>
            <a:ext cx="7920" cy="12272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85160" y="3318120"/>
            <a:ext cx="831960" cy="6346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640" y="3314160"/>
            <a:ext cx="1178640" cy="128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874200">
            <a:off x="2797200" y="3566520"/>
            <a:ext cx="30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-Earth position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5320" y="1800000"/>
            <a:ext cx="384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lunar body-fixed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792000">
            <a:off x="2647440" y="40712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Earth point on M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41680" y="3549600"/>
            <a:ext cx="152280" cy="14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34800" y="267084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3200" y="46756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CA1E9-DBED-491F-91B6-AA46FD129A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9240" y="2830680"/>
            <a:ext cx="2401920" cy="2392200"/>
          </a:xfrm>
          <a:prstGeom prst="ellipse">
            <a:avLst/>
          </a:prstGeom>
          <a:gradFill rotWithShape="0">
            <a:gsLst>
              <a:gs pos="0">
                <a:srgbClr val="546fe8"/>
              </a:gs>
              <a:gs pos="100000">
                <a:srgbClr val="26336a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11920" y="2397240"/>
            <a:ext cx="1150920" cy="1135080"/>
          </a:xfrm>
          <a:prstGeom prst="ellipse">
            <a:avLst/>
          </a:prstGeom>
          <a:gradFill rotWithShape="0">
            <a:gsLst>
              <a:gs pos="0">
                <a:srgbClr val="6b7151"/>
              </a:gs>
              <a:gs pos="100000">
                <a:srgbClr val="e9f7b1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70040" y="380520"/>
            <a:ext cx="56390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erota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440" y="4403880"/>
            <a:ext cx="1735200" cy="1650960"/>
          </a:xfrm>
          <a:prstGeom prst="ellipse">
            <a:avLst/>
          </a:prstGeom>
          <a:solidFill>
            <a:srgbClr val="ecd81b"/>
          </a:soli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268360" y="2990880"/>
            <a:ext cx="5126040" cy="109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263680" y="2901960"/>
            <a:ext cx="15840" cy="11685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418760" y="4079880"/>
            <a:ext cx="849600" cy="6940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3480" y="4077000"/>
            <a:ext cx="1187640" cy="1627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886600">
            <a:off x="3946680" y="3410640"/>
            <a:ext cx="30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-Moon position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9520" y="5186520"/>
            <a:ext cx="305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Earth-centered body-fixed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495240" y="4448520"/>
            <a:ext cx="3455280" cy="76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84640" y="4334040"/>
            <a:ext cx="152280" cy="145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73920" y="40075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0520" y="29232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37720" y="4118400"/>
            <a:ext cx="210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solar point on 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34760" y="1961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277000" y="2658240"/>
            <a:ext cx="531720" cy="4334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815200" y="2608200"/>
            <a:ext cx="490680" cy="479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1960" y="3090960"/>
            <a:ext cx="5400" cy="479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11400" y="1550160"/>
            <a:ext cx="24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topocentric body-fixed reference frame DSS-13_TO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811600" y="2916000"/>
            <a:ext cx="4554360" cy="1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64760" y="2294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S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1499200">
            <a:off x="4286520" y="2715480"/>
            <a:ext cx="217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S-13-Moon position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22400" y="3098880"/>
            <a:ext cx="659160" cy="372960"/>
          </a:xfrm>
          <a:prstGeom prst="line">
            <a:avLst/>
          </a:prstGeom>
          <a:ln w="12600">
            <a:solidFill>
              <a:srgbClr val="00df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368800">
            <a:off x="2629440" y="2738880"/>
            <a:ext cx="607680" cy="43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78" y="19173"/>
                </a:moveTo>
                <a:arcTo wR="10800" hR="10800" stAng="7750396" swAng="15129905"/>
                <a:lnTo>
                  <a:pt x="10800" y="10800"/>
                </a:lnTo>
                <a:close/>
              </a:path>
              <a:path fill="none" w="21600" h="21600">
                <a:moveTo>
                  <a:pt x="3978" y="19173"/>
                </a:moveTo>
                <a:arcTo wR="10800" hR="10800" stAng="7750396" swAng="15129905"/>
              </a:path>
            </a:pathLst>
          </a:custGeom>
          <a:noFill/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40640" y="27342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zim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3773400">
            <a:off x="3035520" y="2886840"/>
            <a:ext cx="548640" cy="58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640" y="3207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A2B35-7CC7-4204-8976-3A0833EF25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haniel Bachman</cp:lastModifiedBy>
  <cp:lastPrinted>2004-04-30T20:29:12Z</cp:lastPrinted>
  <dcterms:modified xsi:type="dcterms:W3CDTF">2007-05-19T05:12:23Z</dcterms:modified>
  <cp:revision>123</cp:revision>
  <dc:subject/>
  <dc:title>Preview of Coming Attractions</dc:title>
</cp:coreProperties>
</file>