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3137-AB27-45DD-A05A-B89B870F1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A1F5-6A75-4BCD-9B1E-691AE8CDC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34E3-06F4-43AF-BEA1-03EC0F7B8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1C8F-5E47-438D-B460-04B5CCA5B27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3013C3-9D07-4526-B0F5-9A427CDAE9D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6BB316-A19A-4C0E-9249-81B030895F8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F8EED4-8E93-41BA-A8C9-499A0D14095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028F60-83F6-4C8B-AB98-C66DECD4981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2CE12C-F192-48F8-AF08-3EF470AFE6A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3866A2-E399-4F5B-A62B-B8D32FE71B9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56DADF-8A0F-4F78-9463-608A4AC5D3D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A02548-8C67-47CB-837E-D9F13B6ABAC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34BCCB-8245-4EA6-93BA-5A7613B4105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2E5B1-5027-418D-A57E-01F64676B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DDA5-1145-4751-B8D4-40C71F4DCB4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44C18-03DB-47B3-91A2-87BBD9F0B5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E951E-D701-474C-9B27-3316A0DA555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61C9E-5FBA-402E-8E18-4BC396A0844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4CFB7-3AC0-4184-B3E8-D5B33705D0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799C6-2264-464E-9378-5FEB383BF11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72557-5C32-46D6-8480-23AEC694A25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5CA69-1EA8-44C9-A4BE-17CD354870C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4400-CD50-42E3-9D14-1DAF6F41953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F75BB-7B16-405C-A449-94CC485A6E0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EA6D-9CAF-4671-B6E3-07CE9A042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FA93-069B-49E9-BF94-7B1DBB3F68D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8012B-0AD7-44B0-9D15-3A838FFAD59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3C0E9-4830-42CF-91C0-B4C74C9A69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0B72A-CB8D-45FA-A22B-52678C7145E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7086D-0A07-4E02-AB52-C78E35051B6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A44CD-9B54-4520-87C2-A1C085CFEBD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DB350-AEA8-4C53-8CD1-3A671E9CA86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155EC-4510-4326-9AEB-366E9CF8B7A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0A2AC-8B40-47D8-98C1-5D8FCF542CB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10E51-0B55-45B7-B5EE-9F620798CC2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FBD9A-FF8E-4DD6-8D22-EB7840BFE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B5C96-760A-49DA-857B-291C9CEF621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DC683-387B-470B-B27C-A6D6D854443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2C1B4-40DB-44D4-AA48-8FD7E893E9D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C424E5-A077-4284-B933-BE112A699DD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23C4C9-3382-44BB-9F28-B69465D771B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BF72CF-8D8A-4B17-874D-7E977D98A7F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9602D-60FA-4E00-BDEC-CA7D78E2350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8B9BDF-4E69-4911-8FA8-25BB8234F1C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32346F-2821-424D-8CC8-9F2BF35C77F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9EDE9E-6AA9-4788-8487-89F880FEAA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02223E-7303-401D-B581-92006891E40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981047-0F92-4DC7-A378-555EE28F42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8CC6E8-1BFE-4B4E-B78C-DCD7BA93C1C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EEA1EE-621F-45E9-BF09-69B2F55CBCF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77BCC1-5D96-4E10-B216-BBC9C20378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F16D-0824-467C-98F6-ED5893373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15825-9ED4-46BE-A018-3E4DE7FA46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45CD3-0A40-43BF-9EAB-6ED07361CD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544B3-D60D-4DDA-A987-25879A666A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9A63D-BBFE-498E-8FC6-7CC229376A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DD290-EC9B-430F-A0EF-E33D06663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E928-73A8-44EF-853E-84BDC8C1CD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C737E-3C7D-4F77-9BDE-1C42CBCCED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4583D-26E6-45B5-B25A-39147FA54A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63E2F-C39F-415A-868A-74C6C996EC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39F8C-62F1-4DE6-8193-78CA892CC9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26F09-0CA1-4AEE-84F8-E8F72B15D8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48480-CE10-45E7-8352-0CB93A341C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D0ABB-7538-47FA-A6E1-C6251142E7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9486-C430-40F4-B4E9-C75ED2F29B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B0BE-E636-4419-8C46-8127AAADCF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D004-F271-4F7B-997A-D773CB40E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1429-D9C7-4972-9807-9DC2356774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C55E-15F5-4BD4-96D9-C2C95343C0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4605-4B83-4E31-976D-C123B90F4A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6833-8B29-4096-82DB-5C11D6C0E8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E67E-43A3-424D-90BB-A665095F5A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9A99-8034-4718-A9D3-2339A384EC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ECE9-CD81-4BD2-BE0A-6AF69E64DB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7C89-411A-4F00-8A09-ED8F84A084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0C5F-EE7C-4C0F-9265-1C61D4BC6C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04E5-5FC9-41A4-A90F-94E0FDAD99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31174-AC5F-41CB-BE80-F0110EDE2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43CD-D736-4600-8788-9FBDB03AFE5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A5D59-1FD3-404B-B818-58CAF50346B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0E730-8C2C-43C9-9804-3C8E0DF7B4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19597-E2C9-43F8-B604-496DA1B76C4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5FB50-9635-4E3C-9B8F-81F545A92CD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7E949-1627-4FBD-9357-99493131FB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95DB1-B29D-4913-B159-A77C820473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F7B1A-E68F-4EFE-BD4C-92579CB9881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2FB21-BD90-46C3-9D9A-2427615F68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0F1BD-2069-4712-9D46-FE52CF7F8C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51A81-7605-4699-8DA5-1F9FA289C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CEB5-1E6A-4EAC-9CAA-F1DA420619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CC8CB-28B3-4667-A279-DA7123B4B87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1F9DA-20E4-4128-A6F0-28401E3115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2F2E4-2503-4019-B289-582F873E815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90098D-CDC0-4BFA-8450-27593FC6FB7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D94AA-0FAA-4174-8582-96E99C3306F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B12DE-7385-4781-812E-C0F940C7163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5C58D-BC25-43EA-B8F2-2843109D7A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8B698-4757-481A-A6BE-7B137633A39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C1999-302E-4EE9-B030-68ACDFB1B7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D62382-7CB6-463D-92BF-BB14462F0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40FE-2320-45A5-8EE7-41892422839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BD252-53C6-41E0-940D-CD88835CE9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BEF6E-E24F-4695-8715-98987780B6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A5AFEF-0269-473F-AE15-4486D1904A6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5E5E-EFD4-4F9F-B7F5-3A56E586342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EB54-A0AD-41FC-BF75-06B6033CE5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37DDF-E57A-496E-BA44-EC44BC2D37E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F49B-A6DD-428D-81A0-4E62F2B570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65590-5EBF-4E98-91BF-3D3AF2F64F9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332E-9DC2-47F7-A4BB-706D19DB9B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1F7BC-B6E4-421F-A2E8-9463DD71E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24B3-433E-4442-94B1-F1751FBE58B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090C-4E11-4609-989F-A7315534288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9B2F6-F35F-4481-B816-079D43EC744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C2B8-22FC-485F-9D80-3B59E525916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E7BF4-6506-4E0F-B0F9-310FC4C1202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28F66-DE6B-4C12-A58D-5EA7D09A50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AE70B-F33E-4012-AAA8-13B66F5E317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FB701-8A75-425B-940F-7B236332159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C15BC-E631-42FE-A743-B79FA64D031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25CB1-C503-4706-989E-5EDC5C0F68B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618C9-42B0-4092-9759-12AE86EC6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DCFC-7FB2-450F-91FE-10FD87D043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09A00-B1D2-4BBB-A059-E869E8595E0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1608B-8497-4E6A-9391-DE3925A3AF9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92415-9489-4A32-8CEA-F4266E80BC7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0CFD5-1E2B-4713-BF96-A4704E30F75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73A9E-3606-4591-877B-64C9ABE741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846CF-28C2-4899-A20D-DCBF625DF86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BB914-4D6D-4324-876D-86E4E5AB1F7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E2DA8F-4B7F-4CD1-A80C-B9EAE8A4E84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FB03AF-2E3C-4021-8C13-F8D5EFC9215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77D887-169D-4086-9597-C12B84A21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5AB4-F96B-4D3D-AA99-C41A9D3FA8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038D-1372-4BB7-8EBA-0FBCED9C48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8601-BF79-4732-8CD7-1EC7DF45DF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C149-E7A2-42DD-8105-8CC200FC52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9EDB-15F8-4169-A0F9-CAA57B42A3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F1D7-A39F-4A12-853C-A35132B9C8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65A1-F093-422A-BAD4-BDECA3D060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D5A1-4104-44AE-B765-C880BB4CEF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663B-44B6-426B-9AF2-7D4A067E9D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44A4-7B6D-48F7-92D4-8648240547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580C-0B6E-49D4-BE79-0ED36FDEDC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8280" y="2666520"/>
            <a:ext cx="7404120" cy="143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Application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3F41-3495-41F2-AF5E-ECCDFCE2A6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25520" y="380520"/>
            <a:ext cx="6405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3320" y="1371240"/>
            <a:ext cx="83818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using these application programs provided in the Toolkit by completing a series of simple assignments for each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C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utility program for converting and summarizing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accessing internal comments in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XF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inary SPICE kernels to transfer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B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transfer SPICE kernels to binary format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etween various time sys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cookbook program demonstrating use of routines computing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trajectories stored in two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M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or sampling orientations of reference fram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51:38Z</cp:lastPrinted>
  <dcterms:modified xsi:type="dcterms:W3CDTF">2010-02-12T21:22:20Z</dcterms:modified>
  <cp:revision>74</cp:revision>
  <dc:subject/>
  <dc:title>Preview of Coming Attractions</dc:title>
</cp:coreProperties>
</file>