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dt" idx="2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ftr" idx="2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 type="sldNum" idx="2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BBA7-8E17-4379-A794-64D8A587F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FD00-9F81-4885-A5D4-69EFBA245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18E9F-966A-461B-A765-33CE70B7ED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CA076-6F9F-4716-9A8B-FA6AF59CA02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9626E2-63F3-424E-B7E8-26BE2C66DB1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0D8473-888E-4180-9FD8-3096FFBF12E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B86D95-3F35-4CE8-A6E2-2AC2ADC3F1D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BBB856-52EA-4D15-ABC1-4C5657D8C31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F4258F-D0FD-4D78-96B8-09D6AE4D548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2E5268-226F-4165-8A75-8038457559D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5E1147-261E-4016-B869-9C41EA07211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E64A9A-754C-4465-9C06-F0EE5AE9B14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5DC664-E8DC-40BD-B5CF-F6C6AF935AB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F0496-4D19-4CF0-9CDA-3929BCD210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E9E2E-3870-4FD8-B6FA-52A97023A1E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3A743-E6AF-45D2-9D75-A9D2D7478F4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5CDDA-AC2D-455F-BA63-37A7B4C80D0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45CB0-AE6C-42D0-9209-F6AA37A0A8C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2F2B8-C18C-4168-98A2-5A5A7E64541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891A7-9034-4CB8-BF28-262C42BC092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3167C-77FB-4E2D-97FB-8B55130FA96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FAE3F-76D7-49DF-A922-9AF91EE5698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A9CBB-6966-423D-A8F4-E674D105689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EF159-FFA7-4523-9327-9696A7A7813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1979B-2087-4C5E-B86A-AAAC9E75AE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95768-71EB-4D55-B2C8-D52563CE51E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49503-261C-46C3-A6EC-981967E8207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EAC1E4-5EA0-4A6E-BDCC-F4057CF9984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A5205F-DF1C-4107-9F8D-CEF83CDFB87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2982B3-2C5D-4F3E-ABD7-D86AEF1D7CF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366ADD-C0C1-478F-AE69-30E0C7E6B73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69D7B1-A60A-4ACE-8160-5FF441845DB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C9D979-943D-4607-9191-5872F569329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DDA3DE-9297-4779-BED7-BACC5EADDC3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B8F98C-56E9-4F58-8D2E-CD4415AF632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B8C64B-9777-4BFE-AEDB-EF31923954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E595DF-804B-4084-973D-2D61F96B049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84F142-C9F6-426B-88B0-30D688E1D56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462C6B-5172-4261-B45E-06A0165BD22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3B248A-44E6-49C0-BECA-FA5F0431A11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660DC9-8DE2-421A-8C65-870A4628762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3A5645-1776-4EB9-B411-C303151DD39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C623E4-F570-41E2-91A1-F8FD1E75FAB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5F2A2A-FD20-4872-AE2A-4B2032956B7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D5BEEF-AADC-45E7-9313-8834E09851B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8653CB-DA3B-465B-88FD-0C0963F7C3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7A76E8-4A2D-465B-95EC-E2B6EBE54F3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AFCCD0-BEA2-41EE-BFF2-C7AB161CC87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F6DCCD-F5BE-46E9-9D52-E1C07F248C6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083B9D-66D2-4A5A-A3A5-909018D6A4F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FD2D44-8B77-424B-AD22-C295D83D34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40B7C-5A83-46FF-A602-6BEB2565FC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5E6DF-B15E-4A65-A397-CFE05F63669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7FC72-BDAB-40B1-873C-259F9451AC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5C1D7-91D4-4CB3-89C0-C0789D390A1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B301C-8BDD-4D6C-B8C1-8A2BF5CE539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2D8AC-DC4E-4ABE-85BA-B0CD37E041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74E34-E135-4D5B-9FFD-AE63385A25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E0B47-752C-4822-97A2-2D92DFD01A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D6633-4653-48B0-B25A-4ACD2FAB19F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880A7-7C8A-4AEC-95D4-89580DFFBE7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0C4DD-466F-4A1C-8E79-CD672FC05A7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7D6118-F51F-4CEC-B39C-55A873BD72D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15460-CDD6-4C9C-B189-AFC3B7BA9A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70B1D-4138-4EAD-A93F-5CB23F42368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4910-6330-4D34-A442-39FB10B52FA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C939-80CB-4568-94B9-652E31332D4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2139-A7F2-4B03-A0D2-2EB31616A3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DD691-DF4A-45BB-BA3E-F25B6F87D5A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26CD-8D03-44D0-A517-AFC44DC0264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E8CC-B500-4890-9900-7BCB7B7D63D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04B5-F115-4691-BA1C-CD04034B2D5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624B-DF59-478E-B9AB-7C413F78C37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3C19-9FEB-46D3-A794-409A77AADB0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5294-E412-44E9-B3E5-A37FF1CD3A0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6CC0-8FCA-415E-962D-27BEDB2F3A4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4B29-BE6E-47C8-BD68-E9DD885C16A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E126-03F6-4C9E-898E-F690DAB7846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7531B2-371C-4706-B5BE-0436F33689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FE871-CF24-439B-BE89-578E23D9E8A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43C53E-CB6F-47E6-8E15-EC536600439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55BA3E-2A8E-4362-B5CF-EFC119E1F02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7FFE61-776E-4304-8AE7-04F5E2A8C11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5548D0-4D2F-43C2-906F-EEB166B1106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77D819-8D4D-468B-A1EC-2AE7B5F2C1F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43FC9B-CADD-4695-AF46-1F6C180837B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DF338D-2C91-4F7D-8055-EBA53D7D429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6ECEE0-1A44-493D-86FA-7AA0C194D59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F3B0D9-AA65-4231-9E0E-CD4D300E8F3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C72135-5C75-4B4F-9CE0-AA1C7ABA3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82E80-B777-436F-BAC1-E619D2607D5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CCB23E-0940-4437-8684-ECF091E30C7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CDE4B3-D121-4F06-9BB6-A33ACF08F8B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DA5CE3-C727-4477-BD71-C2CA341D6A9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BF97AC-0788-4DF0-AC14-DFCE0D39852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F1CD1C-8619-418D-9BDF-D4AE26DCE92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DC4F52-590A-40D9-A705-AC85E29B227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86ADE7-347E-4398-96BC-F75287D7E53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344039-66DC-4C79-848F-8554A7F2311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B57E86-F0D2-4AFB-9DE8-F40CD5E487A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21780E-C0E2-4E07-A9D8-710D047A30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55720-600F-46C8-A9EE-A9970880044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888D01-763A-4511-B312-EDD20556A9C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7BC678-EAE8-4743-9FC2-17201F0490C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CBF48D-945C-44C6-B314-B3F778B6559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3EB00-D1FB-4DED-A5D8-6FB9CDB7CF0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2D9BA-76AC-4C32-B72F-F474F697D85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94C9A-18E5-4903-B8A4-0422EB1F0A7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46607-8260-498B-B7CD-C7EDD6A9AE6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FBCA4-C19B-4A2C-A2A3-62553F43AE6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7FF7C-A143-49F5-B9A3-521BBD9D83A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13165-91FA-4D1F-84B8-1E15E070C4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4908D-E13D-405C-A23E-18E030B26D7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90326-0C21-4D8C-A6FE-A3FAE90F9D7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6AC28-4699-4259-8ED0-77A6A4D873F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EF7FD-DF95-401E-A3E9-9E2C62D1568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B2DC9-334A-4B48-9608-6A495607F89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34098-20F1-497D-890E-F98B2AD0376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491105-B20C-4CCE-8C74-451DF75DE06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02541B-5BB3-427A-A643-6B88472B8B0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4AE4C3-8609-4C31-A565-74E6919071B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E5DD21-42C9-44D5-8529-9D74472E48D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7FEEF8-A25B-4233-942D-2133B7385A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38BA5-F473-4A1F-A84E-68CEA7426C5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301C4A-2CD7-4CB6-A9AD-D89C0E16CA7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C0FAA7-8CDE-41F4-8E1A-256F1B7A725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521A77-6BC0-40CF-A44E-073372ADD1A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EE9B52-8BA9-4C81-96E2-0B340E44B9E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D8E1A6-8334-4F20-AD01-43E6A19693F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3A1B87-C558-442D-9762-10F6AD99DCC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62F418-D238-453B-9B44-E65114130C3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A3F83E-C5DB-488B-90D5-5E02120A520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B11661-5546-4162-BEB4-30CDDFC283D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C26C7A-D77B-42A2-8D0D-B254AA25AA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4DA8-FB3B-4180-A5C5-502FC15D37C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15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1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1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1844-A092-400F-A575-1C22B6A1FA8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72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1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sldNum" idx="2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6024-5660-408F-AEE3-711F866A95A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29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ftr" idx="2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sldNum" idx="2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08D9-5B5C-4BE4-A23D-8E6615FC26A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3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7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1" name="Arc 8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9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2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rc 13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4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5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6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7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8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9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16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BC23-56F1-4470-BA95-170E955915C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73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8765-985C-439C-85B6-9F330653F60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30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B167-3599-4ABC-8BD1-7FCA6D29503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87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sldNum" idx="1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31FF-4D47-4619-8273-4753AD6EABB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344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1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sldNum" idx="1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C316-0DBE-48E9-8875-EEACA5AE93A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01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1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8CFF-5252-41E1-8F4D-E3FFDEB10F3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5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1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1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28CF-F39C-4CC9-8A2D-22BACAC4361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604960" y="3171600"/>
            <a:ext cx="430560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Remote Sensing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September 201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9DEC-263E-481F-9D39-BBE3B8C993D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30360" y="380520"/>
            <a:ext cx="59104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getsta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693" name="Group 6"/>
          <p:cNvGrpSpPr/>
          <p:nvPr/>
        </p:nvGrpSpPr>
        <p:grpSpPr>
          <a:xfrm>
            <a:off x="3225600" y="3123720"/>
            <a:ext cx="1674000" cy="927720"/>
            <a:chOff x="3225600" y="3123720"/>
            <a:chExt cx="1674000" cy="927720"/>
          </a:xfrm>
        </p:grpSpPr>
        <p:sp>
          <p:nvSpPr>
            <p:cNvPr id="694" name="Parallelogram 7"/>
            <p:cNvSpPr/>
            <p:nvPr/>
          </p:nvSpPr>
          <p:spPr>
            <a:xfrm rot="9700800">
              <a:off x="4118760" y="3279600"/>
              <a:ext cx="763560" cy="232200"/>
            </a:xfrm>
            <a:prstGeom prst="parallelogram">
              <a:avLst>
                <a:gd name="adj" fmla="val 8791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Parallelogram 8"/>
            <p:cNvSpPr/>
            <p:nvPr/>
          </p:nvSpPr>
          <p:spPr>
            <a:xfrm rot="17591400">
              <a:off x="3810240" y="3407760"/>
              <a:ext cx="488880" cy="208440"/>
            </a:xfrm>
            <a:prstGeom prst="parallelogram">
              <a:avLst>
                <a:gd name="adj" fmla="val 26093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Parallelogram 9"/>
            <p:cNvSpPr/>
            <p:nvPr/>
          </p:nvSpPr>
          <p:spPr>
            <a:xfrm rot="2221800">
              <a:off x="4066560" y="3206520"/>
              <a:ext cx="327600" cy="154800"/>
            </a:xfrm>
            <a:prstGeom prst="parallelogram">
              <a:avLst>
                <a:gd name="adj" fmla="val 7029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Parallelogram 10"/>
            <p:cNvSpPr/>
            <p:nvPr/>
          </p:nvSpPr>
          <p:spPr>
            <a:xfrm rot="9717600">
              <a:off x="3992040" y="3386160"/>
              <a:ext cx="478080" cy="326160"/>
            </a:xfrm>
            <a:prstGeom prst="parallelogram">
              <a:avLst>
                <a:gd name="adj" fmla="val 8792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8" name="Group 24"/>
            <p:cNvGrpSpPr/>
            <p:nvPr/>
          </p:nvGrpSpPr>
          <p:grpSpPr>
            <a:xfrm>
              <a:off x="3931920" y="3717720"/>
              <a:ext cx="417600" cy="333720"/>
              <a:chOff x="3931920" y="3717720"/>
              <a:chExt cx="417600" cy="333720"/>
            </a:xfrm>
          </p:grpSpPr>
          <p:sp>
            <p:nvSpPr>
              <p:cNvPr id="699" name="Isosceles Triangle 15"/>
              <p:cNvSpPr/>
              <p:nvPr/>
            </p:nvSpPr>
            <p:spPr>
              <a:xfrm rot="1825800">
                <a:off x="4006440" y="3796560"/>
                <a:ext cx="339840" cy="10476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Oval 16"/>
              <p:cNvSpPr/>
              <p:nvPr/>
            </p:nvSpPr>
            <p:spPr>
              <a:xfrm rot="6727800">
                <a:off x="4040640" y="3741840"/>
                <a:ext cx="159120" cy="3427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Oval 17"/>
              <p:cNvSpPr/>
              <p:nvPr/>
            </p:nvSpPr>
            <p:spPr>
              <a:xfrm rot="6727800">
                <a:off x="4097160" y="3920760"/>
                <a:ext cx="2268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Straight Connector 18"/>
              <p:cNvSpPr/>
              <p:nvPr/>
            </p:nvSpPr>
            <p:spPr>
              <a:xfrm flipH="1">
                <a:off x="4115160" y="3839040"/>
                <a:ext cx="4212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Straight Connector 19"/>
              <p:cNvSpPr/>
              <p:nvPr/>
            </p:nvSpPr>
            <p:spPr>
              <a:xfrm>
                <a:off x="3983400" y="3927240"/>
                <a:ext cx="10044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Straight Connector 20"/>
              <p:cNvSpPr/>
              <p:nvPr/>
            </p:nvSpPr>
            <p:spPr>
              <a:xfrm flipH="1" flipV="1">
                <a:off x="4134960" y="3956760"/>
                <a:ext cx="72720" cy="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Straight Connector 12"/>
            <p:cNvSpPr/>
            <p:nvPr/>
          </p:nvSpPr>
          <p:spPr>
            <a:xfrm>
              <a:off x="4145400" y="3749040"/>
              <a:ext cx="58320" cy="5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Straight Connector 13"/>
            <p:cNvSpPr/>
            <p:nvPr/>
          </p:nvSpPr>
          <p:spPr>
            <a:xfrm flipV="1">
              <a:off x="4008600" y="3516840"/>
              <a:ext cx="60120" cy="19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Parallelogram 14"/>
            <p:cNvSpPr/>
            <p:nvPr/>
          </p:nvSpPr>
          <p:spPr>
            <a:xfrm rot="9700800">
              <a:off x="3239640" y="3528360"/>
              <a:ext cx="888120" cy="232200"/>
            </a:xfrm>
            <a:prstGeom prst="parallelogram">
              <a:avLst>
                <a:gd name="adj" fmla="val 879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8" name="Group 21" descr=""/>
          <p:cNvPicPr/>
          <p:nvPr/>
        </p:nvPicPr>
        <p:blipFill>
          <a:blip r:embed="rId1"/>
          <a:stretch/>
        </p:blipFill>
        <p:spPr>
          <a:xfrm>
            <a:off x="1517760" y="1596960"/>
            <a:ext cx="1549440" cy="1622520"/>
          </a:xfrm>
          <a:prstGeom prst="rect">
            <a:avLst/>
          </a:prstGeom>
          <a:ln w="0">
            <a:noFill/>
          </a:ln>
        </p:spPr>
      </p:pic>
      <p:sp>
        <p:nvSpPr>
          <p:cNvPr id="709" name="Oval 24"/>
          <p:cNvSpPr/>
          <p:nvPr/>
        </p:nvSpPr>
        <p:spPr>
          <a:xfrm>
            <a:off x="3011400" y="5950080"/>
            <a:ext cx="304920" cy="304560"/>
          </a:xfrm>
          <a:prstGeom prst="ellipse">
            <a:avLst/>
          </a:prstGeom>
          <a:solidFill>
            <a:srgbClr val="a0b7f6"/>
          </a:solidFill>
          <a:ln w="12600">
            <a:solidFill>
              <a:srgbClr val="416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Group 25" descr=""/>
          <p:cNvPicPr/>
          <p:nvPr/>
        </p:nvPicPr>
        <p:blipFill>
          <a:blip r:embed="rId2"/>
          <a:stretch/>
        </p:blipFill>
        <p:spPr>
          <a:xfrm>
            <a:off x="7596360" y="3328920"/>
            <a:ext cx="669600" cy="669960"/>
          </a:xfrm>
          <a:prstGeom prst="rect">
            <a:avLst/>
          </a:prstGeom>
          <a:ln w="0">
            <a:noFill/>
          </a:ln>
        </p:spPr>
      </p:pic>
      <p:sp>
        <p:nvSpPr>
          <p:cNvPr id="711" name="TextBox 29"/>
          <p:cNvSpPr/>
          <p:nvPr/>
        </p:nvSpPr>
        <p:spPr>
          <a:xfrm>
            <a:off x="1073160" y="1606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30"/>
          <p:cNvSpPr/>
          <p:nvPr/>
        </p:nvSpPr>
        <p:spPr>
          <a:xfrm>
            <a:off x="3164040" y="38592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T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31"/>
          <p:cNvSpPr/>
          <p:nvPr/>
        </p:nvSpPr>
        <p:spPr>
          <a:xfrm>
            <a:off x="7931160" y="31305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32"/>
          <p:cNvSpPr/>
          <p:nvPr/>
        </p:nvSpPr>
        <p:spPr>
          <a:xfrm>
            <a:off x="3164040" y="6178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33"/>
          <p:cNvSpPr/>
          <p:nvPr/>
        </p:nvSpPr>
        <p:spPr>
          <a:xfrm>
            <a:off x="5797440" y="54928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Remote Sensing Lesson “Obtaining Target States and Position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6" name="Straight Arrow Connector 35"/>
          <p:cNvCxnSpPr/>
          <p:nvPr/>
        </p:nvCxnSpPr>
        <p:spPr>
          <a:xfrm flipH="1">
            <a:off x="3164040" y="3445560"/>
            <a:ext cx="1033560" cy="265644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717" name="TextBox 37"/>
          <p:cNvSpPr/>
          <p:nvPr/>
        </p:nvSpPr>
        <p:spPr>
          <a:xfrm>
            <a:off x="3544920" y="48837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Earth as seen from ExoMars-16 T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8" name="Straight Arrow Connector 38"/>
          <p:cNvCxnSpPr/>
          <p:nvPr/>
        </p:nvCxnSpPr>
        <p:spPr>
          <a:xfrm flipH="1" flipV="1">
            <a:off x="2215440" y="2368080"/>
            <a:ext cx="1981800" cy="10785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719" name="TextBox 41"/>
          <p:cNvSpPr/>
          <p:nvPr/>
        </p:nvSpPr>
        <p:spPr>
          <a:xfrm>
            <a:off x="2521080" y="311220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Mars as seen from ExoMars-16 T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0" name="Straight Arrow Connector 44"/>
          <p:cNvCxnSpPr/>
          <p:nvPr/>
        </p:nvCxnSpPr>
        <p:spPr>
          <a:xfrm>
            <a:off x="2215800" y="2368080"/>
            <a:ext cx="5715720" cy="12963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721" name="TextBox 48"/>
          <p:cNvSpPr/>
          <p:nvPr/>
        </p:nvSpPr>
        <p:spPr>
          <a:xfrm>
            <a:off x="5340240" y="267408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Sun as seen from 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Group 36" descr=""/>
          <p:cNvPicPr/>
          <p:nvPr/>
        </p:nvPicPr>
        <p:blipFill>
          <a:blip r:embed="rId1"/>
          <a:stretch/>
        </p:blipFill>
        <p:spPr>
          <a:xfrm>
            <a:off x="1504800" y="1895400"/>
            <a:ext cx="1549440" cy="1622520"/>
          </a:xfrm>
          <a:prstGeom prst="rect">
            <a:avLst/>
          </a:prstGeom>
          <a:ln w="0">
            <a:noFill/>
          </a:ln>
        </p:spPr>
      </p:pic>
      <p:sp>
        <p:nvSpPr>
          <p:cNvPr id="723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C67F-9DF9-4749-9E2A-020D18FC8A8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436840" y="380520"/>
            <a:ext cx="5897520" cy="490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xform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725" name="Group 6"/>
          <p:cNvGrpSpPr/>
          <p:nvPr/>
        </p:nvGrpSpPr>
        <p:grpSpPr>
          <a:xfrm>
            <a:off x="3682800" y="3885480"/>
            <a:ext cx="1674000" cy="928080"/>
            <a:chOff x="3682800" y="3885480"/>
            <a:chExt cx="1674000" cy="928080"/>
          </a:xfrm>
        </p:grpSpPr>
        <p:sp>
          <p:nvSpPr>
            <p:cNvPr id="726" name="Parallelogram 7"/>
            <p:cNvSpPr/>
            <p:nvPr/>
          </p:nvSpPr>
          <p:spPr>
            <a:xfrm rot="9700800">
              <a:off x="4575960" y="4041360"/>
              <a:ext cx="763560" cy="232200"/>
            </a:xfrm>
            <a:prstGeom prst="parallelogram">
              <a:avLst>
                <a:gd name="adj" fmla="val 8791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Parallelogram 8"/>
            <p:cNvSpPr/>
            <p:nvPr/>
          </p:nvSpPr>
          <p:spPr>
            <a:xfrm rot="17591400">
              <a:off x="4267440" y="4169520"/>
              <a:ext cx="488880" cy="208440"/>
            </a:xfrm>
            <a:prstGeom prst="parallelogram">
              <a:avLst>
                <a:gd name="adj" fmla="val 26093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Parallelogram 9"/>
            <p:cNvSpPr/>
            <p:nvPr/>
          </p:nvSpPr>
          <p:spPr>
            <a:xfrm rot="2221800">
              <a:off x="4523760" y="3968280"/>
              <a:ext cx="327600" cy="154800"/>
            </a:xfrm>
            <a:prstGeom prst="parallelogram">
              <a:avLst>
                <a:gd name="adj" fmla="val 7029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Parallelogram 10"/>
            <p:cNvSpPr/>
            <p:nvPr/>
          </p:nvSpPr>
          <p:spPr>
            <a:xfrm rot="9717600">
              <a:off x="4449240" y="4147560"/>
              <a:ext cx="478080" cy="326520"/>
            </a:xfrm>
            <a:prstGeom prst="parallelogram">
              <a:avLst>
                <a:gd name="adj" fmla="val 87822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Group 24"/>
            <p:cNvGrpSpPr/>
            <p:nvPr/>
          </p:nvGrpSpPr>
          <p:grpSpPr>
            <a:xfrm>
              <a:off x="4389120" y="4479840"/>
              <a:ext cx="417600" cy="333720"/>
              <a:chOff x="4389120" y="4479840"/>
              <a:chExt cx="417600" cy="333720"/>
            </a:xfrm>
          </p:grpSpPr>
          <p:sp>
            <p:nvSpPr>
              <p:cNvPr id="731" name="Isosceles Triangle 15"/>
              <p:cNvSpPr/>
              <p:nvPr/>
            </p:nvSpPr>
            <p:spPr>
              <a:xfrm rot="1825800">
                <a:off x="4463640" y="4558680"/>
                <a:ext cx="339840" cy="10476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Oval 16"/>
              <p:cNvSpPr/>
              <p:nvPr/>
            </p:nvSpPr>
            <p:spPr>
              <a:xfrm rot="6727800">
                <a:off x="4497840" y="4503960"/>
                <a:ext cx="159120" cy="3427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Oval 17"/>
              <p:cNvSpPr/>
              <p:nvPr/>
            </p:nvSpPr>
            <p:spPr>
              <a:xfrm rot="6727800">
                <a:off x="4554360" y="4682880"/>
                <a:ext cx="2268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Straight Connector 18"/>
              <p:cNvSpPr/>
              <p:nvPr/>
            </p:nvSpPr>
            <p:spPr>
              <a:xfrm flipH="1">
                <a:off x="4572360" y="4601160"/>
                <a:ext cx="4212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Straight Connector 19"/>
              <p:cNvSpPr/>
              <p:nvPr/>
            </p:nvSpPr>
            <p:spPr>
              <a:xfrm>
                <a:off x="4440600" y="4689360"/>
                <a:ext cx="10044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Straight Connector 20"/>
              <p:cNvSpPr/>
              <p:nvPr/>
            </p:nvSpPr>
            <p:spPr>
              <a:xfrm flipH="1" flipV="1">
                <a:off x="4592160" y="4718880"/>
                <a:ext cx="72720" cy="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7" name="Straight Connector 12"/>
            <p:cNvSpPr/>
            <p:nvPr/>
          </p:nvSpPr>
          <p:spPr>
            <a:xfrm>
              <a:off x="4602600" y="4511160"/>
              <a:ext cx="58320" cy="5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Straight Connector 13"/>
            <p:cNvSpPr/>
            <p:nvPr/>
          </p:nvSpPr>
          <p:spPr>
            <a:xfrm flipV="1">
              <a:off x="4465800" y="4278600"/>
              <a:ext cx="60120" cy="19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Parallelogram 14"/>
            <p:cNvSpPr/>
            <p:nvPr/>
          </p:nvSpPr>
          <p:spPr>
            <a:xfrm rot="9700800">
              <a:off x="3696840" y="4290120"/>
              <a:ext cx="888120" cy="232200"/>
            </a:xfrm>
            <a:prstGeom prst="parallelogram">
              <a:avLst>
                <a:gd name="adj" fmla="val 879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Oval 24"/>
          <p:cNvSpPr/>
          <p:nvPr/>
        </p:nvSpPr>
        <p:spPr>
          <a:xfrm>
            <a:off x="3011400" y="5950080"/>
            <a:ext cx="304920" cy="304560"/>
          </a:xfrm>
          <a:prstGeom prst="ellipse">
            <a:avLst/>
          </a:prstGeom>
          <a:solidFill>
            <a:srgbClr val="a0b7f6"/>
          </a:solidFill>
          <a:ln w="12600">
            <a:solidFill>
              <a:srgbClr val="416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Group 25" descr=""/>
          <p:cNvPicPr/>
          <p:nvPr/>
        </p:nvPicPr>
        <p:blipFill>
          <a:blip r:embed="rId2"/>
          <a:stretch/>
        </p:blipFill>
        <p:spPr>
          <a:xfrm>
            <a:off x="7596360" y="5005440"/>
            <a:ext cx="669600" cy="669960"/>
          </a:xfrm>
          <a:prstGeom prst="rect">
            <a:avLst/>
          </a:prstGeom>
          <a:ln w="0">
            <a:noFill/>
          </a:ln>
        </p:spPr>
      </p:pic>
      <p:sp>
        <p:nvSpPr>
          <p:cNvPr id="742" name="TextBox 29"/>
          <p:cNvSpPr/>
          <p:nvPr/>
        </p:nvSpPr>
        <p:spPr>
          <a:xfrm>
            <a:off x="1073160" y="191124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0"/>
          <p:cNvSpPr/>
          <p:nvPr/>
        </p:nvSpPr>
        <p:spPr>
          <a:xfrm>
            <a:off x="3621240" y="4621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T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31"/>
          <p:cNvSpPr/>
          <p:nvPr/>
        </p:nvSpPr>
        <p:spPr>
          <a:xfrm>
            <a:off x="7931160" y="4807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32"/>
          <p:cNvSpPr/>
          <p:nvPr/>
        </p:nvSpPr>
        <p:spPr>
          <a:xfrm>
            <a:off x="3164040" y="6178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33"/>
          <p:cNvSpPr/>
          <p:nvPr/>
        </p:nvSpPr>
        <p:spPr>
          <a:xfrm>
            <a:off x="6635880" y="20638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Remote Sensing Lesson “Spacecraft Orientation and Reference Fram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7" name="Straight Arrow Connector 38"/>
          <p:cNvCxnSpPr/>
          <p:nvPr/>
        </p:nvCxnSpPr>
        <p:spPr>
          <a:xfrm flipH="1" flipV="1">
            <a:off x="2292120" y="2673000"/>
            <a:ext cx="2381760" cy="138168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748" name="TextBox 41"/>
          <p:cNvSpPr/>
          <p:nvPr/>
        </p:nvSpPr>
        <p:spPr>
          <a:xfrm>
            <a:off x="2825640" y="3588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Mars as seen from ExoMars-16 T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Straight Arrow Connector 43"/>
          <p:cNvCxnSpPr/>
          <p:nvPr/>
        </p:nvCxnSpPr>
        <p:spPr>
          <a:xfrm flipH="1" flipV="1">
            <a:off x="2063160" y="1682280"/>
            <a:ext cx="229320" cy="99144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50" name="Straight Arrow Connector 45"/>
          <p:cNvCxnSpPr/>
          <p:nvPr/>
        </p:nvCxnSpPr>
        <p:spPr>
          <a:xfrm>
            <a:off x="2292480" y="2673360"/>
            <a:ext cx="915120" cy="766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51" name="Straight Arrow Connector 49"/>
          <p:cNvCxnSpPr/>
          <p:nvPr/>
        </p:nvCxnSpPr>
        <p:spPr>
          <a:xfrm flipH="1">
            <a:off x="1878840" y="2673000"/>
            <a:ext cx="413640" cy="7038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752" name="TextBox 58"/>
          <p:cNvSpPr/>
          <p:nvPr/>
        </p:nvSpPr>
        <p:spPr>
          <a:xfrm>
            <a:off x="2139840" y="16066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IAU_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3" name="Straight Arrow Connector 62"/>
          <p:cNvCxnSpPr/>
          <p:nvPr/>
        </p:nvCxnSpPr>
        <p:spPr>
          <a:xfrm>
            <a:off x="4697280" y="4049640"/>
            <a:ext cx="610560" cy="45792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54" name="Straight Arrow Connector 64"/>
          <p:cNvCxnSpPr/>
          <p:nvPr/>
        </p:nvCxnSpPr>
        <p:spPr>
          <a:xfrm flipV="1">
            <a:off x="4700160" y="3752280"/>
            <a:ext cx="842040" cy="2862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55" name="Straight Arrow Connector 71"/>
          <p:cNvCxnSpPr/>
          <p:nvPr/>
        </p:nvCxnSpPr>
        <p:spPr>
          <a:xfrm flipV="1">
            <a:off x="4697280" y="3206160"/>
            <a:ext cx="339120" cy="8434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56" name="Straight Arrow Connector 74"/>
          <p:cNvCxnSpPr/>
          <p:nvPr/>
        </p:nvCxnSpPr>
        <p:spPr>
          <a:xfrm flipH="1" flipV="1">
            <a:off x="3282120" y="2977920"/>
            <a:ext cx="1415160" cy="107208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sp>
        <p:nvSpPr>
          <p:cNvPr id="757" name="TextBox 76"/>
          <p:cNvSpPr/>
          <p:nvPr/>
        </p:nvSpPr>
        <p:spPr>
          <a:xfrm>
            <a:off x="4883040" y="351144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TGO_SPACECRA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77"/>
          <p:cNvSpPr/>
          <p:nvPr/>
        </p:nvSpPr>
        <p:spPr>
          <a:xfrm>
            <a:off x="3664080" y="31312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Nominal instrument view dir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79"/>
          <p:cNvSpPr/>
          <p:nvPr/>
        </p:nvSpPr>
        <p:spPr>
          <a:xfrm>
            <a:off x="3435480" y="3282840"/>
            <a:ext cx="228600" cy="76320"/>
          </a:xfrm>
          <a:prstGeom prst="pie">
            <a:avLst/>
          </a:prstGeom>
          <a:noFill/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82"/>
          <p:cNvSpPr/>
          <p:nvPr/>
        </p:nvSpPr>
        <p:spPr>
          <a:xfrm>
            <a:off x="3206880" y="2978280"/>
            <a:ext cx="3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Lucida Grande"/>
              </a:rPr>
              <a:t>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83"/>
          <p:cNvSpPr/>
          <p:nvPr/>
        </p:nvSpPr>
        <p:spPr>
          <a:xfrm>
            <a:off x="615960" y="4730760"/>
            <a:ext cx="2133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Lucida Grande"/>
              </a:rPr>
              <a:t>α: </a:t>
            </a:r>
            <a:r>
              <a:rPr b="0" lang="en-US" sz="1000" spc="-1" strike="noStrike">
                <a:solidFill>
                  <a:srgbClr val="fc0128"/>
                </a:solidFill>
                <a:latin typeface="Lucida Grande"/>
              </a:rPr>
              <a:t>Angular separation between nominal instrument direction and direction to 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Group 36" descr=""/>
          <p:cNvPicPr/>
          <p:nvPr/>
        </p:nvPicPr>
        <p:blipFill>
          <a:blip r:embed="rId1"/>
          <a:stretch/>
        </p:blipFill>
        <p:spPr>
          <a:xfrm>
            <a:off x="1504800" y="1974960"/>
            <a:ext cx="1549440" cy="1622160"/>
          </a:xfrm>
          <a:prstGeom prst="rect">
            <a:avLst/>
          </a:prstGeom>
          <a:ln w="0">
            <a:noFill/>
          </a:ln>
        </p:spPr>
      </p:pic>
      <p:sp>
        <p:nvSpPr>
          <p:cNvPr id="763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36F3-FDDC-46F1-81EE-77D86F60F78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333520" y="380520"/>
            <a:ext cx="6104160" cy="490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subpts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765" name="Group 6"/>
          <p:cNvGrpSpPr/>
          <p:nvPr/>
        </p:nvGrpSpPr>
        <p:grpSpPr>
          <a:xfrm>
            <a:off x="3682800" y="3961800"/>
            <a:ext cx="1674000" cy="928080"/>
            <a:chOff x="3682800" y="3961800"/>
            <a:chExt cx="1674000" cy="928080"/>
          </a:xfrm>
        </p:grpSpPr>
        <p:sp>
          <p:nvSpPr>
            <p:cNvPr id="766" name="Parallelogram 7"/>
            <p:cNvSpPr/>
            <p:nvPr/>
          </p:nvSpPr>
          <p:spPr>
            <a:xfrm rot="9700800">
              <a:off x="4575960" y="4117680"/>
              <a:ext cx="763560" cy="232200"/>
            </a:xfrm>
            <a:prstGeom prst="parallelogram">
              <a:avLst>
                <a:gd name="adj" fmla="val 8791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Parallelogram 8"/>
            <p:cNvSpPr/>
            <p:nvPr/>
          </p:nvSpPr>
          <p:spPr>
            <a:xfrm rot="17591400">
              <a:off x="4267440" y="4245840"/>
              <a:ext cx="488880" cy="208440"/>
            </a:xfrm>
            <a:prstGeom prst="parallelogram">
              <a:avLst>
                <a:gd name="adj" fmla="val 26093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Parallelogram 9"/>
            <p:cNvSpPr/>
            <p:nvPr/>
          </p:nvSpPr>
          <p:spPr>
            <a:xfrm rot="2221800">
              <a:off x="4523760" y="4044600"/>
              <a:ext cx="327600" cy="154800"/>
            </a:xfrm>
            <a:prstGeom prst="parallelogram">
              <a:avLst>
                <a:gd name="adj" fmla="val 7029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Parallelogram 10"/>
            <p:cNvSpPr/>
            <p:nvPr/>
          </p:nvSpPr>
          <p:spPr>
            <a:xfrm rot="9717600">
              <a:off x="4449240" y="4223880"/>
              <a:ext cx="478080" cy="326520"/>
            </a:xfrm>
            <a:prstGeom prst="parallelogram">
              <a:avLst>
                <a:gd name="adj" fmla="val 87822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" name="Group 24"/>
            <p:cNvGrpSpPr/>
            <p:nvPr/>
          </p:nvGrpSpPr>
          <p:grpSpPr>
            <a:xfrm>
              <a:off x="4389120" y="4556160"/>
              <a:ext cx="417600" cy="333720"/>
              <a:chOff x="4389120" y="4556160"/>
              <a:chExt cx="417600" cy="333720"/>
            </a:xfrm>
          </p:grpSpPr>
          <p:sp>
            <p:nvSpPr>
              <p:cNvPr id="771" name="Isosceles Triangle 15"/>
              <p:cNvSpPr/>
              <p:nvPr/>
            </p:nvSpPr>
            <p:spPr>
              <a:xfrm rot="1825800">
                <a:off x="4463640" y="4635000"/>
                <a:ext cx="339840" cy="10476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Oval 16"/>
              <p:cNvSpPr/>
              <p:nvPr/>
            </p:nvSpPr>
            <p:spPr>
              <a:xfrm rot="6727800">
                <a:off x="4497840" y="4580280"/>
                <a:ext cx="159120" cy="3427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Oval 17"/>
              <p:cNvSpPr/>
              <p:nvPr/>
            </p:nvSpPr>
            <p:spPr>
              <a:xfrm rot="6727800">
                <a:off x="4554360" y="4759200"/>
                <a:ext cx="2268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Straight Connector 18"/>
              <p:cNvSpPr/>
              <p:nvPr/>
            </p:nvSpPr>
            <p:spPr>
              <a:xfrm flipH="1">
                <a:off x="4572360" y="4677480"/>
                <a:ext cx="4212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Straight Connector 19"/>
              <p:cNvSpPr/>
              <p:nvPr/>
            </p:nvSpPr>
            <p:spPr>
              <a:xfrm>
                <a:off x="4440600" y="4765680"/>
                <a:ext cx="10044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Straight Connector 20"/>
              <p:cNvSpPr/>
              <p:nvPr/>
            </p:nvSpPr>
            <p:spPr>
              <a:xfrm flipH="1" flipV="1">
                <a:off x="4592160" y="4795200"/>
                <a:ext cx="72720" cy="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7" name="Straight Connector 12"/>
            <p:cNvSpPr/>
            <p:nvPr/>
          </p:nvSpPr>
          <p:spPr>
            <a:xfrm>
              <a:off x="4602600" y="4587480"/>
              <a:ext cx="58320" cy="5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Straight Connector 13"/>
            <p:cNvSpPr/>
            <p:nvPr/>
          </p:nvSpPr>
          <p:spPr>
            <a:xfrm flipV="1">
              <a:off x="4465800" y="4354920"/>
              <a:ext cx="60120" cy="19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Parallelogram 14"/>
            <p:cNvSpPr/>
            <p:nvPr/>
          </p:nvSpPr>
          <p:spPr>
            <a:xfrm rot="9700800">
              <a:off x="3696840" y="4366440"/>
              <a:ext cx="888120" cy="232200"/>
            </a:xfrm>
            <a:prstGeom prst="parallelogram">
              <a:avLst>
                <a:gd name="adj" fmla="val 879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Oval 24"/>
          <p:cNvSpPr/>
          <p:nvPr/>
        </p:nvSpPr>
        <p:spPr>
          <a:xfrm>
            <a:off x="3011400" y="5950080"/>
            <a:ext cx="304920" cy="304560"/>
          </a:xfrm>
          <a:prstGeom prst="ellipse">
            <a:avLst/>
          </a:prstGeom>
          <a:solidFill>
            <a:srgbClr val="a0b7f6"/>
          </a:solidFill>
          <a:ln w="12600">
            <a:solidFill>
              <a:srgbClr val="416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Group 25" descr=""/>
          <p:cNvPicPr/>
          <p:nvPr/>
        </p:nvPicPr>
        <p:blipFill>
          <a:blip r:embed="rId2"/>
          <a:stretch/>
        </p:blipFill>
        <p:spPr>
          <a:xfrm>
            <a:off x="7523280" y="2798640"/>
            <a:ext cx="663480" cy="663840"/>
          </a:xfrm>
          <a:prstGeom prst="rect">
            <a:avLst/>
          </a:prstGeom>
          <a:ln w="0">
            <a:noFill/>
          </a:ln>
        </p:spPr>
      </p:pic>
      <p:sp>
        <p:nvSpPr>
          <p:cNvPr id="782" name="TextBox 29"/>
          <p:cNvSpPr/>
          <p:nvPr/>
        </p:nvSpPr>
        <p:spPr>
          <a:xfrm>
            <a:off x="1073160" y="19875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30"/>
          <p:cNvSpPr/>
          <p:nvPr/>
        </p:nvSpPr>
        <p:spPr>
          <a:xfrm>
            <a:off x="3621240" y="46972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T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31"/>
          <p:cNvSpPr/>
          <p:nvPr/>
        </p:nvSpPr>
        <p:spPr>
          <a:xfrm>
            <a:off x="7854840" y="259704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32"/>
          <p:cNvSpPr/>
          <p:nvPr/>
        </p:nvSpPr>
        <p:spPr>
          <a:xfrm>
            <a:off x="3164040" y="6178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3"/>
          <p:cNvSpPr/>
          <p:nvPr/>
        </p:nvSpPr>
        <p:spPr>
          <a:xfrm>
            <a:off x="6102360" y="5340240"/>
            <a:ext cx="236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Remote Sensing Lesson “Computing Sub-spacecraft and Sub-solar Poin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7" name="Straight Arrow Connector 38"/>
          <p:cNvCxnSpPr/>
          <p:nvPr/>
        </p:nvCxnSpPr>
        <p:spPr>
          <a:xfrm flipH="1" flipV="1">
            <a:off x="2596680" y="3053880"/>
            <a:ext cx="2057760" cy="123120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788" name="TextBox 41"/>
          <p:cNvSpPr/>
          <p:nvPr/>
        </p:nvSpPr>
        <p:spPr>
          <a:xfrm>
            <a:off x="1682640" y="361692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Sub-spacecraft point on Mars (nearest-poi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9" name="Straight Arrow Connector 43"/>
          <p:cNvCxnSpPr/>
          <p:nvPr/>
        </p:nvCxnSpPr>
        <p:spPr>
          <a:xfrm flipH="1" flipV="1">
            <a:off x="2063160" y="1758600"/>
            <a:ext cx="229320" cy="99144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90" name="Straight Arrow Connector 45"/>
          <p:cNvCxnSpPr/>
          <p:nvPr/>
        </p:nvCxnSpPr>
        <p:spPr>
          <a:xfrm>
            <a:off x="2292480" y="2749320"/>
            <a:ext cx="915120" cy="766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91" name="Straight Arrow Connector 49"/>
          <p:cNvCxnSpPr/>
          <p:nvPr/>
        </p:nvCxnSpPr>
        <p:spPr>
          <a:xfrm flipH="1">
            <a:off x="1878840" y="2749320"/>
            <a:ext cx="413640" cy="7038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792" name="TextBox 58"/>
          <p:cNvSpPr/>
          <p:nvPr/>
        </p:nvSpPr>
        <p:spPr>
          <a:xfrm>
            <a:off x="2139840" y="168264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IAU_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3" name="Straight Arrow Connector 48"/>
          <p:cNvCxnSpPr/>
          <p:nvPr/>
        </p:nvCxnSpPr>
        <p:spPr>
          <a:xfrm flipH="1" flipV="1">
            <a:off x="2901960" y="2901240"/>
            <a:ext cx="4953240" cy="22932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794" name="Straight Arrow Connector 52"/>
          <p:cNvCxnSpPr/>
          <p:nvPr/>
        </p:nvCxnSpPr>
        <p:spPr>
          <a:xfrm>
            <a:off x="2292480" y="2749680"/>
            <a:ext cx="305280" cy="30528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sm" type="arrow" w="sm"/>
          </a:ln>
        </p:spPr>
      </p:cxnSp>
      <p:cxnSp>
        <p:nvCxnSpPr>
          <p:cNvPr id="795" name="Straight Arrow Connector 55"/>
          <p:cNvCxnSpPr/>
          <p:nvPr/>
        </p:nvCxnSpPr>
        <p:spPr>
          <a:xfrm>
            <a:off x="2292120" y="2749320"/>
            <a:ext cx="610200" cy="15444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sm" type="arrow" w="sm"/>
          </a:ln>
        </p:spPr>
      </p:cxnSp>
      <p:sp>
        <p:nvSpPr>
          <p:cNvPr id="796" name="TextBox 59"/>
          <p:cNvSpPr/>
          <p:nvPr/>
        </p:nvSpPr>
        <p:spPr>
          <a:xfrm>
            <a:off x="3054240" y="252180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Sub-solar point on Mars (nearest-poi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Group 36" descr=""/>
          <p:cNvPicPr/>
          <p:nvPr/>
        </p:nvPicPr>
        <p:blipFill>
          <a:blip r:embed="rId1"/>
          <a:stretch/>
        </p:blipFill>
        <p:spPr>
          <a:xfrm>
            <a:off x="1504800" y="1822320"/>
            <a:ext cx="1549440" cy="162252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CA28-59BB-4E37-A539-C1A5C998D57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448000" y="380520"/>
            <a:ext cx="5875200" cy="490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fovint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800" name="Group 6"/>
          <p:cNvGrpSpPr/>
          <p:nvPr/>
        </p:nvGrpSpPr>
        <p:grpSpPr>
          <a:xfrm>
            <a:off x="3682800" y="3809520"/>
            <a:ext cx="1674000" cy="927720"/>
            <a:chOff x="3682800" y="3809520"/>
            <a:chExt cx="1674000" cy="927720"/>
          </a:xfrm>
        </p:grpSpPr>
        <p:sp>
          <p:nvSpPr>
            <p:cNvPr id="801" name="Parallelogram 7"/>
            <p:cNvSpPr/>
            <p:nvPr/>
          </p:nvSpPr>
          <p:spPr>
            <a:xfrm rot="9700800">
              <a:off x="4575960" y="3965400"/>
              <a:ext cx="763560" cy="232200"/>
            </a:xfrm>
            <a:prstGeom prst="parallelogram">
              <a:avLst>
                <a:gd name="adj" fmla="val 8791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Parallelogram 8"/>
            <p:cNvSpPr/>
            <p:nvPr/>
          </p:nvSpPr>
          <p:spPr>
            <a:xfrm rot="17591400">
              <a:off x="4267440" y="4093560"/>
              <a:ext cx="488880" cy="208440"/>
            </a:xfrm>
            <a:prstGeom prst="parallelogram">
              <a:avLst>
                <a:gd name="adj" fmla="val 26093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Parallelogram 9"/>
            <p:cNvSpPr/>
            <p:nvPr/>
          </p:nvSpPr>
          <p:spPr>
            <a:xfrm rot="2221800">
              <a:off x="4523760" y="3892320"/>
              <a:ext cx="327600" cy="154800"/>
            </a:xfrm>
            <a:prstGeom prst="parallelogram">
              <a:avLst>
                <a:gd name="adj" fmla="val 7029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Parallelogram 10"/>
            <p:cNvSpPr/>
            <p:nvPr/>
          </p:nvSpPr>
          <p:spPr>
            <a:xfrm rot="9717600">
              <a:off x="4449240" y="4071960"/>
              <a:ext cx="478080" cy="326160"/>
            </a:xfrm>
            <a:prstGeom prst="parallelogram">
              <a:avLst>
                <a:gd name="adj" fmla="val 8792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24"/>
            <p:cNvGrpSpPr/>
            <p:nvPr/>
          </p:nvGrpSpPr>
          <p:grpSpPr>
            <a:xfrm>
              <a:off x="4389120" y="4403520"/>
              <a:ext cx="417600" cy="333720"/>
              <a:chOff x="4389120" y="4403520"/>
              <a:chExt cx="417600" cy="333720"/>
            </a:xfrm>
          </p:grpSpPr>
          <p:sp>
            <p:nvSpPr>
              <p:cNvPr id="806" name="Isosceles Triangle 15"/>
              <p:cNvSpPr/>
              <p:nvPr/>
            </p:nvSpPr>
            <p:spPr>
              <a:xfrm rot="1825800">
                <a:off x="4463640" y="4482360"/>
                <a:ext cx="339840" cy="10476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Oval 16"/>
              <p:cNvSpPr/>
              <p:nvPr/>
            </p:nvSpPr>
            <p:spPr>
              <a:xfrm rot="6727800">
                <a:off x="4497840" y="4427640"/>
                <a:ext cx="159120" cy="3427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Oval 17"/>
              <p:cNvSpPr/>
              <p:nvPr/>
            </p:nvSpPr>
            <p:spPr>
              <a:xfrm rot="6727800">
                <a:off x="4554360" y="4606560"/>
                <a:ext cx="2268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Straight Connector 18"/>
              <p:cNvSpPr/>
              <p:nvPr/>
            </p:nvSpPr>
            <p:spPr>
              <a:xfrm flipH="1">
                <a:off x="4572360" y="4524840"/>
                <a:ext cx="4212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Straight Connector 19"/>
              <p:cNvSpPr/>
              <p:nvPr/>
            </p:nvSpPr>
            <p:spPr>
              <a:xfrm>
                <a:off x="4440600" y="4613040"/>
                <a:ext cx="10044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Straight Connector 20"/>
              <p:cNvSpPr/>
              <p:nvPr/>
            </p:nvSpPr>
            <p:spPr>
              <a:xfrm flipH="1" flipV="1">
                <a:off x="4592160" y="4642560"/>
                <a:ext cx="72720" cy="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Straight Connector 12"/>
            <p:cNvSpPr/>
            <p:nvPr/>
          </p:nvSpPr>
          <p:spPr>
            <a:xfrm>
              <a:off x="4602600" y="4434840"/>
              <a:ext cx="58320" cy="5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Straight Connector 13"/>
            <p:cNvSpPr/>
            <p:nvPr/>
          </p:nvSpPr>
          <p:spPr>
            <a:xfrm flipV="1">
              <a:off x="4465800" y="4202640"/>
              <a:ext cx="60120" cy="19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Parallelogram 14"/>
            <p:cNvSpPr/>
            <p:nvPr/>
          </p:nvSpPr>
          <p:spPr>
            <a:xfrm rot="9700800">
              <a:off x="3696840" y="4214160"/>
              <a:ext cx="888120" cy="232200"/>
            </a:xfrm>
            <a:prstGeom prst="parallelogram">
              <a:avLst>
                <a:gd name="adj" fmla="val 879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Oval 24"/>
          <p:cNvSpPr/>
          <p:nvPr/>
        </p:nvSpPr>
        <p:spPr>
          <a:xfrm>
            <a:off x="3011400" y="5950080"/>
            <a:ext cx="304920" cy="304560"/>
          </a:xfrm>
          <a:prstGeom prst="ellipse">
            <a:avLst/>
          </a:prstGeom>
          <a:solidFill>
            <a:srgbClr val="a0b7f6"/>
          </a:solidFill>
          <a:ln w="12600">
            <a:solidFill>
              <a:srgbClr val="416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Group 25" descr=""/>
          <p:cNvPicPr/>
          <p:nvPr/>
        </p:nvPicPr>
        <p:blipFill>
          <a:blip r:embed="rId2"/>
          <a:stretch/>
        </p:blipFill>
        <p:spPr>
          <a:xfrm>
            <a:off x="7523280" y="2646360"/>
            <a:ext cx="663480" cy="663480"/>
          </a:xfrm>
          <a:prstGeom prst="rect">
            <a:avLst/>
          </a:prstGeom>
          <a:ln w="0">
            <a:noFill/>
          </a:ln>
        </p:spPr>
      </p:pic>
      <p:sp>
        <p:nvSpPr>
          <p:cNvPr id="817" name="TextBox 29"/>
          <p:cNvSpPr/>
          <p:nvPr/>
        </p:nvSpPr>
        <p:spPr>
          <a:xfrm>
            <a:off x="1073160" y="18352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30"/>
          <p:cNvSpPr/>
          <p:nvPr/>
        </p:nvSpPr>
        <p:spPr>
          <a:xfrm>
            <a:off x="3621240" y="4545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T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31"/>
          <p:cNvSpPr/>
          <p:nvPr/>
        </p:nvSpPr>
        <p:spPr>
          <a:xfrm>
            <a:off x="7854840" y="24447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32"/>
          <p:cNvSpPr/>
          <p:nvPr/>
        </p:nvSpPr>
        <p:spPr>
          <a:xfrm>
            <a:off x="3164040" y="6178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33"/>
          <p:cNvSpPr/>
          <p:nvPr/>
        </p:nvSpPr>
        <p:spPr>
          <a:xfrm>
            <a:off x="6102360" y="5340240"/>
            <a:ext cx="236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Remote Sensing Lesson “Intersecting Vectors with a Triaxial Ellipsoid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2" name="Straight Arrow Connector 38"/>
          <p:cNvCxnSpPr/>
          <p:nvPr/>
        </p:nvCxnSpPr>
        <p:spPr>
          <a:xfrm flipH="1" flipV="1">
            <a:off x="2977920" y="2596680"/>
            <a:ext cx="1620000" cy="14025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823" name="TextBox 41"/>
          <p:cNvSpPr/>
          <p:nvPr/>
        </p:nvSpPr>
        <p:spPr>
          <a:xfrm>
            <a:off x="3816360" y="2293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c0128"/>
                </a:solidFill>
                <a:latin typeface="Arial"/>
              </a:rPr>
              <a:t>Normal to the surface at intersect po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4" name="Straight Arrow Connector 43"/>
          <p:cNvCxnSpPr/>
          <p:nvPr/>
        </p:nvCxnSpPr>
        <p:spPr>
          <a:xfrm flipH="1" flipV="1">
            <a:off x="2063160" y="1605960"/>
            <a:ext cx="229320" cy="9910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825" name="Straight Arrow Connector 45"/>
          <p:cNvCxnSpPr/>
          <p:nvPr/>
        </p:nvCxnSpPr>
        <p:spPr>
          <a:xfrm>
            <a:off x="2292480" y="2597040"/>
            <a:ext cx="915120" cy="766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826" name="Straight Arrow Connector 49"/>
          <p:cNvCxnSpPr/>
          <p:nvPr/>
        </p:nvCxnSpPr>
        <p:spPr>
          <a:xfrm flipH="1">
            <a:off x="1878840" y="2597040"/>
            <a:ext cx="413640" cy="70416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827" name="TextBox 58"/>
          <p:cNvSpPr/>
          <p:nvPr/>
        </p:nvSpPr>
        <p:spPr>
          <a:xfrm>
            <a:off x="2139840" y="15303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IAU_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8" name="Straight Arrow Connector 48"/>
          <p:cNvCxnSpPr/>
          <p:nvPr/>
        </p:nvCxnSpPr>
        <p:spPr>
          <a:xfrm flipH="1" flipV="1">
            <a:off x="2977920" y="2596320"/>
            <a:ext cx="4877280" cy="3819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829" name="Straight Arrow Connector 55"/>
          <p:cNvCxnSpPr/>
          <p:nvPr/>
        </p:nvCxnSpPr>
        <p:spPr>
          <a:xfrm>
            <a:off x="2292120" y="2596680"/>
            <a:ext cx="595800" cy="18972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sm" type="arrow" w="sm"/>
          </a:ln>
        </p:spPr>
      </p:cxnSp>
      <p:sp>
        <p:nvSpPr>
          <p:cNvPr id="830" name="TextBox 59"/>
          <p:cNvSpPr/>
          <p:nvPr/>
        </p:nvSpPr>
        <p:spPr>
          <a:xfrm>
            <a:off x="5721480" y="24454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Direction to the Sun from the surface intersect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Straight Arrow Connector 44"/>
          <p:cNvCxnSpPr/>
          <p:nvPr/>
        </p:nvCxnSpPr>
        <p:spPr>
          <a:xfrm flipH="1" flipV="1">
            <a:off x="4196880" y="3663720"/>
            <a:ext cx="348480" cy="31032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832" name="Straight Arrow Connector 46"/>
          <p:cNvCxnSpPr/>
          <p:nvPr/>
        </p:nvCxnSpPr>
        <p:spPr>
          <a:xfrm flipV="1">
            <a:off x="4548240" y="3816000"/>
            <a:ext cx="411840" cy="1468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833" name="Straight Arrow Connector 47"/>
          <p:cNvCxnSpPr/>
          <p:nvPr/>
        </p:nvCxnSpPr>
        <p:spPr>
          <a:xfrm flipV="1">
            <a:off x="4545000" y="3511080"/>
            <a:ext cx="186480" cy="46296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834" name="TextBox 50"/>
          <p:cNvSpPr/>
          <p:nvPr/>
        </p:nvSpPr>
        <p:spPr>
          <a:xfrm>
            <a:off x="4730760" y="3556080"/>
            <a:ext cx="14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Arial"/>
              </a:rPr>
              <a:t>TGO_NOMAD_LNO_N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5" name="Straight Arrow Connector 62"/>
          <p:cNvCxnSpPr/>
          <p:nvPr/>
        </p:nvCxnSpPr>
        <p:spPr>
          <a:xfrm flipH="1" flipV="1">
            <a:off x="2672640" y="2749320"/>
            <a:ext cx="1924920" cy="124992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836" name="Straight Arrow Connector 69"/>
          <p:cNvCxnSpPr/>
          <p:nvPr/>
        </p:nvCxnSpPr>
        <p:spPr>
          <a:xfrm flipH="1" flipV="1">
            <a:off x="2862000" y="2785320"/>
            <a:ext cx="1735920" cy="12135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837" name="Straight Arrow Connector 72"/>
          <p:cNvCxnSpPr/>
          <p:nvPr/>
        </p:nvCxnSpPr>
        <p:spPr>
          <a:xfrm flipH="1" flipV="1">
            <a:off x="2748960" y="2901240"/>
            <a:ext cx="1848600" cy="109764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838" name="Straight Arrow Connector 75"/>
          <p:cNvCxnSpPr/>
          <p:nvPr/>
        </p:nvCxnSpPr>
        <p:spPr>
          <a:xfrm flipH="1" flipV="1">
            <a:off x="2977920" y="2824920"/>
            <a:ext cx="1620000" cy="11739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839" name="Straight Arrow Connector 81"/>
          <p:cNvCxnSpPr/>
          <p:nvPr/>
        </p:nvCxnSpPr>
        <p:spPr>
          <a:xfrm flipV="1">
            <a:off x="2978280" y="2520360"/>
            <a:ext cx="915120" cy="7668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sm" type="arrow" w="sm"/>
          </a:ln>
        </p:spPr>
      </p:cxnSp>
      <p:sp>
        <p:nvSpPr>
          <p:cNvPr id="840" name="TextBox 88"/>
          <p:cNvSpPr/>
          <p:nvPr/>
        </p:nvSpPr>
        <p:spPr>
          <a:xfrm>
            <a:off x="3130560" y="3741120"/>
            <a:ext cx="1295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c0128"/>
                </a:solidFill>
                <a:latin typeface="Arial"/>
              </a:rPr>
              <a:t>NOMAD LNO Nadir boresight and FOV corner vec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89"/>
          <p:cNvSpPr/>
          <p:nvPr/>
        </p:nvSpPr>
        <p:spPr>
          <a:xfrm>
            <a:off x="2859120" y="1836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llumination angles at the intersect po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90"/>
          <p:cNvSpPr/>
          <p:nvPr/>
        </p:nvSpPr>
        <p:spPr>
          <a:xfrm>
            <a:off x="1735200" y="3584160"/>
            <a:ext cx="1295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s surface intersects for NOMAD LNO Nadir boresight and FOV corners (five point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3" name="Straight Arrow Connector 3"/>
          <p:cNvCxnSpPr/>
          <p:nvPr/>
        </p:nvCxnSpPr>
        <p:spPr>
          <a:xfrm flipH="1">
            <a:off x="3076200" y="2204640"/>
            <a:ext cx="240480" cy="273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Straight Arrow Connector 6"/>
          <p:cNvCxnSpPr/>
          <p:nvPr/>
        </p:nvCxnSpPr>
        <p:spPr>
          <a:xfrm flipV="1">
            <a:off x="2550600" y="3030480"/>
            <a:ext cx="167040" cy="621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6T09:04:14Z</dcterms:created>
  <dc:creator/>
  <dc:description/>
  <dc:language>en-US</dc:language>
  <cp:lastModifiedBy>J</cp:lastModifiedBy>
  <cp:lastPrinted>2004-04-30T20:29:12Z</cp:lastPrinted>
  <dcterms:modified xsi:type="dcterms:W3CDTF">2016-08-31T16:00:32Z</dcterms:modified>
  <cp:revision>111</cp:revision>
  <dc:subject/>
  <dc:title>Preview of Coming Attractions</dc:title>
</cp:coreProperties>
</file>