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9D66-CC09-4A6E-ACA5-00D715E0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ACF75-C4D7-4ADD-B646-347455D8D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A766-116B-4656-8407-00D9FE155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5164-B5D9-4B93-8ED9-18EB83BF4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152B7-211B-416D-A7A3-CAD6808CA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8D80-493B-4C64-AEE9-93C9063DA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6A0C-5669-433E-8FFF-78F1BB5A4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398D-78C1-46B8-80F3-90164B391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A45B-5044-4779-A682-78CC4D812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C7A2-069F-4C4E-BEE4-07E9BC29A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6E91-8C3F-42F8-BDA4-572FEB5E8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F2BA-FF24-4136-9B55-2E295A083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5DF6-040B-4317-8F36-C2F581570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6D4B-51EA-4784-A23A-5079B4A5CC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96880" y="3171600"/>
            <a:ext cx="4724280" cy="1429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tart Programming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6280" y="380520"/>
            <a:ext cx="51069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Start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sson provides language specific versions of a simple program to retrieve the Toolkit version string then output the st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sson presents the example program coded 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 - SPICEL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- 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- I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- M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b105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50d"/>
                </a:solidFill>
                <a:latin typeface="Arial"/>
              </a:rPr>
              <a:t>Note, this lesson does not describe the use of all NAIF supported compilers or platfor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591D-10AB-4C04-8F69-2242F963B3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7T17:44:16Z</dcterms:modified>
  <cp:revision>71</cp:revision>
  <dc:subject/>
  <dc:title>Preview of Coming Attractions</dc:title>
</cp:coreProperties>
</file>