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52360" y="698400"/>
            <a:ext cx="455328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CC272-1455-46A8-A422-D7C2144B07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09C34-6F89-44D7-A02E-399729754A4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488CB7-1303-4142-8E87-6EE7E13D62F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D4391E-F7C8-448F-88F2-10CD6287EC2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520A99-D5BE-4B56-B4DA-824272E8F82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23C2F0-12D6-478B-9FCC-B3C00AC26AE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B387F8-980D-4BA8-AE32-6847D36D8F4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9200D9-561F-4E69-9AE9-C7F9E6D92CD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08CD6D-46AB-4A50-9EF9-A26762F3BAE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BB9563-A31B-4A99-B6A3-14F8140ECF3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6AB09B-4164-4CCF-9A7C-09F025B5573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324DD-D3A9-450A-A856-C188FF122C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B0562-85B0-4622-9490-7CBD6D96A33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29782-B6F3-477A-91A1-554FCD7F48C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A115E-1A4C-4E39-AFCC-B7AD8A73604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D2DDB-AA20-4B4D-9589-05E1A6C4F14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54142-BFA7-444B-9FF4-2428F7BF60E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88204-2F67-461B-A89D-60F530D272F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EF807-BC33-4D47-894B-BACB5065B60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FCE47-7E46-490D-8309-09375922012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E5EEB-7079-4B91-86D3-8DF7806117B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88FEE-6AE2-41EE-B70F-0C8AF64675E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CB4FD-8E99-4A07-9788-1EC2F53CD3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766FA-746B-4760-9F7D-DA312DC9731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12B38-42BB-4C2E-AD68-0591536BB42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8C7578-AB4D-4F41-B69F-4CA44597E1B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B0D2C3-4716-4E2D-AB0A-55FF7D5F484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70886B-B751-4882-BBB4-02DD914E763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84637E-D872-46E9-B59C-4945C8FE2E0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EBF41E-5913-4982-9BB9-28F8C97983F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B1E1AA-302A-41A3-A266-93BA7DC410F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1D8D07-F6F7-46F6-80FB-D6FDB3022F4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7F14A0-570E-453F-A7A8-FEB21E63016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BC7A8D-5E49-495E-A22E-3AB1D2D0CD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962F14-65C4-47D0-92EE-C9C515D5A9C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8B49D3-86B9-4A22-9076-457B6CD5F6B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027AD4-B7DB-4ED7-9BEB-06E51A31092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DBF628-4607-40BE-8A27-2E8F9FA88F7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3F5FF2-5DE8-41B1-BCFC-354FC165506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7C0820-BA97-41A2-8E2D-383C9A2C77E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3B49D8-1F94-47CB-B8E0-CA6BCA042F1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D6A172-5A5B-4C1A-83F5-36217FC4F57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B87EF1-07FE-419E-BD9E-67004446448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55C281-BFB4-4F2E-A41A-6D960FD750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09219F-EAE3-49D7-886E-B987C13A1F1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598880-1D0F-4A01-961D-4989F4A2E81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257AAA-D271-43CD-B0C2-B20F75609E8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4FFBC5-3033-47D2-9843-956687DB20C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F9A663-893A-4F85-9337-ABB04EA9C4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F468C-F453-466D-81F2-27DE623E6B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DBA7F-BC19-4BD9-830F-C40CC968E80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5BB89-F39B-46EF-B777-40C133B1F3F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CD81F-78E9-4117-9D8C-33B6AC5803E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3CD36-0681-46C6-8067-3152E1D0CB0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009E9-46C6-4A64-9E42-0A6242F853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9D4DD-392D-4505-9127-CC454C41A3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4CBA7-D905-44E9-AFF7-9247EBBEA9E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7397A-8A3F-4752-A859-CDD5973C5D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C1842C-899A-4837-96A3-69A672AA8DD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071CC-47A6-4DD5-AD25-6A47B16FD9D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AB4F4-3D5A-438A-9115-4FB9B0AC93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10416-9E25-46A3-8569-AC2946AE1D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EACA2-E9D0-4293-9E9C-1FAE1BE4980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2D00-AB5F-4487-BF9A-ED414459044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E075-FF15-479F-8AE0-47FF25DBEFA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9E73-308A-41BF-B5FB-DE8B613003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8D344-B5FB-4664-9DE4-3D0991EDF80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9D64-873C-4FFE-907F-A19F18DF65B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E15F-42B3-48D9-A1A8-58DD31069B6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DBE8-1CAC-445E-B720-A03493D57DF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5D50-F1CD-475B-8360-8DDC1E04EFC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0D76-41B2-46A4-A6D2-00A81433A0F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BE18-771E-4E7A-A990-79388304348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A79D-0504-4146-B195-6CE9262995F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3650-DACC-43E2-86D0-AAFD1822089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B2F4-D61D-46F7-AC21-9B314947926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3ABD5E-1C63-49B8-95F2-9E4BF151E5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3A06C-AD03-4EBD-8C20-5C8CFD6DC25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AC24CE-612D-4720-BC81-5447F34E751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8F3AE6-9206-4A26-8C56-04380015F5A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E6BD83-9C50-4790-A30A-87463E82FC7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C812A2-48A3-4436-871B-3DB73CBE2CC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0D5FA0-27E9-428B-9710-462F70AE11A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9AF3E5-18E9-423B-A4E6-92773E2C6A1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881074-9ED7-4E91-BFC3-7F132162F58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3807ED-DFA8-4521-8A75-115AA5C67F5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F4EFEB-9BAC-46E5-AC4F-5A282A7875D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9D1647-BF97-4A69-896F-AD38D38758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FD767-F64C-4B53-A4A3-1CCF9DB0EEB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8C72D4-0512-42AF-9514-03C293A3ACD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3F079A-7957-4EA3-B3F9-103035C7DA0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DF9C8B-B4FE-4B44-916B-5874AD6603C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45BE35-3111-4620-A474-B51C362F105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A80962-4E0A-4294-84CC-D9526F6EBD2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79036B-03D9-43DB-A81A-A79A051357B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76FF3A-9D55-4A8F-AD14-2A555BA8FE5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61C825-3BCC-49C3-967B-D4B73A948F4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B7F085-B517-46E4-B87C-07E36CD21BC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762DC4-1A59-4300-882A-A2E44F2E2E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619BA-15C7-47E5-850A-80B2AEFD2FF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B3D9CE-3F74-453C-AEEA-6C88348CB16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8551A7-2429-4C17-BAD3-CEC722F7E16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2CE2EE-5880-4B58-9320-19ADA9AA27D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3332C-089F-4412-8940-13F2A9AC2BE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7CA6A-24BC-40A3-A8D6-2AC50184F40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6906A-EADC-4372-916C-B525D8BCB8A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1B9F9-34FC-430B-9915-4C8C2E277A1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3B7DD-CD40-442B-BFF5-5BC978F5086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A763F-EF0F-4656-9A62-FA22FE56222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E1CC2-211A-47A1-ADFF-501EE25F13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9A6F2-545A-4A7F-82C5-62B2F0B0D9C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5310E-A355-439E-9E6C-22AECFB1D26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FE09D-DC47-4F06-8640-F7E289DBEE4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F9348-B948-4042-A3C6-E3E6F591DD6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0D06E-02E1-4ACA-B2D3-67A0A60872A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FF946-C2B0-42E1-8955-C0CAE35D619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E010D4-07B3-413F-B0C0-AFAD48AF71B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CDEAD3-F67A-4CDC-BC24-4B3FF25536B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01EDA9-7F75-44FB-B6E4-58A946DD8A6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409911-4E9B-4F38-A7EE-5CB6444181C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555C93-4140-4B7E-B322-30EF1034EC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18A82-218F-4FB7-A9DB-89BD6097473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79A7EB-5A71-4941-A2D1-4F8340EC747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F1C7FD-AE3B-40A3-977F-E54BE0D35D4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F49CC1-77CC-45E5-AC54-539828DE3F3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FD79DC-BEBC-4C37-892B-600D260112C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909E95-1E86-4F2F-A338-9387C00D593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138FB7-8C9F-40D2-9AAD-01E4F4814E2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6FC049-16F4-49E5-83FC-F17B86522A8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3F03C0-60FF-491A-9B60-0F0796BB626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B86A9B-06FA-490A-BF19-87B9B84CB24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E7311E-3C57-4B7F-9DF9-6027D6FFF1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9932-159D-4452-A40D-559914E1A055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15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1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1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BDF5-D584-40EE-BCF5-BE66DF152569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72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1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sldNum" idx="2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738D-0027-4763-984A-4CE7B3BFE063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29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ftr" idx="2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sldNum" idx="2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F73D-FF42-40E7-A927-DE7F7C247A74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7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1" name="Arc 8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9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2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rc 13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4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5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6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7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8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9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16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4DCD-1C76-4650-8BF2-056A208D4640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73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FE93-1E3F-4948-9BB3-73DD2FFAF4D9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30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1780-61D1-48E6-BAD3-1E4C8F97DB5D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87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sldNum" idx="1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546D-054B-4552-A3A6-4B92F7A03343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344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1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1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D235-C764-42C7-B37D-DE13D5F573A0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01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1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F14B-067C-4BA5-BA06-97B5D7C1466A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5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1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1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6F3B-4734-45E3-A31B-588CC691B373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988640" y="3171600"/>
            <a:ext cx="553716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Geometric Event Finding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September 201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28AC-428B-4554-B9F8-00A81DEA92B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704880" y="1527120"/>
            <a:ext cx="7772400" cy="486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 stateme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 when the ExoMars-16 Trace Gas Orbiter (TGO) is visible from ESA’s New Norcia station, within the time interv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8 Jun 10 TD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8 Jun 14 TD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spacecraft to be considered visible, the apparent spacecraft position relative to New Norcia station must have elevation of at least 6 degrees in the station’s topocentric reference frame NEW_NORCIA_TOP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light time and stellar aberration corrections to compute the spacecraft position relative to New Norc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 for possible occultation of the spacecraft by Ma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a SPICE window representing the visibility perio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lay the start and stop times of each time interval in this SPICE window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41360" y="380520"/>
            <a:ext cx="62370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Geometric Event Finding:  Overview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B292-11B4-469B-8153-1F4AEC904F7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3656160" y="3691080"/>
            <a:ext cx="984240" cy="38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9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g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title"/>
          </p:nvPr>
        </p:nvSpPr>
        <p:spPr>
          <a:xfrm>
            <a:off x="3457440" y="380520"/>
            <a:ext cx="38037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Visibility Geomet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93" name="Oval 69"/>
          <p:cNvSpPr/>
          <p:nvPr/>
        </p:nvSpPr>
        <p:spPr>
          <a:xfrm>
            <a:off x="555480" y="3308400"/>
            <a:ext cx="3276720" cy="3133800"/>
          </a:xfrm>
          <a:prstGeom prst="ellipse">
            <a:avLst/>
          </a:prstGeom>
          <a:gradFill rotWithShape="0">
            <a:gsLst>
              <a:gs pos="0">
                <a:srgbClr val="031c6b"/>
              </a:gs>
              <a:gs pos="100000">
                <a:srgbClr val="063de8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70"/>
          <p:cNvSpPr/>
          <p:nvPr/>
        </p:nvSpPr>
        <p:spPr>
          <a:xfrm>
            <a:off x="5572080" y="2808360"/>
            <a:ext cx="1501920" cy="1434960"/>
          </a:xfrm>
          <a:prstGeom prst="ellipse">
            <a:avLst/>
          </a:prstGeom>
          <a:solidFill>
            <a:srgbClr val="ce1a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72"/>
          <p:cNvSpPr/>
          <p:nvPr/>
        </p:nvSpPr>
        <p:spPr>
          <a:xfrm flipV="1">
            <a:off x="2685960" y="2628720"/>
            <a:ext cx="609840" cy="1089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73"/>
          <p:cNvSpPr/>
          <p:nvPr/>
        </p:nvSpPr>
        <p:spPr>
          <a:xfrm flipH="1">
            <a:off x="2625840" y="3719520"/>
            <a:ext cx="64800" cy="8874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74"/>
          <p:cNvSpPr/>
          <p:nvPr/>
        </p:nvSpPr>
        <p:spPr>
          <a:xfrm flipV="1">
            <a:off x="2728800" y="3338280"/>
            <a:ext cx="3248280" cy="385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75"/>
          <p:cNvSpPr/>
          <p:nvPr/>
        </p:nvSpPr>
        <p:spPr>
          <a:xfrm flipV="1">
            <a:off x="7053120" y="3141720"/>
            <a:ext cx="838440" cy="95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76"/>
          <p:cNvSpPr/>
          <p:nvPr/>
        </p:nvSpPr>
        <p:spPr>
          <a:xfrm flipV="1">
            <a:off x="2736720" y="2126880"/>
            <a:ext cx="4573800" cy="159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rc 78"/>
          <p:cNvSpPr/>
          <p:nvPr/>
        </p:nvSpPr>
        <p:spPr>
          <a:xfrm rot="2415600">
            <a:off x="3176280" y="3588840"/>
            <a:ext cx="549360" cy="530280"/>
          </a:xfrm>
          <a:prstGeom prst="pie">
            <a:avLst/>
          </a:prstGeom>
          <a:noFill/>
          <a:ln w="38160">
            <a:solidFill>
              <a:srgbClr val="46ec1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80"/>
          <p:cNvSpPr/>
          <p:nvPr/>
        </p:nvSpPr>
        <p:spPr>
          <a:xfrm>
            <a:off x="1136520" y="2141640"/>
            <a:ext cx="2311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is vectors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_NORCIA_TO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pocentric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81"/>
          <p:cNvSpPr/>
          <p:nvPr/>
        </p:nvSpPr>
        <p:spPr>
          <a:xfrm>
            <a:off x="6122880" y="4316400"/>
            <a:ext cx="755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82"/>
          <p:cNvSpPr/>
          <p:nvPr/>
        </p:nvSpPr>
        <p:spPr>
          <a:xfrm>
            <a:off x="3444840" y="5956200"/>
            <a:ext cx="920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83"/>
          <p:cNvSpPr/>
          <p:nvPr/>
        </p:nvSpPr>
        <p:spPr>
          <a:xfrm>
            <a:off x="7994520" y="2908440"/>
            <a:ext cx="1162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G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cul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86"/>
          <p:cNvSpPr/>
          <p:nvPr/>
        </p:nvSpPr>
        <p:spPr>
          <a:xfrm>
            <a:off x="7107120" y="1550880"/>
            <a:ext cx="15303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G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1"/>
          <p:cNvSpPr/>
          <p:nvPr/>
        </p:nvSpPr>
        <p:spPr>
          <a:xfrm flipH="1" flipV="1">
            <a:off x="1412280" y="3204360"/>
            <a:ext cx="1283760" cy="5018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rc 88"/>
          <p:cNvSpPr/>
          <p:nvPr/>
        </p:nvSpPr>
        <p:spPr>
          <a:xfrm rot="2545800">
            <a:off x="3041280" y="3740040"/>
            <a:ext cx="633600" cy="317520"/>
          </a:xfrm>
          <a:prstGeom prst="pie">
            <a:avLst/>
          </a:prstGeom>
          <a:noFill/>
          <a:ln w="57240">
            <a:solidFill>
              <a:srgbClr val="e908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89"/>
          <p:cNvSpPr/>
          <p:nvPr/>
        </p:nvSpPr>
        <p:spPr>
          <a:xfrm>
            <a:off x="4102200" y="4511520"/>
            <a:ext cx="984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m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90"/>
          <p:cNvSpPr/>
          <p:nvPr/>
        </p:nvSpPr>
        <p:spPr>
          <a:xfrm flipH="1" flipV="1">
            <a:off x="3636720" y="4276800"/>
            <a:ext cx="425160" cy="450720"/>
          </a:xfrm>
          <a:prstGeom prst="line">
            <a:avLst/>
          </a:prstGeom>
          <a:ln w="57240">
            <a:solidFill>
              <a:srgbClr val="e908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rc 79"/>
          <p:cNvSpPr/>
          <p:nvPr/>
        </p:nvSpPr>
        <p:spPr>
          <a:xfrm rot="2911800">
            <a:off x="3080160" y="3731400"/>
            <a:ext cx="344520" cy="381240"/>
          </a:xfrm>
          <a:prstGeom prst="pie">
            <a:avLst/>
          </a:prstGeom>
          <a:noFill/>
          <a:ln w="38160">
            <a:solidFill>
              <a:srgbClr val="46ec1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rc 87"/>
          <p:cNvSpPr/>
          <p:nvPr/>
        </p:nvSpPr>
        <p:spPr>
          <a:xfrm rot="4287000">
            <a:off x="2469960" y="3402000"/>
            <a:ext cx="1287360" cy="249120"/>
          </a:xfrm>
          <a:prstGeom prst="pie">
            <a:avLst/>
          </a:prstGeom>
          <a:noFill/>
          <a:ln w="57240">
            <a:solidFill>
              <a:srgbClr val="e908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91"/>
          <p:cNvSpPr/>
          <p:nvPr/>
        </p:nvSpPr>
        <p:spPr>
          <a:xfrm>
            <a:off x="1258920" y="3800520"/>
            <a:ext cx="13032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New Nor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92"/>
          <p:cNvSpPr/>
          <p:nvPr/>
        </p:nvSpPr>
        <p:spPr>
          <a:xfrm>
            <a:off x="2706840" y="3727440"/>
            <a:ext cx="4510080" cy="1671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93"/>
          <p:cNvSpPr/>
          <p:nvPr/>
        </p:nvSpPr>
        <p:spPr>
          <a:xfrm>
            <a:off x="5927760" y="5425920"/>
            <a:ext cx="28764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GO:  not occulted, b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low elevation lim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visi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95"/>
          <p:cNvSpPr/>
          <p:nvPr/>
        </p:nvSpPr>
        <p:spPr>
          <a:xfrm>
            <a:off x="331920" y="1373040"/>
            <a:ext cx="87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96"/>
          <p:cNvSpPr/>
          <p:nvPr/>
        </p:nvSpPr>
        <p:spPr>
          <a:xfrm>
            <a:off x="1092240" y="2949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97"/>
          <p:cNvSpPr/>
          <p:nvPr/>
        </p:nvSpPr>
        <p:spPr>
          <a:xfrm>
            <a:off x="2430000" y="460692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98"/>
          <p:cNvSpPr/>
          <p:nvPr/>
        </p:nvSpPr>
        <p:spPr>
          <a:xfrm>
            <a:off x="2976480" y="224172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UP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</cp:lastModifiedBy>
  <dcterms:modified xsi:type="dcterms:W3CDTF">2016-08-26T16:37:30Z</dcterms:modified>
  <cp:revision>121</cp:revision>
  <dc:subject/>
  <dc:title>Time Conversion and Formats</dc:title>
</cp:coreProperties>
</file>