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4C8F-D164-460A-A8F0-570F27DAE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57614-B18B-42C2-9B9F-137AA41E4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6967-C87D-4FB2-8433-86B2ADB2F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20D87-9F4D-4690-96BA-A46635607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8962-2B12-4A2D-B614-F2E24CABB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043D-2B1D-4DBE-8357-7BE20D888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537A-919E-41E4-B62E-CDBD721EA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28179-6C19-4C21-B549-04282CA56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13D42-DDB5-46A7-A904-68A881C32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15BB5-1FF3-4752-8D38-5D4A3FE6E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81CF-5F47-4F1B-842E-78DE268F4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C8428-3ECA-425C-8199-C2A2A0608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7E3CA-6A25-4EE7-AA81-1977E3AAF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C5A4-09C6-4890-864F-64D45C17F71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96880" y="3171600"/>
            <a:ext cx="4724280" cy="1429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tart Programming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6280" y="380520"/>
            <a:ext cx="51069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Start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sson provides language specific versions of a simple program to retrieve the Toolkit version string then output the str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sson presents the example program coded 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RAN - SPICELI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- CSP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L - I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- M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b105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50d"/>
                </a:solidFill>
                <a:latin typeface="Arial"/>
              </a:rPr>
              <a:t>Note, this lesson does not describe the use of all NAIF supported compilers or platfor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4F49-AA20-4F6C-84FF-AB8EB054F7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7-05-07T17:44:16Z</dcterms:modified>
  <cp:revision>71</cp:revision>
  <dc:subject/>
  <dc:title>Preview of Coming Attractions</dc:title>
</cp:coreProperties>
</file>