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95A1-AF48-48FD-AE84-EA1A705FE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CD30-B7F3-4894-A06D-BD1D5587D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B629-751D-435B-A763-3CBF6714A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BDD4-0385-4880-B220-6464B56DD49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FCE98D-5677-41CA-8851-60C2BC820AA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684F6C-A73C-4F27-8EAF-8AEA0122EAB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EE2F86-D03E-42C0-8916-B58F4A30DF5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431E3C-66C4-4EC5-938E-CD62FBB877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3512CC-E4D1-4DEC-B300-4239EC7C6F6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77091A-569F-47B8-897D-5A352193CE4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D265B-0D37-4F83-BE99-6E568EB12B4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A14B1-0E41-454F-BE6A-8AB469F83C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5C0A6F-F317-49A9-A173-80E1119BF54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893F2-7619-4BED-AEE3-085EEA33E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D0FE2-D14E-49AD-93FA-623CD30EFF5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3A10A-7F15-4589-B0A6-E183C2D2F30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8702C-E16B-4346-991C-5871D6D9F18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F6C79-2AA8-47E1-9EC1-744EEB5A6A8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48E2F-FE8A-406F-B3F2-A165D46F349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DFFC6-FB9A-471C-87EF-7E2AB15F9A8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C7E06-7E0B-492C-8DBE-1C88A9340C5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89C97-C156-427B-98B5-B68CA2DF4B6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B9824-24E0-49AD-A6BE-E2337B19346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CB489-D4D2-4EE0-98E2-2427B80C6B5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046F-8C25-4D31-B7A3-E0B5D7988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49D3-CA75-4D5D-A412-1785DEC8467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8F384-19BF-47AB-A9B2-0B5CBA6294E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5F3FC-7A1B-4BEB-9C76-4C49EA41CAF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8F67B-64A0-444C-B02B-DD65E3E956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15ABF6-46E2-4C33-86E1-99AA486972D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9D3B1-28A4-4D44-AD07-2B24D03050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6DA234-2E50-4969-B247-883CF8A0883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ADDDE-5730-4C28-8842-9C3D7BDBEA6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95C25B-F969-4959-86C8-26446891051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5E835-BE8C-4B31-B1E4-0073B6B3106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98D8A6-FE27-4F76-9591-46B06C20C0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1FA327-7A63-4F8D-A87E-21CDE53C691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561A3-8F83-4683-8AEA-B1B39FE0F59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2D595-115A-4731-BA91-B42DD5C688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96476A-E160-4203-8F23-0A24F1D3EF7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17473B-F56D-43DE-BCC1-DB9B88AF000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02B9A3-1B45-43B1-BCEE-B77FBC75F2F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606C51-5E47-4DDF-947C-74AE15D6E2F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0D0E81-2CBD-4DC6-9361-962B6EA3426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1D1E8A-EC84-4FA3-9AB8-595034290F9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69984A-3C2C-4D36-88DC-CEBA225205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5507DA-4A6C-49C7-87E0-E35736D941D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A1724C-1ECF-432E-ADA4-78E50487E09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9AB383-11DF-46C4-8980-923EB219CC7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B17C89-F0D3-4458-B7E4-27C963F23D0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6153F2-64B0-4DCE-B3CD-03179BB6FF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AB051-687F-4582-97F1-0FA65CA71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87FB2-FE59-4507-859B-EAC9386B63E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12F58-39E4-4CFB-9D0E-17E7322129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C7C7F-B91C-47A8-86BD-5C25934A43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91808-3C59-42A7-84E0-A6DA083DF0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B9BBD-7276-471C-9EDE-608354C2D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D424-EC34-4779-9104-92A34F9793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DC5DA-C65E-404A-BCD6-8FD3071240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2F451-DC68-45F3-BA13-0CBAB82A4D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5D988-092D-4A83-8C36-69205FAFF7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82490-5BEA-4B02-AA27-9FF54A3447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3FCBB-310B-4BC3-8D94-F27C3E6F37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E740F-F831-4C65-8C1E-7AB67EC177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A597A-5721-47E8-874B-F16E6D2F1F1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09D2-E09C-420D-A261-0CB44D1D87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4B56-F9A3-4B82-BB0B-6FD7A7BA58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11EF-87AF-4FC3-AAAD-33400268D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B4F0-AE10-49DB-A725-FAA137EB43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D968-17F1-4F4C-9009-84F63DBECB8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6380-CC03-4D4D-AB0B-8C15D72152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04E4-F512-446B-B399-61B4188938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F0CD-483C-44B4-A754-A291AC5D0C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2823-0E52-40F3-B274-30B270D11F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10E9-7B8E-40C4-8EF5-D47F2E11EB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C087-A7AF-401B-B5D9-A5298781EC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B81B-6CDF-497F-98BF-7F8099DF1D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40065-B0AF-4823-9090-791D591C6B9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074CD-3409-4E6F-A0B9-AF63A563B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A4F4-A463-4B05-B1F4-9F2DB3D6F49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40FBB-E821-48BD-BEE1-0C5977D72F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099D2-1886-48EA-B1C8-E0C3D3611B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50E40-2C99-4BCD-A8F4-DC5E7FC668C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D5E0D-0ABC-49B1-8436-A7F55FB0131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635BF-0B6B-47BB-81CA-67BF7AE4E3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2D7A9-62D2-4893-B780-B8683C1937C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C0FE9-3FB3-41F1-A374-A3EB139090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1B51C-C27B-425C-9BA8-590366DF2A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EBDC1-D63B-4588-A94F-77F7E5AE259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C68ED-5E88-4813-AC42-1BF124D56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BABE-D671-4ED9-9D23-3E3131A460C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0ECB8-0EBD-4D1F-84EF-D3005133745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10552D-5B3D-439F-8AF0-27348CD32A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C51F16-9084-438C-8289-910B11AB2D7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37FD75-B1CF-4A75-974F-D67CC4A08D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67CFD-5E97-4506-994D-1AC04C02123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997B87-751C-4226-8961-E3740E5985B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222E3-71C8-46E2-BB42-2BC3AD6068D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48F4B-FDEA-415F-B0DC-22793CA73C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BDF914-CF2B-4109-B546-73071911BB9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70720-A649-487D-BEB3-8EABB7C69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C94C-1AD6-41FE-92C5-7892C79ABD1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55226-6817-436F-8E56-6BAE880AE1C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1AC75-525E-4156-9890-74AD0FA461C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D1ABC-292E-4C60-A314-B3F4E9CFB7F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6A00-01F4-4332-8632-C9997531984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C25C-D72F-46AA-BFF5-7B159E25837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39BE-F8D1-4EFF-89D5-D09B152A14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28243-0C05-4D54-B5C9-D242C339541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955B-07D7-44A4-923F-03E4B12A03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C9CD1-C44F-4C3E-BA2B-C2AF3FC9D1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D4BBF-B899-4FEA-91E4-BED2839E7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B171-919B-4461-976C-0A244CACE46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10654-E847-4093-96AD-EF7D19C416C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C9A52-70D7-490E-928A-72FFC00AC42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6FED9-3CE5-4B55-9586-FEF221DE65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443B-48C9-4B31-BCEE-67A565BE741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95B24-551D-4366-900A-8424DE47E32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2C6E0-A638-41A5-8A73-F96FB81CB93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B1CCF-2D5C-4A12-AEB7-69721A95033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FE5CB-8994-4A17-B352-186F9B2D092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53A8A-8FEE-44C3-8B29-B262EFC4130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EFAB6-3DBE-4534-B7EB-9051A2DBD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288D-0E75-4C87-AD4C-A66F1E92FB4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98638-4795-4266-8740-6A5AD4E75B4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613A3-2468-4EA6-81A1-EE240DAFBCC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A76EC-F3F0-455F-B2C6-D6791C617E7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1DD82B-F1FB-4229-B9F1-87DA358B92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DD361-B177-4771-AD39-B723E64B111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22C16-B671-407A-B37B-4D1780D82F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C1E36-37EF-47B6-83CF-667799FA495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0E2118-29C5-41CD-A3FF-16308D053F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3FC643-A872-4B12-BAEA-6DA47B47C45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4DF598-1F96-471E-AA95-36354ADC3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212A-C22E-4638-B5A0-A1F10A0C37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C1DA-6C6C-405C-A6CE-693BD9A594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2BC3-7BBC-43DD-B742-4770F8F922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B474-B3B4-42C4-86DC-7C567277EE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CEDA-25DC-4EB3-B854-CE61041861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1C13-0F38-44A9-99D0-F92E983F7A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AE3F-9E63-4EB9-80C6-E5B40474E5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DAAF-0B44-4C2E-9099-D705B27AED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9354-FD0E-4B02-8D78-4DEE854342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E4CC-3404-4FA7-93F4-86F231F81F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9EBA-8294-482E-B6CE-CF9537327C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8280" y="2666520"/>
            <a:ext cx="7404120" cy="143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Application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988D-8F0A-441E-AFB4-934E23FD552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25520" y="380520"/>
            <a:ext cx="6405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3320" y="1371240"/>
            <a:ext cx="83818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using these application programs provided in the Toolkit by completing a series of simple assignments for each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C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utility program for converting and summarizing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accessing internal comments in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XF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inary SPICE kernels to transfer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B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transfer SPICE kernels to binary format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etween various time sys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cookbook program demonstrating use of routines computing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trajectories stored in two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M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or sampling orientations of reference fram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51:38Z</cp:lastPrinted>
  <dcterms:modified xsi:type="dcterms:W3CDTF">2010-02-12T21:22:20Z</dcterms:modified>
  <cp:revision>74</cp:revision>
  <dc:subject/>
  <dc:title>Preview of Coming Attractions</dc:title>
</cp:coreProperties>
</file>