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C26A-C9B6-4FDD-BFCF-BCF17CA19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767D-8C58-41FC-BEDF-31BD38382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3083-3BC0-4BF6-9C2E-8C9EC5204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6135-3885-43AF-8A53-BB259D116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510C-1D28-4545-92F7-7FE7C490F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3DAD-FFB0-42B8-BEA1-400D04F5B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2AA39-59E7-4D21-855E-6B5686B6A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B425-678A-49AF-94FC-AA2838338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3CECA-C376-4C47-A453-EBB051980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72F3-A9FF-4803-A408-CCE8764C1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6F8A-6C7C-4B49-B8D8-1C5B05A46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92CC-6FF5-4868-9EC2-04852A09C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7BB4-5518-4976-9F3D-0A67B7990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3ACA-6A78-4C26-9578-84E898D7D7B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96880" y="3171600"/>
            <a:ext cx="4724280" cy="1429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tart Programming”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6280" y="380520"/>
            <a:ext cx="51069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Start Programming Examp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sson provides language specific versions of a simple program to retrieve the Toolkit version string then output the str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sson presents the example program coded 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 - SPICELI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- 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L - I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- M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b105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50d"/>
                </a:solidFill>
                <a:latin typeface="Arial"/>
              </a:rPr>
              <a:t>Note, this lesson does not describe the use of all NAIF supported compilers or platfor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CD62-A554-4AD8-931E-4B8EF07715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7-05-07T17:44:16Z</dcterms:modified>
  <cp:revision>71</cp:revision>
  <dc:subject/>
  <dc:title>Preview of Coming Attractions</dc:title>
</cp:coreProperties>
</file>