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71AC-8A6C-4592-9C59-B84CF0CB9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6187-A8F1-475A-9454-8B2F3706D1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26850-2D13-47DC-A4A1-2246EA006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F24B-F66A-41C9-AA2C-2C47C5E85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3F88-9D6A-4F4B-BCB3-68FD6F24C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2B5BA-6296-47EB-90DD-0CE646DD44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F40A4-0605-46A7-B6F3-6B1CA127C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D522B-6459-4E50-A751-11FF424BD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F548-4495-49FE-BA29-71B5E30AD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C3018-3835-4031-BE5A-4437425877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3974-7DE2-4FCE-862C-C2013836C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48AE-219B-4B0C-8DDD-6C88102BE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E06F-9BFA-43B2-BBE8-89F23A2790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0168-92A2-4727-9879-10D9B568EAB9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6760" y="3171600"/>
            <a:ext cx="4300560" cy="1375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In-situ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08200" y="380520"/>
            <a:ext cx="374040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3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207120" cy="451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9C64-A4D8-4530-85B6-930C40AA60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4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105240" cy="451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95FC1-DDDD-4668-8120-32AFF8BE1D2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5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6379920" cy="466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BC96-BF3F-4CF6-9D03-6706F0256C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503520" y="380520"/>
            <a:ext cx="374184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Step 6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6306840" cy="4510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0788-14B2-4A52-8F61-07F2ADDFF7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6:17Z</dcterms:modified>
  <cp:revision>69</cp:revision>
  <dc:subject/>
  <dc:title>Preview of Coming Attractions</dc:title>
</cp:coreProperties>
</file>