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52360" y="698400"/>
            <a:ext cx="455328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BAFC4-437C-4791-857E-FE05BD3BCA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1C470-D5E7-4EE9-B0B5-17EADCE230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F8D62-229B-4391-AB88-01EDE46EDC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EBA01-FCEB-410A-B402-A964A1ABCE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5E9E6-DE83-407F-BCDC-703EAF7D93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465D2-A15D-4278-AAD4-A8CF325EF0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4BC13-E631-4729-90CB-F6170F5798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52533-30EA-4316-9852-262ED8EEAF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10D31-5B9F-48FA-8802-89DE935E71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20460-6B1D-4890-9835-6A15320660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EC01C-9F50-4F20-8B09-93E5276504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15679-CC66-45F0-BD41-125994F67B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A785-7081-4AF9-9E27-D796CC2F823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88640" y="3171600"/>
            <a:ext cx="553716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Geometric Event Finding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04880" y="1527120"/>
            <a:ext cx="7772400" cy="486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 statemen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 when the Mars Express orbiter (MEX) is visible from the DSN station DSS-14 , within the time interv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4 May 2 TD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4 May 6 TD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spacecraft to be considered visible, the apparent spacecraft position relative to DSS-14 must have elevation of at least 6 degrees in the DSS-14 topocentric reference frame DSS-14_TOP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light time and stellar aberration corrections to compute the spacecraft position relative to DSS-14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 for possible occultation of the spacecraft by Ma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 a SPICE window representing the visibility perio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play the start and stop times of each time interval in this SPICE window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241360" y="380520"/>
            <a:ext cx="623700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Geometric Event Finding:  Overview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092ED-B3DF-40DA-864E-6799485AFB2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656160" y="3691080"/>
            <a:ext cx="984240" cy="38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9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g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3457440" y="380520"/>
            <a:ext cx="38037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Visibility Geomet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5480" y="3308400"/>
            <a:ext cx="3276720" cy="3133800"/>
          </a:xfrm>
          <a:prstGeom prst="ellipse">
            <a:avLst/>
          </a:prstGeom>
          <a:gradFill rotWithShape="0">
            <a:gsLst>
              <a:gs pos="0">
                <a:srgbClr val="021c6a"/>
              </a:gs>
              <a:gs pos="100000">
                <a:srgbClr val="063de8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72080" y="2808360"/>
            <a:ext cx="1501920" cy="1434960"/>
          </a:xfrm>
          <a:prstGeom prst="ellipse">
            <a:avLst/>
          </a:prstGeom>
          <a:solidFill>
            <a:srgbClr val="ce1a0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685960" y="2628720"/>
            <a:ext cx="609840" cy="10890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625840" y="3719520"/>
            <a:ext cx="64800" cy="8874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728800" y="3338280"/>
            <a:ext cx="3248280" cy="385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053120" y="3141720"/>
            <a:ext cx="838440" cy="950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736720" y="2126880"/>
            <a:ext cx="4573800" cy="159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415600">
            <a:off x="2521440" y="3348360"/>
            <a:ext cx="1098000" cy="106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46ec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36520" y="2141640"/>
            <a:ext cx="2311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6000"/>
          </a:bodyPr>
          <a:p>
            <a:pPr marL="217080" indent="-217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is vectors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7080" indent="-217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SS-14_TO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7080" indent="-217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pocentric 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22880" y="4316400"/>
            <a:ext cx="755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44840" y="5956200"/>
            <a:ext cx="9208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994520" y="2908440"/>
            <a:ext cx="11620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5000"/>
          </a:bodyPr>
          <a:p>
            <a:pPr marL="156960" indent="-156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X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6960" indent="-156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cul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07120" y="1550880"/>
            <a:ext cx="15303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X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-282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412280" y="3204360"/>
            <a:ext cx="1283760" cy="5018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2545800">
            <a:off x="2383920" y="3233160"/>
            <a:ext cx="1266840" cy="113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764" y="4777"/>
                </a:moveTo>
                <a:arcTo wR="10800" hR="10800" stAng="-2033859" swAng="2033859"/>
                <a:lnTo>
                  <a:pt x="10800" y="10800"/>
                </a:lnTo>
                <a:close/>
              </a:path>
              <a:path fill="none" w="21600" h="21600">
                <a:moveTo>
                  <a:pt x="19764" y="4777"/>
                </a:moveTo>
                <a:arcTo wR="10800" hR="10800" stAng="-2033859" swAng="2033859"/>
              </a:path>
            </a:pathLst>
          </a:custGeom>
          <a:noFill/>
          <a:ln w="57240">
            <a:solidFill>
              <a:srgbClr val="e908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02200" y="4511520"/>
            <a:ext cx="9842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39760" indent="-2397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3636720" y="4276800"/>
            <a:ext cx="425160" cy="450720"/>
          </a:xfrm>
          <a:prstGeom prst="line">
            <a:avLst/>
          </a:prstGeom>
          <a:ln w="57240">
            <a:solidFill>
              <a:srgbClr val="e908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911800">
            <a:off x="2651400" y="3538080"/>
            <a:ext cx="68832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46ec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4287000">
            <a:off x="1503720" y="2509200"/>
            <a:ext cx="2574360" cy="892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764" y="4777"/>
                </a:moveTo>
                <a:arcTo wR="10800" hR="10800" stAng="-2033859" swAng="2033859"/>
                <a:lnTo>
                  <a:pt x="10800" y="10800"/>
                </a:lnTo>
                <a:close/>
              </a:path>
              <a:path fill="none" w="21600" h="21600">
                <a:moveTo>
                  <a:pt x="19764" y="4777"/>
                </a:moveTo>
                <a:arcTo wR="10800" hR="10800" stAng="-2033859" swAng="2033859"/>
              </a:path>
            </a:pathLst>
          </a:custGeom>
          <a:noFill/>
          <a:ln w="57240">
            <a:solidFill>
              <a:srgbClr val="e908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41600" y="3800520"/>
            <a:ext cx="9205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DSS-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6840" y="3727440"/>
            <a:ext cx="4510080" cy="1671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27760" y="5425920"/>
            <a:ext cx="28764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251280" indent="-25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X:  not occulted, bu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1280" indent="-25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low elevation lim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1280" indent="-25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visi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1920" y="1373040"/>
            <a:ext cx="874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92240" y="2949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a109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30000" y="460692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a109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76480" y="224172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a109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eda109"/>
                </a:solidFill>
                <a:latin typeface="Arial"/>
              </a:rPr>
              <a:t>U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7CF61-53F0-4E9E-B597-7A3FB6352CD6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thaniel Bachman</cp:lastModifiedBy>
  <dcterms:modified xsi:type="dcterms:W3CDTF">2008-10-18T00:07:07Z</dcterms:modified>
  <cp:revision>113</cp:revision>
  <dc:subject/>
  <dc:title>Time Conversion and Formats</dc:title>
</cp:coreProperties>
</file>