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43F7F-4E65-468E-89D9-2F85D8197B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0480" y="412956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AF69F-6B84-446F-88E5-8E40679451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D59AA-CA54-4EF0-B453-953AD92B02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524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000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048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524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000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7C638-5022-4E35-8B05-46DCFB63BC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79680" y="380520"/>
            <a:ext cx="5727600" cy="416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5D9E1-AC00-4FF7-BA73-CB553D3BD6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68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0480" y="412956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68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1524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000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048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1524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000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CC0A2-1AD6-46D6-9C67-4B43F42E46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C4A56-EE49-4BF9-8427-0561ED4958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1CA41-97A4-4064-8F85-853D97D505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79680" y="380520"/>
            <a:ext cx="5727600" cy="416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46FF3-51F4-4A34-9ABC-A6233E43D8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08324-1F85-4836-B5BC-78F99152F4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F31A7-BCB4-4A3B-A09B-F10AD25790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EC32A-4524-42A2-AE66-CC39E9DC6B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4160" y="919080"/>
            <a:ext cx="6575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59920" y="969840"/>
            <a:ext cx="3903840" cy="2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9720" indent="-169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692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692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692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18160"/>
            <a:ext cx="2095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0" y="6616800"/>
            <a:ext cx="2890800" cy="24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41760" y="6616800"/>
            <a:ext cx="1901880" cy="24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CC740E9-E5CF-406F-9D0E-E5AC3742A85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7520" y="182520"/>
            <a:ext cx="2226240" cy="894960"/>
            <a:chOff x="-227520" y="182520"/>
            <a:chExt cx="2226240" cy="894960"/>
          </a:xfrm>
        </p:grpSpPr>
        <p:sp>
          <p:nvSpPr>
            <p:cNvPr id="8" name=""/>
            <p:cNvSpPr/>
            <p:nvPr/>
          </p:nvSpPr>
          <p:spPr>
            <a:xfrm flipH="1">
              <a:off x="1005480" y="326520"/>
              <a:ext cx="124920" cy="1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2960"/>
              <a:ext cx="1820880" cy="61452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1520" y="559440"/>
              <a:ext cx="310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6680" y="511560"/>
              <a:ext cx="0" cy="9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4880" y="638640"/>
              <a:ext cx="731880" cy="246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160" y="367200"/>
              <a:ext cx="220464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2440" y="849600"/>
              <a:ext cx="74160" cy="7416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0" bIns="7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6200" y="567360"/>
              <a:ext cx="74160" cy="7416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0" bIns="7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69920" y="240480"/>
              <a:ext cx="0" cy="6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7400" y="370800"/>
              <a:ext cx="369360" cy="39744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69920" y="304200"/>
              <a:ext cx="0" cy="12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0240" y="182520"/>
              <a:ext cx="5868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0720" y="182520"/>
              <a:ext cx="6796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3520" y="22813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4160" y="919080"/>
            <a:ext cx="6575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" y="969840"/>
            <a:ext cx="3903840" cy="2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18160"/>
            <a:ext cx="2095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7520" y="182520"/>
            <a:ext cx="2226240" cy="894960"/>
            <a:chOff x="-227520" y="182520"/>
            <a:chExt cx="2226240" cy="894960"/>
          </a:xfrm>
        </p:grpSpPr>
        <p:sp>
          <p:nvSpPr>
            <p:cNvPr id="62" name=""/>
            <p:cNvSpPr/>
            <p:nvPr/>
          </p:nvSpPr>
          <p:spPr>
            <a:xfrm flipH="1">
              <a:off x="1005480" y="326520"/>
              <a:ext cx="124920" cy="1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2960"/>
              <a:ext cx="1820880" cy="61452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1520" y="559440"/>
              <a:ext cx="310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6680" y="511560"/>
              <a:ext cx="0" cy="9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880" y="638640"/>
              <a:ext cx="731880" cy="246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160" y="367200"/>
              <a:ext cx="220464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2440" y="849600"/>
              <a:ext cx="74160" cy="7416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0" bIns="7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6200" y="567360"/>
              <a:ext cx="74160" cy="7416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0" bIns="7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69920" y="240480"/>
              <a:ext cx="0" cy="6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7400" y="370800"/>
              <a:ext cx="369360" cy="39744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69920" y="304200"/>
              <a:ext cx="0" cy="12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1320" y="182520"/>
              <a:ext cx="5868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1440" y="182520"/>
              <a:ext cx="6796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296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016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556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5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5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69920" y="2263680"/>
            <a:ext cx="5181840" cy="10065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Writing a SPICE-based 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Fortran Program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506240" y="4687560"/>
            <a:ext cx="6391080" cy="174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318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October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0760" y="1315800"/>
            <a:ext cx="7762680" cy="142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 the planetocentric latitude (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CLA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and longitude (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CL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, as well as the planetodetic latitude (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DLA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and longitude (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DL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of  the intersection point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 FOUND ) THEN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RECLAT ( POINT, R,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CLO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CLA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976400" y="380520"/>
            <a:ext cx="716616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Compute Lat/Lon and Illumination Angles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9440" y="4657680"/>
            <a:ext cx="776268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illumination angles we want are the outputs o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LLU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 Units are radi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this call, normal light time and stellar aberration corrections suffi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ILLUM (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    'LT+S',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C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INT, 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HA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SOLA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 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EMISS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1840" y="2852640"/>
            <a:ext cx="88344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       Let RE, RP, and F be the satellite's longer equato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       radius, polar radius, and flattening factor.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  =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RADII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P  =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RADII(3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   =  ( RE - RP ) /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RECGEO ( POINT, RE, F,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DLO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DLA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ALT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FORTRAN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5581D-2083-4EA6-9F03-DD17AC5464C4}" type="slidenum">
              <a:t>10</a:t>
            </a:fld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54120" y="5268960"/>
            <a:ext cx="84405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ILLUM (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   'LT+S'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C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INT,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HA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SOLA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EMISS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3720" y="1278000"/>
            <a:ext cx="864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    Compute the boresight ray intersection with the surface of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    satellite.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DIS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VNORM(OBSPO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yield desired ranges.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3720" y="1874880"/>
            <a:ext cx="833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SRFXPT ( 'Ellipsoid'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,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   'CN+S',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CNM,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FRAM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ITE,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OINT,  DIST,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RGEPC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,  OBSPOS, FOU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9600" y="2411280"/>
            <a:ext cx="844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    If an intercept is found, compute planetocentric and planetodetic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    latitude and longitude of the point.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4120" y="2917800"/>
            <a:ext cx="8680320" cy="20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( FOUND ) T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RECLAT ( POINT, R,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CLO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CLA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       Let RE, RP, and F be the satellite's longer equato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       radius, polar radius, and flattening factor.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  =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RADII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P  =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RADII(3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   =  ( RE - RP ) /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RECGEO ( POINT, RE, F,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DLO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DLA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ALT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5960" y="4965840"/>
            <a:ext cx="859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       Compute illumination angles at the surface point.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016000" y="380520"/>
            <a:ext cx="665496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Geometry Calculations: Summar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FORTRAN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C7D16-51B5-46C9-BB62-E65BDE49C5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90120" y="1596960"/>
            <a:ext cx="8029800" cy="449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code above used quite a few inputs that we don't have yet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DB epoch of interest (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ellite and s/c names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, SCN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ellite ellipsoid radii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RADI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rument fixed frame name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FRAM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rument boresight vector in the instrument frame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I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of these values are user inputs others can be obtained via SPICELIB call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the required kernels have been load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t's prompt for the satellite name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, spacecraft name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CN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, instrument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TN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and time of interest 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TIM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PROMPT ( 'Enter satellite name  &gt; '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PROMPT ( 'Enter spacecraft name &gt; '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C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PROMPT ( 'Enter instrument name &gt; '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PROMPT ( 'Enter time            &gt; '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TIM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3981240" y="380520"/>
            <a:ext cx="272412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Get Inputs -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FORTRAN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02DB6-E179-48A2-9069-AE99F40B78F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81240" y="380520"/>
            <a:ext cx="272412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Get Inputs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3720" y="2890800"/>
            <a:ext cx="8026560" cy="19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93720" y="1346040"/>
            <a:ext cx="8102520" cy="12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n we can get the rest of the inputs from SPICELIB call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get the TDB epoch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from the user-supplied time string (which ma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er to the UTC, TDB or TT time systems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STR2ET ( TIME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93720" y="2660760"/>
            <a:ext cx="7834320" cy="7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get the satellite’s ellipsoid radii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RADI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BODVRD ( SATNM, 'RADII', 3, I, RADII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3720" y="3313080"/>
            <a:ext cx="7834320" cy="31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get the instrument boresight direction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I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and the name 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rument frame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FRAM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in which it is defin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DN2C (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INSTID, FOUND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 .NOT. FOUND ) T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SETMSG ( 'Instrument name # could not be ' /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                'translated to an ID code.'      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ERRCH  ( '#',  INSTNM                     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SIGERR ( 'NAMENOTFOUND'                   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 I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GETFOV ( INSTID, ROOM, SHAPE,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FRAM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           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IT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N,    BUNDRY         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FORTRAN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7257A-AF00-48EE-8A9A-9C3470DD6006}" type="slidenum">
              <a:t>13</a:t>
            </a:fld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796840" y="380520"/>
            <a:ext cx="509436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Getting Inputs:  Summar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5960" y="1278000"/>
            <a:ext cx="802944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9000"/>
          </a:bodyPr>
          <a:p>
            <a:pPr marL="254160" indent="-25416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    Prompt for the user-supplied inputs for our progra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PROMPT ( 'Enter setup file name &gt; '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ETUP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FURNSH (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ETUP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PROMPT( 'Enter satellite name  &gt; '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PROMPT( 'Enter spacecraft name &gt; '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C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PROMPT( 'Enter instrument name &gt; '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PROMPT( 'Enter time            &gt; '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TIM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5960" y="2930400"/>
            <a:ext cx="802944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    Get the epoch corresponding to the input time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STR2ET ( TIME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15960" y="3544920"/>
            <a:ext cx="80294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    Get the radii of the satellit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BODVRD ( SATNM, 'RADII', 3, I, RADII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12720" y="4081320"/>
            <a:ext cx="8029800" cy="24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277200" indent="-27720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    Get the instrument boresight and frame na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BODN2C (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INSTID, FOUND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 .NOT. FOUND ) T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SETMSG ( 'Instrument name # could not be ' /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                'translated to an ID code.'      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ERRCH  ( '#',  INSTNM                     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SIGERR ( 'NAMENOTFOUND'                   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 I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GETFOV ( INSTID, ROOM, SHAPE,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FRAM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           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IT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N,    BUNDRY         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FORTRAN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D3252-4160-42D8-855C-F772157BCA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770280" y="380520"/>
            <a:ext cx="315432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splay Result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93720" y="1298520"/>
            <a:ext cx="821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       Display results.  Convert angles from radians to degre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       for outpu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3720" y="1738440"/>
            <a:ext cx="810252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RITE ( *, '(1X,A,F12.6)'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  'Intercept planetocentric longitude      (deg):  ',  DPR()*PCL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RITE ( *, '(1X,A,F12.6)'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  'Intercept planetocentric latitude       (deg):  ',  DPR()*PCL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RITE ( *, '(1X,A,F12.6)'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  'Intercept planetodetic longitude        (deg):  ',  DPR()*PDL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RITE ( *, '(1X,A,F12.6)'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  'Intercept planetodetic latitude         (deg):  ',  DPR()*PDL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RITE ( *, '(1X,A,F12.6)'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  'Range from spacecraft to intercept point (km):  ',  D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RITE ( *, '(1X,A,F12.6)'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  'Range from spacecraft to target center   (km):  '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  VNORM(OBSPO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RITE ( *, '(1X,A,F12.6)'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  'Intercept phase angle                   (deg):  ',  DPR()*PH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RITE ( *, '(1X,A,F12.6)'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  'Intercept solar incidence angle         (deg):  ',  DPR()*SO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RITE ( *, '(1X,A,F12.6)'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  'Intercept emission angle                (deg):  ',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  DPR()*EMIS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30200" y="6002280"/>
            <a:ext cx="7850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RITE (*,*) 'No intercept point found at '//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 I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FORTRAN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EA850-2C1D-4290-81A8-9C1CEFA5F8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finish up the program we need to declare the variables we've us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'll highlight techniques used by NAIF programmer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remaining Fortran code required to make a syntactically valid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3106800" y="380520"/>
            <a:ext cx="448128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mplete the Program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FORTRAN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E96CF-F2BA-4B5B-A41E-6B60357588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757600" y="380520"/>
            <a:ext cx="517824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mplete Source Code -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708440" y="1355760"/>
            <a:ext cx="443556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PRECISION    D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PRECISION    EMIS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PRECISION    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PRECISION    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PRECISION    INSITE(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PRECISION    OBSPOS(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PRECISION    PCL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PRECISION    PCL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PRECISION    PDL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PRECISION    PDL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PRECISION    PH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PRECISION    POINT (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PRECISION    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PRECISION    RADII (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PRECISION   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PRECISION    R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PRECISION    SO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PRECISION    TRGE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57560" y="5907240"/>
            <a:ext cx="295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OGICAL             F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1840" y="2403360"/>
            <a:ext cx="5607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EGER             FILES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ARAMETER         ( FILESZ =    255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EGER             WORDS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ARAMETER         ( WORDSZ =     40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EGER             RO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ARAMETER         ( ROOM   =     10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1440" y="1260360"/>
            <a:ext cx="242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GRAM PROG2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MPLICIT 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26080" y="5348160"/>
            <a:ext cx="3801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EGER            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EGER             INST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EGER            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31840" y="4267080"/>
            <a:ext cx="45324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ARACTER*(WORDSZ)  I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ARACTER*(WORDSZ)  INSTN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ARACTER*(WORDSZ)  SATN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ARACTER*(WORDSZ)  SCN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ARACTER*(FILESZ)  SETUP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ARACTER*(WORDSZ)  SHA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ARACTER*(WORDSZ) 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8720" y="5907240"/>
            <a:ext cx="443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PRECISION    A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PRECISION    BUNDRY(3, ROO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7800" y="1816200"/>
            <a:ext cx="443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PRECISION    D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PRECISION    VN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FORTRAN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E7309-D3F0-41EC-B872-6FBF300DBF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52200" y="380520"/>
            <a:ext cx="518508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mplete Source Code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7760" y="1317600"/>
            <a:ext cx="802944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9000"/>
          </a:bodyPr>
          <a:p>
            <a:pPr marL="254160" indent="-25416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    Prompt for the user-supplied inputs for our progra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PROMPT ( 'Enter setup file name &gt; '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ETUP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FURNSH (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ETUP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PROMPT ( 'Enter satellite name  &gt; '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PROMPT ( 'Enter spacecraft name &gt; '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C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PROMPT ( 'Enter instrument name &gt; '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PROMPT ( 'Enter time            &gt; '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TIM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7760" y="2968560"/>
            <a:ext cx="802944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    Get the epoch corresponding to the input time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STR2ET ( TIME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7760" y="3506760"/>
            <a:ext cx="80294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    Get the radii of the satellit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BODVRD ( SATNM, 'RADII', 3, I, RADII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7760" y="4005360"/>
            <a:ext cx="8029440" cy="24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277200" indent="-27720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    Get the instrument boresight and frame na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BODN2C (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INSTID, FOUND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 .NOT. FOUND ) T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SETMSG ( 'Instrument name # could not be ' /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                'translated to an ID code.'      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ERRCH  ( '#',  INSTNM                     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SIGERR ( 'NAMENOTFOUND'                   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 I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GETFOV ( INSTID, ROOM, SHAPE,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FRAM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           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IT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N,    BUNDRY         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FORTRAN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CCC6A-D5F9-48D4-B426-89B736EBC9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754360" y="380520"/>
            <a:ext cx="518472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mplete Source Code - 3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40" y="1374840"/>
            <a:ext cx="864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    Compute the boresight ray intersection with the surface of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    satellite.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DIS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VNORM(OBSPO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yield desired ranges.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40" y="1854360"/>
            <a:ext cx="833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SRFXPT ( 'Ellipsoid'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,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   'CN+S',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CNM,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FRAM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ITE,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OINT,  DIST,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RGEPC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,  OBSPOS, FOU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-112680" y="2335320"/>
            <a:ext cx="844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    If an intercept is found, compute planetocentric and planetodetic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    latitude and longitude of the point.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3680" y="2787480"/>
            <a:ext cx="8680320" cy="18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( FOUND ) T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RECLAT ( POINT, R,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CLO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CLA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       Let RE, RP, and F be the satellite's longer equato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       radius, polar radius, and flattening factor.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  =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RADII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P  =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RADII(3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   =  ( RE - RP ) /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RECGEO ( POINT, RE, F,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DLO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DLA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ALT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3040" y="4583160"/>
            <a:ext cx="859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       Compute illumination angles at the surface point.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3680" y="4870440"/>
            <a:ext cx="844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ILLUM (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   'LT+S'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C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INT,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HA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SOLA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EMISS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3680" y="5307120"/>
            <a:ext cx="8218440" cy="11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       Display results.  Convert angles from radians to degre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        for outpu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RITE ( *,  *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RITE ( *, '(1X,A,F12.6)'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  'Intercept planetocentric longitude      (deg):  ',  DPR()*PCL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FORTRAN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12F40-3E77-4F87-ADAD-834A066A2F6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905120" y="2199960"/>
            <a:ext cx="5867280" cy="29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his coding example is an “animated” presentation that is best viewed using PowerPoint set to “Slide Show” mod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Undefined variables are displayed in red; results are displayed in blu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3236760" y="380520"/>
            <a:ext cx="421344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Viewing This Tutorial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FORTRAN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4E74B-4EC4-4C7F-958E-7CBCADE563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62280" y="380520"/>
            <a:ext cx="517824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mplete Source Code - 4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93680" y="1738440"/>
            <a:ext cx="810252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RITE ( *, '(1X,A,F12.6)'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  'Intercept planetocentric latitude       (deg):  ',  DPR()*PCL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RITE ( *, '(1X,A,F12.6)'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  'Intercept planetodetic longitude        (deg):  ',  DPR()*PDL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RITE ( *, '(1X,A,F12.6)'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  'Intercept planetodetic latitude         (deg):  ',  DPR()*PDL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RITE ( *, '(1X,A,F12.6)'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  'Range from spacecraft to intercept point (km):  ',  D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RITE ( *, '(1X,A,F12.6)'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  'Range from spacecraft to target center   (km):  '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  VNORM(OBSPO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RITE ( *, '(1X,A,F12.6)'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  'Intercept phase angle                   (deg):  ',  DPR()*PH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RITE ( *, '(1X,A,F12.6)'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  'Intercept solar incidence angle         (deg):  ',  DPR()*SO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RITE ( *, '(1X,A,F12.6)'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  'Intercept emission angle                (deg):  ',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  DPR()*EMIS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8200" y="5618160"/>
            <a:ext cx="7850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RITE (*,*) 'No intercept point found at '//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 I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FORTRAN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EB821-11CF-4CFA-B9E7-465E85DC7F8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577800" y="1353960"/>
            <a:ext cx="7988400" cy="533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6440" indent="-2286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be sure that both the SPICE Toolkit and a Fortran compiler are properly installed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271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"hello world" Fortran program must be able to compile, link, and run successfully in your environment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271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y of the mkprodct.* scripts in the toolkit/src/* paths of the SPICE Toolkit installation should execute properl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6440" indent="-2286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ys to compile and link the program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271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you're familiar with the "make" utility, create a makefile.  Use compiler and linker options from the mkprodct.* script found in the toolkit/src/cookbook path of your SPICE Toolkit installa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2716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, modify the cookbook mkprodct.* build script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 program name must be *.pgm, for example demo.pgm, to be recognized by the scrip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 the library references in the script to use absolute pathnames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 the path for the executable to the current working director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some platforms, you must modify the script to refer to your program by nam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2041200" y="380520"/>
            <a:ext cx="660708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mpile and Link the Program -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FORTRAN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22071-89D5-4D77-AA9F-E5DD5097D2E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7988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7720" indent="-227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, compile the program on the command line. The program must be linked against the SPICELIB object library spicelib.a (spicelib.lib under MS Windows systems).  On a PC running Linux and g77, if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77 compiler is in your pa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39720" indent="-1695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 indicated by the response to the command "which g77"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oolkit is installed in the path (for the purpose of this example) /myhome/toolk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've named the program demo.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you can compile and link your program using the comma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77 -o demo  demo.f \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397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myhome/toolkit/lib/spicelib.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2041200" y="380520"/>
            <a:ext cx="660708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mpile and Link the Program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FORTRAN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9EB5C-858C-41D2-8871-AB22E97600D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385920" y="1432080"/>
            <a:ext cx="8501040" cy="4782960"/>
            <a:chOff x="385920" y="1432080"/>
            <a:chExt cx="8501040" cy="4782960"/>
          </a:xfrm>
        </p:grpSpPr>
        <p:grpSp>
          <p:nvGrpSpPr>
            <p:cNvPr id="229" name=""/>
            <p:cNvGrpSpPr/>
            <p:nvPr/>
          </p:nvGrpSpPr>
          <p:grpSpPr>
            <a:xfrm>
              <a:off x="385920" y="1432080"/>
              <a:ext cx="8501040" cy="4782960"/>
              <a:chOff x="385920" y="1432080"/>
              <a:chExt cx="8501040" cy="47829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385920" y="1432080"/>
                <a:ext cx="8501040" cy="4782960"/>
                <a:chOff x="385920" y="1432080"/>
                <a:chExt cx="8501040" cy="4782960"/>
              </a:xfrm>
            </p:grpSpPr>
            <p:grpSp>
              <p:nvGrpSpPr>
                <p:cNvPr id="231" name=""/>
                <p:cNvGrpSpPr/>
                <p:nvPr/>
              </p:nvGrpSpPr>
              <p:grpSpPr>
                <a:xfrm>
                  <a:off x="385920" y="1432080"/>
                  <a:ext cx="8501040" cy="4782960"/>
                  <a:chOff x="385920" y="1432080"/>
                  <a:chExt cx="8501040" cy="478296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385920" y="1722600"/>
                    <a:ext cx="8501040" cy="4491000"/>
                  </a:xfrm>
                  <a:prstGeom prst="rect">
                    <a:avLst/>
                  </a:prstGeom>
                  <a:solidFill>
                    <a:srgbClr val="6f6f6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771480" y="1617840"/>
                    <a:ext cx="8115480" cy="459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385920" y="1432080"/>
                    <a:ext cx="8501040" cy="29376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385920" y="6132600"/>
                    <a:ext cx="8501040" cy="82440"/>
                  </a:xfrm>
                  <a:prstGeom prst="rect">
                    <a:avLst/>
                  </a:prstGeom>
                  <a:solidFill>
                    <a:srgbClr val="ababa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771480" y="6131160"/>
                    <a:ext cx="7766280" cy="8388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415800" y="1462320"/>
                    <a:ext cx="8437680" cy="23184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8" name=""/>
                <p:cNvSpPr/>
                <p:nvPr/>
              </p:nvSpPr>
              <p:spPr>
                <a:xfrm>
                  <a:off x="3795120" y="1462320"/>
                  <a:ext cx="155592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Terminal Window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409680" y="3148200"/>
                <a:ext cx="299880" cy="2143080"/>
                <a:chOff x="409680" y="3148200"/>
                <a:chExt cx="299880" cy="2143080"/>
              </a:xfrm>
            </p:grpSpPr>
            <p:grpSp>
              <p:nvGrpSpPr>
                <p:cNvPr id="240" name=""/>
                <p:cNvGrpSpPr/>
                <p:nvPr/>
              </p:nvGrpSpPr>
              <p:grpSpPr>
                <a:xfrm>
                  <a:off x="409680" y="3148200"/>
                  <a:ext cx="299880" cy="2143080"/>
                  <a:chOff x="409680" y="3148200"/>
                  <a:chExt cx="299880" cy="2143080"/>
                </a:xfrm>
              </p:grpSpPr>
              <p:sp>
                <p:nvSpPr>
                  <p:cNvPr id="241" name=""/>
                  <p:cNvSpPr/>
                  <p:nvPr/>
                </p:nvSpPr>
                <p:spPr>
                  <a:xfrm>
                    <a:off x="422280" y="3156120"/>
                    <a:ext cx="287280" cy="212256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409680" y="3148200"/>
                    <a:ext cx="299880" cy="2143080"/>
                    <a:chOff x="409680" y="3148200"/>
                    <a:chExt cx="299880" cy="2143080"/>
                  </a:xfrm>
                </p:grpSpPr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409680" y="3148200"/>
                      <a:ext cx="0" cy="21384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411120" y="529128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45" name=""/>
                <p:cNvGrpSpPr/>
                <p:nvPr/>
              </p:nvGrpSpPr>
              <p:grpSpPr>
                <a:xfrm>
                  <a:off x="552600" y="4197600"/>
                  <a:ext cx="46080" cy="42840"/>
                  <a:chOff x="552600" y="4197600"/>
                  <a:chExt cx="46080" cy="4284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>
                    <a:off x="552600" y="4197600"/>
                    <a:ext cx="46080" cy="42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554040" y="4199040"/>
                    <a:ext cx="31680" cy="30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8" name=""/>
              <p:cNvGrpSpPr/>
              <p:nvPr/>
            </p:nvGrpSpPr>
            <p:grpSpPr>
              <a:xfrm>
                <a:off x="409680" y="5488200"/>
                <a:ext cx="301680" cy="601560"/>
                <a:chOff x="409680" y="5488200"/>
                <a:chExt cx="301680" cy="601560"/>
              </a:xfrm>
            </p:grpSpPr>
            <p:grpSp>
              <p:nvGrpSpPr>
                <p:cNvPr id="249" name=""/>
                <p:cNvGrpSpPr/>
                <p:nvPr/>
              </p:nvGrpSpPr>
              <p:grpSpPr>
                <a:xfrm>
                  <a:off x="409680" y="5810400"/>
                  <a:ext cx="301680" cy="279360"/>
                  <a:chOff x="409680" y="5810400"/>
                  <a:chExt cx="301680" cy="279360"/>
                </a:xfrm>
              </p:grpSpPr>
              <p:sp>
                <p:nvSpPr>
                  <p:cNvPr id="250" name=""/>
                  <p:cNvSpPr/>
                  <p:nvPr/>
                </p:nvSpPr>
                <p:spPr>
                  <a:xfrm>
                    <a:off x="422280" y="5813640"/>
                    <a:ext cx="287280" cy="26352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409680" y="5810400"/>
                    <a:ext cx="301680" cy="279360"/>
                    <a:chOff x="409680" y="5810400"/>
                    <a:chExt cx="301680" cy="2793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409680" y="5810400"/>
                      <a:ext cx="0" cy="274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412920" y="608976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4" name=""/>
                <p:cNvGrpSpPr/>
                <p:nvPr/>
              </p:nvGrpSpPr>
              <p:grpSpPr>
                <a:xfrm>
                  <a:off x="409680" y="5488200"/>
                  <a:ext cx="301680" cy="280800"/>
                  <a:chOff x="409680" y="5488200"/>
                  <a:chExt cx="301680" cy="28080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22280" y="5492880"/>
                    <a:ext cx="287280" cy="26352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6" name=""/>
                  <p:cNvGrpSpPr/>
                  <p:nvPr/>
                </p:nvGrpSpPr>
                <p:grpSpPr>
                  <a:xfrm>
                    <a:off x="409680" y="5488200"/>
                    <a:ext cx="301680" cy="280800"/>
                    <a:chOff x="409680" y="5488200"/>
                    <a:chExt cx="301680" cy="280800"/>
                  </a:xfrm>
                </p:grpSpPr>
                <p:sp>
                  <p:nvSpPr>
                    <p:cNvPr id="257" name=""/>
                    <p:cNvSpPr/>
                    <p:nvPr/>
                  </p:nvSpPr>
                  <p:spPr>
                    <a:xfrm>
                      <a:off x="409680" y="5488200"/>
                      <a:ext cx="0" cy="274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8" name=""/>
                    <p:cNvSpPr/>
                    <p:nvPr/>
                  </p:nvSpPr>
                  <p:spPr>
                    <a:xfrm>
                      <a:off x="412920" y="576900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59" name=""/>
                <p:cNvSpPr/>
                <p:nvPr/>
              </p:nvSpPr>
              <p:spPr>
                <a:xfrm>
                  <a:off x="519120" y="5883480"/>
                  <a:ext cx="115920" cy="127080"/>
                </a:xfrm>
                <a:custGeom>
                  <a:avLst/>
                  <a:gdLst/>
                  <a:ahLst/>
                  <a:rect l="l" t="t" r="r" b="b"/>
                  <a:pathLst>
                    <a:path w="73" h="80">
                      <a:moveTo>
                        <a:pt x="34" y="0"/>
                      </a:moveTo>
                      <a:lnTo>
                        <a:pt x="0" y="79"/>
                      </a:lnTo>
                      <a:lnTo>
                        <a:pt x="72" y="79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17680" y="5562720"/>
                  <a:ext cx="115920" cy="127080"/>
                </a:xfrm>
                <a:custGeom>
                  <a:avLst/>
                  <a:gdLst/>
                  <a:ahLst/>
                  <a:rect l="l" t="t" r="r" b="b"/>
                  <a:pathLst>
                    <a:path w="73" h="80">
                      <a:moveTo>
                        <a:pt x="35" y="79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35" y="79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1" name=""/>
            <p:cNvGrpSpPr/>
            <p:nvPr/>
          </p:nvGrpSpPr>
          <p:grpSpPr>
            <a:xfrm>
              <a:off x="439920" y="1478160"/>
              <a:ext cx="191880" cy="179280"/>
              <a:chOff x="439920" y="1478160"/>
              <a:chExt cx="191880" cy="179280"/>
            </a:xfrm>
          </p:grpSpPr>
          <p:sp>
            <p:nvSpPr>
              <p:cNvPr id="262" name=""/>
              <p:cNvSpPr/>
              <p:nvPr/>
            </p:nvSpPr>
            <p:spPr>
              <a:xfrm>
                <a:off x="446040" y="1478160"/>
                <a:ext cx="185760" cy="1728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3" name=""/>
              <p:cNvGrpSpPr/>
              <p:nvPr/>
            </p:nvGrpSpPr>
            <p:grpSpPr>
              <a:xfrm>
                <a:off x="439920" y="1482840"/>
                <a:ext cx="187200" cy="174600"/>
                <a:chOff x="439920" y="1482840"/>
                <a:chExt cx="187200" cy="17460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439920" y="1482840"/>
                  <a:ext cx="0" cy="169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444600" y="16574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487440" y="1517760"/>
                <a:ext cx="102960" cy="98280"/>
                <a:chOff x="487440" y="1517760"/>
                <a:chExt cx="102960" cy="982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487440" y="1517760"/>
                  <a:ext cx="102960" cy="98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487440" y="1517760"/>
                  <a:ext cx="102960" cy="190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9" name=""/>
            <p:cNvGrpSpPr/>
            <p:nvPr/>
          </p:nvGrpSpPr>
          <p:grpSpPr>
            <a:xfrm>
              <a:off x="8618400" y="1487520"/>
              <a:ext cx="193680" cy="177840"/>
              <a:chOff x="8618400" y="1487520"/>
              <a:chExt cx="193680" cy="177840"/>
            </a:xfrm>
          </p:grpSpPr>
          <p:grpSp>
            <p:nvGrpSpPr>
              <p:cNvPr id="270" name=""/>
              <p:cNvGrpSpPr/>
              <p:nvPr/>
            </p:nvGrpSpPr>
            <p:grpSpPr>
              <a:xfrm>
                <a:off x="8618400" y="1487520"/>
                <a:ext cx="193680" cy="177840"/>
                <a:chOff x="8618400" y="1487520"/>
                <a:chExt cx="193680" cy="17784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8624880" y="1487520"/>
                  <a:ext cx="187200" cy="171720"/>
                </a:xfrm>
                <a:prstGeom prst="rect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2" name=""/>
                <p:cNvGrpSpPr/>
                <p:nvPr/>
              </p:nvGrpSpPr>
              <p:grpSpPr>
                <a:xfrm>
                  <a:off x="8618400" y="1489320"/>
                  <a:ext cx="193680" cy="176040"/>
                  <a:chOff x="8618400" y="1489320"/>
                  <a:chExt cx="193680" cy="176040"/>
                </a:xfrm>
              </p:grpSpPr>
              <p:sp>
                <p:nvSpPr>
                  <p:cNvPr id="273" name=""/>
                  <p:cNvSpPr/>
                  <p:nvPr/>
                </p:nvSpPr>
                <p:spPr>
                  <a:xfrm>
                    <a:off x="8618400" y="1489320"/>
                    <a:ext cx="0" cy="1699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8626320" y="1665360"/>
                    <a:ext cx="18576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5" name=""/>
              <p:cNvGrpSpPr/>
              <p:nvPr/>
            </p:nvGrpSpPr>
            <p:grpSpPr>
              <a:xfrm>
                <a:off x="8648640" y="1495440"/>
                <a:ext cx="138240" cy="152640"/>
                <a:chOff x="8648640" y="1495440"/>
                <a:chExt cx="138240" cy="1526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8650440" y="1509840"/>
                  <a:ext cx="136440" cy="127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V="1">
                  <a:off x="8648640" y="1495440"/>
                  <a:ext cx="13644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78" name=""/>
          <p:cNvSpPr/>
          <p:nvPr/>
        </p:nvSpPr>
        <p:spPr>
          <a:xfrm>
            <a:off x="1030680" y="190512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mp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66680" y="2286000"/>
            <a:ext cx="7269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sing the g77 compi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ting default Fortran compile op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c -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ting default C compile op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ting default link op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iling and linking:  demo.pg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iling and linking:  demo.pg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mpt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907280" y="190512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kprodct.c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041200" y="380520"/>
            <a:ext cx="660708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mpile and Link the Program - 3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FORTRAN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C3D56-C7A6-4F87-BB92-52786048CA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75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690480" y="159876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looks like we have everything taken care of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have all necessary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made a setup file (metakernel) pointing to th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wrote the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mpiled and linked 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t's run i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2913120" y="380520"/>
            <a:ext cx="486864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Running the Program -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FORTRAN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3F965-0A47-40B4-8AD6-D479FD327D10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859120" y="380520"/>
            <a:ext cx="497520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Running the Program - 2 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85920" y="1469880"/>
            <a:ext cx="8501040" cy="4782960"/>
            <a:chOff x="385920" y="1469880"/>
            <a:chExt cx="8501040" cy="4782960"/>
          </a:xfrm>
        </p:grpSpPr>
        <p:grpSp>
          <p:nvGrpSpPr>
            <p:cNvPr id="286" name=""/>
            <p:cNvGrpSpPr/>
            <p:nvPr/>
          </p:nvGrpSpPr>
          <p:grpSpPr>
            <a:xfrm>
              <a:off x="385920" y="1469880"/>
              <a:ext cx="8501040" cy="4782960"/>
              <a:chOff x="385920" y="1469880"/>
              <a:chExt cx="8501040" cy="4782960"/>
            </a:xfrm>
          </p:grpSpPr>
          <p:grpSp>
            <p:nvGrpSpPr>
              <p:cNvPr id="287" name=""/>
              <p:cNvGrpSpPr/>
              <p:nvPr/>
            </p:nvGrpSpPr>
            <p:grpSpPr>
              <a:xfrm>
                <a:off x="385920" y="1469880"/>
                <a:ext cx="8501040" cy="4782960"/>
                <a:chOff x="385920" y="1469880"/>
                <a:chExt cx="8501040" cy="4782960"/>
              </a:xfrm>
            </p:grpSpPr>
            <p:grpSp>
              <p:nvGrpSpPr>
                <p:cNvPr id="288" name=""/>
                <p:cNvGrpSpPr/>
                <p:nvPr/>
              </p:nvGrpSpPr>
              <p:grpSpPr>
                <a:xfrm>
                  <a:off x="385920" y="1469880"/>
                  <a:ext cx="8501040" cy="4782960"/>
                  <a:chOff x="385920" y="1469880"/>
                  <a:chExt cx="8501040" cy="478296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>
                    <a:off x="385920" y="1760400"/>
                    <a:ext cx="8501040" cy="4491000"/>
                  </a:xfrm>
                  <a:prstGeom prst="rect">
                    <a:avLst/>
                  </a:prstGeom>
                  <a:solidFill>
                    <a:srgbClr val="6f6f6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771480" y="1655640"/>
                    <a:ext cx="8115480" cy="459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385920" y="1469880"/>
                    <a:ext cx="8501040" cy="29376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385920" y="6170400"/>
                    <a:ext cx="8501040" cy="82440"/>
                  </a:xfrm>
                  <a:prstGeom prst="rect">
                    <a:avLst/>
                  </a:prstGeom>
                  <a:solidFill>
                    <a:srgbClr val="ababa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771480" y="6168960"/>
                    <a:ext cx="7766280" cy="8388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415800" y="1500120"/>
                    <a:ext cx="8437680" cy="23184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3795120" y="1500120"/>
                  <a:ext cx="155592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Terminal Window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409680" y="3186000"/>
                <a:ext cx="299880" cy="2143080"/>
                <a:chOff x="409680" y="3186000"/>
                <a:chExt cx="299880" cy="2143080"/>
              </a:xfrm>
            </p:grpSpPr>
            <p:grpSp>
              <p:nvGrpSpPr>
                <p:cNvPr id="297" name=""/>
                <p:cNvGrpSpPr/>
                <p:nvPr/>
              </p:nvGrpSpPr>
              <p:grpSpPr>
                <a:xfrm>
                  <a:off x="409680" y="3186000"/>
                  <a:ext cx="299880" cy="2143080"/>
                  <a:chOff x="409680" y="3186000"/>
                  <a:chExt cx="299880" cy="214308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>
                    <a:off x="422280" y="3193920"/>
                    <a:ext cx="287280" cy="212256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99" name=""/>
                  <p:cNvGrpSpPr/>
                  <p:nvPr/>
                </p:nvGrpSpPr>
                <p:grpSpPr>
                  <a:xfrm>
                    <a:off x="409680" y="3186000"/>
                    <a:ext cx="299880" cy="2143080"/>
                    <a:chOff x="409680" y="3186000"/>
                    <a:chExt cx="299880" cy="2143080"/>
                  </a:xfrm>
                </p:grpSpPr>
                <p:sp>
                  <p:nvSpPr>
                    <p:cNvPr id="300" name=""/>
                    <p:cNvSpPr/>
                    <p:nvPr/>
                  </p:nvSpPr>
                  <p:spPr>
                    <a:xfrm>
                      <a:off x="409680" y="3186000"/>
                      <a:ext cx="0" cy="21384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" name=""/>
                    <p:cNvSpPr/>
                    <p:nvPr/>
                  </p:nvSpPr>
                  <p:spPr>
                    <a:xfrm>
                      <a:off x="411120" y="532908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02" name=""/>
                <p:cNvGrpSpPr/>
                <p:nvPr/>
              </p:nvGrpSpPr>
              <p:grpSpPr>
                <a:xfrm>
                  <a:off x="552600" y="4235400"/>
                  <a:ext cx="46080" cy="42840"/>
                  <a:chOff x="552600" y="4235400"/>
                  <a:chExt cx="46080" cy="4284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>
                    <a:off x="552600" y="4235400"/>
                    <a:ext cx="46080" cy="42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554040" y="4236840"/>
                    <a:ext cx="31680" cy="30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5" name=""/>
              <p:cNvGrpSpPr/>
              <p:nvPr/>
            </p:nvGrpSpPr>
            <p:grpSpPr>
              <a:xfrm>
                <a:off x="409680" y="5526000"/>
                <a:ext cx="301680" cy="601560"/>
                <a:chOff x="409680" y="5526000"/>
                <a:chExt cx="301680" cy="601560"/>
              </a:xfrm>
            </p:grpSpPr>
            <p:grpSp>
              <p:nvGrpSpPr>
                <p:cNvPr id="306" name=""/>
                <p:cNvGrpSpPr/>
                <p:nvPr/>
              </p:nvGrpSpPr>
              <p:grpSpPr>
                <a:xfrm>
                  <a:off x="409680" y="5848200"/>
                  <a:ext cx="301680" cy="279360"/>
                  <a:chOff x="409680" y="5848200"/>
                  <a:chExt cx="301680" cy="27936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>
                    <a:off x="422280" y="5851440"/>
                    <a:ext cx="287280" cy="26352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08" name=""/>
                  <p:cNvGrpSpPr/>
                  <p:nvPr/>
                </p:nvGrpSpPr>
                <p:grpSpPr>
                  <a:xfrm>
                    <a:off x="409680" y="5848200"/>
                    <a:ext cx="301680" cy="279360"/>
                    <a:chOff x="409680" y="5848200"/>
                    <a:chExt cx="301680" cy="279360"/>
                  </a:xfrm>
                </p:grpSpPr>
                <p:sp>
                  <p:nvSpPr>
                    <p:cNvPr id="309" name=""/>
                    <p:cNvSpPr/>
                    <p:nvPr/>
                  </p:nvSpPr>
                  <p:spPr>
                    <a:xfrm>
                      <a:off x="409680" y="5848200"/>
                      <a:ext cx="0" cy="274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" name=""/>
                    <p:cNvSpPr/>
                    <p:nvPr/>
                  </p:nvSpPr>
                  <p:spPr>
                    <a:xfrm>
                      <a:off x="412920" y="612756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409680" y="5526000"/>
                  <a:ext cx="301680" cy="280800"/>
                  <a:chOff x="409680" y="5526000"/>
                  <a:chExt cx="301680" cy="28080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>
                    <a:off x="422280" y="5530680"/>
                    <a:ext cx="287280" cy="26352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409680" y="5526000"/>
                    <a:ext cx="301680" cy="280800"/>
                    <a:chOff x="409680" y="5526000"/>
                    <a:chExt cx="301680" cy="28080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>
                      <a:off x="409680" y="5526000"/>
                      <a:ext cx="0" cy="274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>
                      <a:off x="412920" y="580680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16" name=""/>
                <p:cNvSpPr/>
                <p:nvPr/>
              </p:nvSpPr>
              <p:spPr>
                <a:xfrm>
                  <a:off x="519120" y="5921280"/>
                  <a:ext cx="115920" cy="127080"/>
                </a:xfrm>
                <a:custGeom>
                  <a:avLst/>
                  <a:gdLst/>
                  <a:ahLst/>
                  <a:rect l="l" t="t" r="r" b="b"/>
                  <a:pathLst>
                    <a:path w="73" h="80">
                      <a:moveTo>
                        <a:pt x="34" y="0"/>
                      </a:moveTo>
                      <a:lnTo>
                        <a:pt x="0" y="79"/>
                      </a:lnTo>
                      <a:lnTo>
                        <a:pt x="72" y="79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17680" y="5600520"/>
                  <a:ext cx="115920" cy="127080"/>
                </a:xfrm>
                <a:custGeom>
                  <a:avLst/>
                  <a:gdLst/>
                  <a:ahLst/>
                  <a:rect l="l" t="t" r="r" b="b"/>
                  <a:pathLst>
                    <a:path w="73" h="80">
                      <a:moveTo>
                        <a:pt x="35" y="79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35" y="79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8" name=""/>
            <p:cNvGrpSpPr/>
            <p:nvPr/>
          </p:nvGrpSpPr>
          <p:grpSpPr>
            <a:xfrm>
              <a:off x="439920" y="1515960"/>
              <a:ext cx="191880" cy="179280"/>
              <a:chOff x="439920" y="1515960"/>
              <a:chExt cx="191880" cy="179280"/>
            </a:xfrm>
          </p:grpSpPr>
          <p:sp>
            <p:nvSpPr>
              <p:cNvPr id="319" name=""/>
              <p:cNvSpPr/>
              <p:nvPr/>
            </p:nvSpPr>
            <p:spPr>
              <a:xfrm>
                <a:off x="446040" y="1515960"/>
                <a:ext cx="185760" cy="1728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0" name=""/>
              <p:cNvGrpSpPr/>
              <p:nvPr/>
            </p:nvGrpSpPr>
            <p:grpSpPr>
              <a:xfrm>
                <a:off x="439920" y="1520640"/>
                <a:ext cx="187200" cy="174600"/>
                <a:chOff x="439920" y="1520640"/>
                <a:chExt cx="187200" cy="17460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439920" y="1520640"/>
                  <a:ext cx="0" cy="169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444600" y="169524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487440" y="1555560"/>
                <a:ext cx="102960" cy="98280"/>
                <a:chOff x="487440" y="1555560"/>
                <a:chExt cx="102960" cy="9828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487440" y="1555560"/>
                  <a:ext cx="102960" cy="98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487440" y="1555560"/>
                  <a:ext cx="102960" cy="190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6" name=""/>
            <p:cNvGrpSpPr/>
            <p:nvPr/>
          </p:nvGrpSpPr>
          <p:grpSpPr>
            <a:xfrm>
              <a:off x="8618400" y="1525320"/>
              <a:ext cx="193680" cy="177840"/>
              <a:chOff x="8618400" y="1525320"/>
              <a:chExt cx="193680" cy="177840"/>
            </a:xfrm>
          </p:grpSpPr>
          <p:grpSp>
            <p:nvGrpSpPr>
              <p:cNvPr id="327" name=""/>
              <p:cNvGrpSpPr/>
              <p:nvPr/>
            </p:nvGrpSpPr>
            <p:grpSpPr>
              <a:xfrm>
                <a:off x="8618400" y="1525320"/>
                <a:ext cx="193680" cy="177840"/>
                <a:chOff x="8618400" y="1525320"/>
                <a:chExt cx="193680" cy="17784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8624880" y="1525320"/>
                  <a:ext cx="187200" cy="171720"/>
                </a:xfrm>
                <a:prstGeom prst="rect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9" name=""/>
                <p:cNvGrpSpPr/>
                <p:nvPr/>
              </p:nvGrpSpPr>
              <p:grpSpPr>
                <a:xfrm>
                  <a:off x="8618400" y="1527120"/>
                  <a:ext cx="193680" cy="176040"/>
                  <a:chOff x="8618400" y="1527120"/>
                  <a:chExt cx="193680" cy="17604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8618400" y="1527120"/>
                    <a:ext cx="0" cy="1699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626320" y="1703160"/>
                    <a:ext cx="18576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2" name=""/>
              <p:cNvGrpSpPr/>
              <p:nvPr/>
            </p:nvGrpSpPr>
            <p:grpSpPr>
              <a:xfrm>
                <a:off x="8648640" y="1533240"/>
                <a:ext cx="138240" cy="152640"/>
                <a:chOff x="8648640" y="1533240"/>
                <a:chExt cx="138240" cy="15264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8650440" y="1547640"/>
                  <a:ext cx="136440" cy="127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 flipV="1">
                  <a:off x="8648640" y="1533240"/>
                  <a:ext cx="13644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35" name=""/>
          <p:cNvSpPr/>
          <p:nvPr/>
        </p:nvSpPr>
        <p:spPr>
          <a:xfrm>
            <a:off x="992520" y="18288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mp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2095560"/>
            <a:ext cx="77724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setup file name   &gt; setup.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satellite name    &gt; tit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spacecraft name   &gt; cassi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instrument name   &gt; cassini_iss_n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time              &gt; 2005 feb 15 8:15 U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cept planetocentric longitude       (deg):   -156.443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cept planetocentric latitude        (deg):     18.7885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cept planetodetic longitude         (deg):   -156.443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cept planetodetic latitude          (deg):     18.7885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ge from spacecraft to intercept point  (km):   4810.94188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ge from spacecraft to target center    (km):   7384.3265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cept phase angle                    (deg):     43.2745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cept solar incidence angle          (deg):     41.0384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cept emission angle                 (deg):      2.5146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mp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830240" y="1828800"/>
            <a:ext cx="7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FORTRAN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F9D0D-620A-4578-8AFE-D7104CCBC60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10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10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10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10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3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3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3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3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3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3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3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3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690120" y="1355760"/>
            <a:ext cx="8170920" cy="499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1840" indent="-231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itude defini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etocentric latitude of a point P:  angle between segment from origin to point and x-y plane (red arc in diagram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etodetic latitude of a point P: angle between x-y plane and extension of ellipsoid normal vector N that connects x-y plane and P (blue arc in diagram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4545000" y="380520"/>
            <a:ext cx="159552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Backup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2612880" y="3621240"/>
            <a:ext cx="0" cy="2420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-842760" y="4429080"/>
            <a:ext cx="6911280" cy="322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651040" y="3544920"/>
            <a:ext cx="2881440" cy="2457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303800" y="3544920"/>
            <a:ext cx="1228680" cy="249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17000" y="3181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116440" y="6002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808240" y="4964040"/>
            <a:ext cx="251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erence ellipso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rot="17748000">
            <a:off x="4957560" y="4616280"/>
            <a:ext cx="280800" cy="3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508200" y="5278320"/>
            <a:ext cx="1841400" cy="159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755" y="412"/>
                </a:moveTo>
                <a:arcTo wR="10800" hR="10800" stAng="-4447321" swAng="4394163"/>
                <a:lnTo>
                  <a:pt x="10800" y="10800"/>
                </a:lnTo>
                <a:close/>
              </a:path>
              <a:path fill="none" w="21600" h="21600">
                <a:moveTo>
                  <a:pt x="13755" y="412"/>
                </a:moveTo>
                <a:arcTo wR="10800" hR="10800" stAng="-4447321" swAng="4394163"/>
              </a:path>
            </a:pathLst>
          </a:custGeom>
          <a:solidFill>
            <a:srgbClr val="ffffff"/>
          </a:solidFill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612880" y="6041880"/>
            <a:ext cx="4916520" cy="38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48160" y="61466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y 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6000" y="45277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-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23240" y="3975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56200" y="5227560"/>
            <a:ext cx="1840680" cy="159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755" y="412"/>
                </a:moveTo>
                <a:arcTo wR="10800" hR="10800" stAng="-4447321" swAng="4394163"/>
                <a:lnTo>
                  <a:pt x="10800" y="10800"/>
                </a:lnTo>
                <a:close/>
              </a:path>
              <a:path fill="none" w="21600" h="21600">
                <a:moveTo>
                  <a:pt x="13755" y="412"/>
                </a:moveTo>
                <a:arcTo wR="10800" hR="10800" stAng="-4447321" swAng="4394163"/>
              </a:path>
            </a:pathLst>
          </a:custGeom>
          <a:solidFill>
            <a:srgbClr val="ffffff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911320" y="5554080"/>
            <a:ext cx="1441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netocentric latitu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976640" y="5626800"/>
            <a:ext cx="1343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netodetic latitu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FORTRAN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DF1FD-AC3D-4F39-98C3-FA0160CCCB5D}" type="slidenum">
              <a:t>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90120" y="1355760"/>
            <a:ext cx="8170920" cy="499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st, let's go over the important steps in the process of writing a SPICE-bas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tran program and putting it to work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derstand the geometry proble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fy the set of SPICE kernels that contain the data needed to perform the computati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ulate an algorithm to compute the quantities of interest using SPIC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 and compile the progra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t actual kernel files and verify that they contain the data needed to support the computation for the time(s) of interes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 the progra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illustrate these steps, let's write a program that computes the apparent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section of the boresight ray of a given CASSINI science instrument with th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rface of a given Saturnian satellite.   The program will comput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etocentric and planetodetic (geodetic) latitudes and longitudes of the intercept point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nge from spacecraft to intercept point and from spacecraft to target cen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llumination angles (phase, solar incidence, and emission) at the intercept poin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095360" y="380520"/>
            <a:ext cx="249732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FORTRAN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876F3-3DCB-48B5-9381-C3101B52BF9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611520" y="1393920"/>
            <a:ext cx="4730760" cy="5110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63520" y="5345280"/>
            <a:ext cx="28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what mode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0760" y="1239840"/>
            <a:ext cx="3970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want the bores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ept on the surface,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/c to intercept and to tar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er, and illumination angles 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tercept poi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3880" y="29718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9480" y="3548160"/>
            <a:ext cx="24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what objec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6600" y="4110120"/>
            <a:ext cx="31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which instru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8680" y="4724280"/>
            <a:ext cx="31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what spacecraf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53800" y="2968560"/>
            <a:ext cx="29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TIME (UTC, TDB or T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72640" y="358632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SAT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82920" y="411012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INST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04080" y="472428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SC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81240" y="533556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SETUP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90600" y="380520"/>
            <a:ext cx="450828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Observation Geometr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99640" y="4311720"/>
            <a:ext cx="80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63de8"/>
                </a:solidFill>
                <a:latin typeface="Arial"/>
              </a:rPr>
              <a:t>phase ang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3535400">
            <a:off x="6738840" y="4042440"/>
            <a:ext cx="1127160" cy="108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14229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142293"/>
              </a:path>
            </a:pathLst>
          </a:custGeom>
          <a:noFill/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26080" y="5656320"/>
            <a:ext cx="601560" cy="587160"/>
          </a:xfrm>
          <a:custGeom>
            <a:avLst/>
            <a:gdLst>
              <a:gd name="textAreaLeft" fmla="*/ 137160 w 601560"/>
              <a:gd name="textAreaRight" fmla="*/ 464400 w 601560"/>
              <a:gd name="textAreaTop" fmla="*/ 133920 h 587160"/>
              <a:gd name="textAreaBottom" fmla="*/ 453240 h 587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eaec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032440" y="4657680"/>
            <a:ext cx="2458800" cy="1306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35520" y="3890880"/>
            <a:ext cx="126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cc33"/>
                </a:solidFill>
                <a:latin typeface="Arial"/>
              </a:rPr>
              <a:t>solar incidence ang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7491240" y="3312720"/>
            <a:ext cx="844560" cy="13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951320" y="3006720"/>
            <a:ext cx="94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rface norm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78640" y="3484440"/>
            <a:ext cx="94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c0128"/>
                </a:solidFill>
                <a:latin typeface="Arial"/>
              </a:rPr>
              <a:t>emission ang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8618600">
            <a:off x="6408000" y="3691080"/>
            <a:ext cx="190476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15" y="4"/>
                </a:moveTo>
                <a:arcTo wR="10800" hR="10800" stAng="-5490773" swAng="5490773"/>
                <a:lnTo>
                  <a:pt x="10800" y="10800"/>
                </a:lnTo>
                <a:close/>
              </a:path>
              <a:path fill="none" w="21600" h="21600">
                <a:moveTo>
                  <a:pt x="10515" y="4"/>
                </a:moveTo>
                <a:arcTo wR="10800" hR="10800" stAng="-5490773" swAng="5490773"/>
              </a:path>
            </a:pathLst>
          </a:cu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7091000">
            <a:off x="6908040" y="4208760"/>
            <a:ext cx="1381680" cy="127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866" y="742"/>
                </a:moveTo>
                <a:arcTo wR="10800" hR="10800" stAng="-6681746" swAng="6749917"/>
                <a:lnTo>
                  <a:pt x="10800" y="10800"/>
                </a:lnTo>
                <a:close/>
              </a:path>
              <a:path fill="none" w="21600" h="21600">
                <a:moveTo>
                  <a:pt x="6866" y="742"/>
                </a:moveTo>
                <a:arcTo wR="10800" hR="10800" stAng="-6681746" swAng="6749917"/>
              </a:path>
            </a:pathLst>
          </a:cu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4911480" y="2888280"/>
            <a:ext cx="2032560" cy="2208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8840" y="6248520"/>
            <a:ext cx="4071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FORTRAN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0E415-DBBD-464F-B127-5F1ACD2125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52880" y="380520"/>
            <a:ext cx="258912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Needed Data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41760" y="1528920"/>
            <a:ext cx="3708360" cy="42814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86280" y="2322360"/>
            <a:ext cx="455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transformation ker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enta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 descri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pes of satellites, pla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hemerides for spacecraf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urn barycenter and satelli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40200" y="5079960"/>
            <a:ext cx="601920" cy="587520"/>
          </a:xfrm>
          <a:custGeom>
            <a:avLst/>
            <a:gdLst>
              <a:gd name="textAreaLeft" fmla="*/ 137160 w 601920"/>
              <a:gd name="textAreaRight" fmla="*/ 464760 w 601920"/>
              <a:gd name="textAreaTop" fmla="*/ 133920 h 587520"/>
              <a:gd name="textAreaBottom" fmla="*/ 453600 h 587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eaec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610400" y="3390480"/>
            <a:ext cx="53352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97240" y="3160800"/>
            <a:ext cx="94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rface norm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5148360" y="4235400"/>
            <a:ext cx="2457360" cy="1152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35520" y="3505320"/>
            <a:ext cx="126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cc33"/>
                </a:solidFill>
                <a:latin typeface="Arial"/>
              </a:rPr>
              <a:t>solar incidence ang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8618600">
            <a:off x="6549120" y="331668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39360" y="3125880"/>
            <a:ext cx="94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c0128"/>
                </a:solidFill>
                <a:latin typeface="Arial"/>
              </a:rPr>
              <a:t>emission ang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3535400">
            <a:off x="6779880" y="3642480"/>
            <a:ext cx="1123560" cy="1085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174" y="6"/>
                </a:moveTo>
                <a:arcTo wR="10800" hR="10800" stAng="-5280924" swAng="5280924"/>
                <a:lnTo>
                  <a:pt x="10800" y="10800"/>
                </a:lnTo>
                <a:close/>
              </a:path>
              <a:path fill="none" w="21600" h="21600">
                <a:moveTo>
                  <a:pt x="11174" y="6"/>
                </a:moveTo>
                <a:arcTo wR="10800" hR="10800" stAng="-5280924" swAng="5280924"/>
              </a:path>
            </a:pathLst>
          </a:custGeom>
          <a:noFill/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376320" y="4043520"/>
            <a:ext cx="820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63de8"/>
                </a:solidFill>
                <a:latin typeface="Arial"/>
              </a:rPr>
              <a:t>Phase ang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674000">
            <a:off x="7396200" y="3688200"/>
            <a:ext cx="87444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593" y="487"/>
                </a:moveTo>
                <a:arcTo wR="10800" hR="10800" stAng="-6436356" swAng="5907042"/>
                <a:lnTo>
                  <a:pt x="10800" y="10800"/>
                </a:lnTo>
                <a:close/>
              </a:path>
              <a:path fill="none" w="21600" h="21600">
                <a:moveTo>
                  <a:pt x="7593" y="487"/>
                </a:moveTo>
                <a:arcTo wR="10800" hR="10800" stAng="-6436356" swAng="5907042"/>
              </a:path>
            </a:pathLst>
          </a:cu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5554800" y="2754720"/>
            <a:ext cx="1581120" cy="186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243040" y="5587920"/>
            <a:ext cx="4071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FORTRAN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3F9DE-739D-447E-878F-834550683F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23360" y="1355760"/>
            <a:ext cx="8488440" cy="473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required to compute vectors, rotations and other parameters shown in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icture are stored in the SPICE kernels listed below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:  these kernels have been selected to support this presentation they should not be assumed to be appropriate for user applications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arameter                   Kernel Type      File na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---------------------     --------------   -----------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me conversions            generic LSK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naif0008.t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SINI SCLK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cassini.ts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lite orientation       generic PCK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pck00008.tp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lite shape             generic PCK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pck00008.tp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lite position          planet/sa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hemeris SPK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020514_SE_SAT105.bs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lanet barycenter position  planet SPK 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981005_PLTEPH-DE405S.bs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acecraft position         spacecraft SPK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tour9201.bs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acecraft orientation      spacecraft CK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cas_050215.b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strument alignment        CASSINI FK 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cas_v37.tf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strument boresight        Instrument IK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cas_iss_v09.t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1563480" y="380520"/>
            <a:ext cx="756756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Which Kinds of Kernels are Needed?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FORTRAN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A9BA4-200F-4AC2-9AD8-676DAB4CE23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342200" y="6566040"/>
            <a:ext cx="1801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69640" y="1650960"/>
            <a:ext cx="8296200" cy="469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asiest and most flexible way to make required kernels available to th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 is via FURNSH. For this example we make a setup file (also called a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kernel” or “furnsh kernel”) containing a list of kernels to be loaded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\begindat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ERNELS_TO_LOAD = (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'naif0008.tls',             'cassini.tsc',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                 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'pck00008.tpc',             '020514_SE_SAT105.bsp'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                 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'981005_PLTEPH-DE405S.bsp', 'tour9201.bsp',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                 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'cas_050215.bc',            'cas_v37.tf',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                 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'cas_iss_v09.ti'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\begintex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we make the program prompt for the name of this setup file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PROMPT ( 'Enter setup file name &gt; '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ETUP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FURNSH (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ETUP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3992400" y="380520"/>
            <a:ext cx="270216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Load Kernel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7360" y="2506680"/>
            <a:ext cx="762480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ote:  these kernels have been selected to support this presentation they should not be assumed to be appropriate for user applic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FORTRAN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B701E-2D9C-4B53-883D-BA15F5A44B9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90600" y="380520"/>
            <a:ext cx="450684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Soluti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3720" y="1355760"/>
            <a:ext cx="7763040" cy="53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pt for setup file (“metakernel”) name load kernels specified via setup file. (Done on previous chart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pt for user inputs required to completely specify problem.  Obtain further inputs required by geometry routines via SPICELIB cal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 the intersection of the boresight direction ray with the surface of the satellite, presented as a triaxial ellipsoi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there is an intersectio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vert Cartesian coordinates of the intercept point to planetocentric latitudinal and planetodetic coordin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 spacecraft-to-intercept point range and spacecraft-to-target center 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d the illumination angles (phase, solar incidence, and emission) at the intercept 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play the resul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discuss the geometric portion of the problem nex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FORTRAN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79062-A861-430C-A0BA-0615530ABE40}" type="slidenum">
              <a:t>8</a:t>
            </a:fld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50840" y="380520"/>
            <a:ext cx="678636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Compute Surface Intercept and Ranges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70040" y="4119480"/>
            <a:ext cx="7750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anges we want are obtained from the outputs o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RFXP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 These outputs are defined only if a surface  intercept is found.  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FOU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tru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pacecraft-to-surface intercept range is the output argu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DI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acecraft-to-target center range is the norm of the output argument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OBSPO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ts are km.  We use the SPICELIB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NOR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o obtain the nor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VNORM ( OBSPOS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'll write out the range data along with the other program resul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46000" y="3467160"/>
            <a:ext cx="768204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70040" y="1278000"/>
            <a:ext cx="79502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 the intercept point (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OI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of the instrument boresight vector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I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the satellite’s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surface at the TDB time of interest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.  This cal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so returns the distance between the spacecraft and intercept point (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DI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light-time corrected epoch at the intercept point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RGEP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, the targ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er-to-spacecraft vector (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OBSPO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, and a boolean flag indicating wheth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intercept was found (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FOU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.   We use "converged Newtonian" light tim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us stellar aberration corrections to produce the most accurate surfa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cept solution possi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SRFXPT ( 'Ellipsoid'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,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   'CN+S',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CNM,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FRAM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ITE,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OINT,  DIST,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TRGEPC,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  OBSPOS,  FOUND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 FORTRAN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81810-CF92-4BDF-9407-7B0CFCC4F6C4}" type="slidenum">
              <a:t>9</a:t>
            </a:fld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arles Acton</cp:lastModifiedBy>
  <cp:lastPrinted>2007-05-04T00:29:57Z</cp:lastPrinted>
  <dcterms:modified xsi:type="dcterms:W3CDTF">2007-10-12T23:53:59Z</dcterms:modified>
  <cp:revision>458</cp:revision>
  <dc:subject/>
  <dc:title>Writing a FORTRAN SPICE Based Program </dc:title>
</cp:coreProperties>
</file>