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15233-2040-498E-B3E0-242F983B5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7D81-61CF-44BE-BE24-84DDAD1E6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9452-B1AC-4C2E-BF6E-EFBEC36ED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FFC0-457B-4C48-B7F4-EBD01C910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D298-2182-42EE-AAED-9E7F7CC7D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1DE4-FFD1-4B16-98C3-9A8F7B8DF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5D150-84FE-4814-AB1B-E099E8FCF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59F2-AC8D-45AD-90EF-EAD2F2F19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D8358-A2E7-423E-A046-D05B191F5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D77E8-EF28-4261-8B62-94AC6956A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A885-580F-4711-AAA5-F581EE4A6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B146-9CAE-4C17-87DD-6BCBDB13A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FA3BFE-2553-49E9-89B7-6FEBFB4C48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2480" y="2263320"/>
            <a:ext cx="741672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 CSPICE 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6240" y="4687560"/>
            <a:ext cx="639108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0760" y="1353960"/>
            <a:ext cx="7762680" cy="20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 &amp;r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76400" y="380520"/>
            <a:ext cx="7166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4888080"/>
            <a:ext cx="77626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illum_c.  Units are radian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call, normal light time and stellar aberration corrections su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 "LT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03200" y="3160800"/>
            <a:ext cx="7763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330AF-A80A-4047-9399-CCED79B336E7}" type="slidenum">
              <a:t>10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4120" y="5157720"/>
            <a:ext cx="8440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LT+S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120" y="1278000"/>
            <a:ext cx="814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vnorm_c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874880"/>
            <a:ext cx="77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&amp;trgepc, obspos,  &amp;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4120" y="2411280"/>
            <a:ext cx="81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atitude and longitude of the point.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6000" y="2917800"/>
            <a:ext cx="8220240" cy="20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&amp;r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 =   ( re – rp ) /  r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" y="4965840"/>
            <a:ext cx="79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illumination angles at the surface point.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2770C-4F2C-402F-B23F-719DC4FADE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90120" y="1596960"/>
            <a:ext cx="80298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2B656-48C3-42C7-BD20-4997FE5D7C5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CSPICE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&amp;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satnm, "RADII", 3, &amp;i, radii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720" y="3313080"/>
            <a:ext cx="78343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20FA-E32C-4EA7-AB7F-B3598A92DE8C}" type="slidenum">
              <a:t>13</a:t>
            </a:fld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6840" y="380520"/>
            <a:ext cx="50943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4465800"/>
            <a:ext cx="6672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ompt for the user-supplied inputs for our program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09800" y="1600200"/>
            <a:ext cx="64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01880" y="2968560"/>
            <a:ext cx="58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epoch corresponding to the input time: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01880" y="32004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&amp;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02240" y="350532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radii of the satellit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10040" y="3774960"/>
            <a:ext cx="46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&amp;i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64440" y="41194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instrument boresight and frame nam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DDB5-EDDA-485A-96D6-CF63E53D47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770280" y="380520"/>
            <a:ext cx="31543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3720" y="1163520"/>
            <a:ext cx="821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Display results.  Convert angles from radians to degrees for output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720" y="1368360"/>
            <a:ext cx="7758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ongitude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atitude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ongitude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atitud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intercept point  (km):   %11.6f\n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target center    (km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hase angle          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solar incidence angl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emission angle                 (deg):   %11.6f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_c( obspos 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ha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sola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emissn                                            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5537160"/>
            <a:ext cx="7850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No intercept point found at %s\n", time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8B1A-F79E-455A-855D-ED4008336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C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3106800" y="380520"/>
            <a:ext cx="4481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170B-7981-4A4F-953C-0CF84688B0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93640" y="1787400"/>
            <a:ext cx="348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SpiceUsr.h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5760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08440" y="1233360"/>
            <a:ext cx="4049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al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bundry[ROOM]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dis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emiss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e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insite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obspos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cl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c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dl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dl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ha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point 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adii [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r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sol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Double    trgep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600" y="4459320"/>
            <a:ext cx="3701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iframe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instnm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atnm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cnm 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etupf[FILE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shape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Char      time  [WORDSZ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83364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Boolean   foun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8080" y="2908440"/>
            <a:ext cx="348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FILESZ          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WORDSZ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 ROOM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1640" y="220968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 (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5614920"/>
            <a:ext cx="3957840" cy="8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insti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iceInt       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0B51-9732-4B5B-8285-044979844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52200" y="380520"/>
            <a:ext cx="518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0080" y="4465800"/>
            <a:ext cx="667224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instid, &amp;found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!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msg_c ( "Instrument name # could not be 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translated to an ID code."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ch_c  ( "#",  instnm  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err_c ( "NAMENOTFOUND"                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etfov_c ( instid, ROOM,    WORDSZ,  WORDSZ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&amp;n,     bundry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Prompt for the user-supplied inputs for our program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09800" y="1600200"/>
            <a:ext cx="6474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atellite name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pacecraf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instrument name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time            &gt; ", WORD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01880" y="2968560"/>
            <a:ext cx="583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epoch corresponding to the input time: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01880" y="3200400"/>
            <a:ext cx="33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2et_c ( time, &amp;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02240" y="350532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radii of the satellit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10040" y="3774960"/>
            <a:ext cx="46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vrd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&amp;i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64440" y="41194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Get the instrument boresight and frame name.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7766-0C3F-439D-A7E2-EB4A34BDF1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15960" y="4927680"/>
            <a:ext cx="805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LT+S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4120" y="1201680"/>
            <a:ext cx="821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vnorm_c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3720" y="1720800"/>
            <a:ext cx="778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amp;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obspos,  &amp;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2200320"/>
            <a:ext cx="825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atitude and longitude of the point.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" y="2651040"/>
            <a:ext cx="829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lat_c ( point, &amp;r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Let re, rp, and f be the satellite's longer equato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ius, polar radius, and flattening factor.                      */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0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 =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[2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 =   ( re – rp ) /  re;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geo_c ( point, re, f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&amp;alt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4695840"/>
            <a:ext cx="806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mpute illumination angles at the surface point.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54360" y="380520"/>
            <a:ext cx="51847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8280" y="5772240"/>
            <a:ext cx="7526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ongitude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centric latitude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70080" y="5349960"/>
            <a:ext cx="752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output.                                                   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C6D1-E80C-48B5-A169-759853E91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046240"/>
            <a:ext cx="5867280" cy="28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7856-6E43-47D6-B3FE-F8819F722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6228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4160" y="1432080"/>
            <a:ext cx="775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ongitude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lanetodetic latitud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intercept point  (km):   %11.6f\n"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Range from spacecraft to target center    (km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phase angle          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solar incidence angle          (deg):   %11.6f\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Intercept emission angle                 (deg):   %11.6f\n"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c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dla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_c( obspos 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phas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sola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pr_c() * emissn                                            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640" y="4849920"/>
            <a:ext cx="762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 ( "No intercept point found at %s\n", time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3128-69C9-441F-88F0-29AD8C41FE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7800" y="1353960"/>
            <a:ext cx="7988400" cy="53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be sure that both the CSPICE Toolkit and a C compiler are properly install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"hello world" C program must be able to compile, link, and run successfully in your environme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y of the mkprodct.* scripts in the cspice/src/* paths of the CSPICE installation should execute properl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644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ys to compile and link the progra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're familiar with the "make" utility, create a makefile.  Use compiler and linker options from the mkprodct.* script found in the cspice/src/cook_c path of your CSPICE install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, modify the cookbook mkprodct.* build script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program name must be *.pgm, for example demo.pgm, to be recognized by the scrip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library references in the script to use absolute pathnames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the path for the executable to the current working directo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compiler supports it, add a –I option to reference the cspice/include path to make CSPICE *.h files available.  Otherwise, copy those files from the include path to your current working directo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ome platforms, you must modify the script to refer to your program by nam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7E1E-02C6-4901-8DCD-2333E5216F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77800" y="1430280"/>
            <a:ext cx="7988400" cy="52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compile the program on the command line. The program must be linked against the CSPICE object library cspice.a (cspice.lib under MS Visual C++/C) and the C math library.  On a PC running Linux and gcc, 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cc compiler is in your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dicated by the response to the command "which gcc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olkit is installed in the path (for the purpose of this example) /myhome/csp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ve named the program demo.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you can compile and link your program using the comm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cc –I/myhome/cspice/include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o demo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mo.c  /myhome/cspice/lib/cspice.a –l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 the preprocessor fla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DNON_UNIX_STD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d in the mkprodct.csh script is needed for code generated by f2c, but is usually unnecessary for compiling user cod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D728-12F2-49E0-A58D-BB95F5FE99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80880" y="1449360"/>
            <a:ext cx="8501040" cy="4782960"/>
            <a:chOff x="380880" y="1449360"/>
            <a:chExt cx="8501040" cy="4782960"/>
          </a:xfrm>
        </p:grpSpPr>
        <p:grpSp>
          <p:nvGrpSpPr>
            <p:cNvPr id="237" name=""/>
            <p:cNvGrpSpPr/>
            <p:nvPr/>
          </p:nvGrpSpPr>
          <p:grpSpPr>
            <a:xfrm>
              <a:off x="380880" y="1449360"/>
              <a:ext cx="8501040" cy="4782960"/>
              <a:chOff x="380880" y="1449360"/>
              <a:chExt cx="8501040" cy="47829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380880" y="1449360"/>
                <a:ext cx="8501040" cy="4782960"/>
                <a:chOff x="380880" y="1449360"/>
                <a:chExt cx="8501040" cy="478296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380880" y="1449360"/>
                  <a:ext cx="8501040" cy="4782960"/>
                  <a:chOff x="380880" y="1449360"/>
                  <a:chExt cx="8501040" cy="47829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380880" y="173988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66440" y="163512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380880" y="144936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380880" y="614988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66440" y="614844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10760" y="147960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3790080" y="147960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404640" y="3165480"/>
                <a:ext cx="299880" cy="2143080"/>
                <a:chOff x="404640" y="3165480"/>
                <a:chExt cx="299880" cy="214308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404640" y="3165480"/>
                  <a:ext cx="299880" cy="2143080"/>
                  <a:chOff x="404640" y="3165480"/>
                  <a:chExt cx="299880" cy="214308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417240" y="317340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404640" y="3165480"/>
                    <a:ext cx="299880" cy="2143080"/>
                    <a:chOff x="404640" y="3165480"/>
                    <a:chExt cx="299880" cy="214308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4640" y="316548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6080" y="5308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47560" y="4214880"/>
                  <a:ext cx="46080" cy="42840"/>
                  <a:chOff x="547560" y="4214880"/>
                  <a:chExt cx="46080" cy="428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47560" y="421488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49000" y="421632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404640" y="5505480"/>
                <a:ext cx="301680" cy="601560"/>
                <a:chOff x="404640" y="5505480"/>
                <a:chExt cx="301680" cy="6015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404640" y="5827680"/>
                  <a:ext cx="301680" cy="279360"/>
                  <a:chOff x="404640" y="5827680"/>
                  <a:chExt cx="301680" cy="27936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417240" y="58309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404640" y="5827680"/>
                    <a:ext cx="301680" cy="279360"/>
                    <a:chOff x="404640" y="5827680"/>
                    <a:chExt cx="301680" cy="2793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404640" y="582768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07880" y="61070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404640" y="5505480"/>
                  <a:ext cx="301680" cy="280800"/>
                  <a:chOff x="404640" y="5505480"/>
                  <a:chExt cx="301680" cy="28080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417240" y="551016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404640" y="5505480"/>
                    <a:ext cx="301680" cy="280800"/>
                    <a:chOff x="404640" y="5505480"/>
                    <a:chExt cx="301680" cy="280800"/>
                  </a:xfrm>
                </p:grpSpPr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404640" y="550548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07880" y="57862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514080" y="59007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12640" y="558000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434880" y="1495440"/>
              <a:ext cx="191880" cy="179280"/>
              <a:chOff x="434880" y="1495440"/>
              <a:chExt cx="191880" cy="179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41000" y="149544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434880" y="1500120"/>
                <a:ext cx="187200" cy="174600"/>
                <a:chOff x="434880" y="1500120"/>
                <a:chExt cx="187200" cy="1746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434880" y="150012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39560" y="167472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82400" y="1535040"/>
                <a:ext cx="102960" cy="98280"/>
                <a:chOff x="482400" y="1535040"/>
                <a:chExt cx="102960" cy="982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82400" y="153504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82400" y="153504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8613360" y="1504800"/>
              <a:ext cx="193680" cy="177840"/>
              <a:chOff x="8613360" y="1504800"/>
              <a:chExt cx="193680" cy="17784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8613360" y="1504800"/>
                <a:ext cx="193680" cy="177840"/>
                <a:chOff x="8613360" y="1504800"/>
                <a:chExt cx="193680" cy="177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619840" y="150480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0" name=""/>
                <p:cNvGrpSpPr/>
                <p:nvPr/>
              </p:nvGrpSpPr>
              <p:grpSpPr>
                <a:xfrm>
                  <a:off x="8613360" y="1506600"/>
                  <a:ext cx="193680" cy="176040"/>
                  <a:chOff x="8613360" y="1506600"/>
                  <a:chExt cx="193680" cy="17604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8613360" y="150660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8621280" y="168264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" name=""/>
              <p:cNvGrpSpPr/>
              <p:nvPr/>
            </p:nvGrpSpPr>
            <p:grpSpPr>
              <a:xfrm>
                <a:off x="8643600" y="1512720"/>
                <a:ext cx="138240" cy="152640"/>
                <a:chOff x="8643600" y="1512720"/>
                <a:chExt cx="138240" cy="1526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8645400" y="152712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8643600" y="151272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" name=""/>
          <p:cNvSpPr/>
          <p:nvPr/>
        </p:nvSpPr>
        <p:spPr>
          <a:xfrm>
            <a:off x="1030680" y="19051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2286000"/>
            <a:ext cx="4953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ompil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 -ansi -O2 -DNON_UNIX_ST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link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l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7280" y="19051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kprodct.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3EF8-A185-4FA0-AA57-43769A1C7B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75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and linked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686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5A36B-19EA-4EC5-A6CD-38C9BC0F71C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752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2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85920" y="1469880"/>
            <a:ext cx="8501040" cy="4782960"/>
            <a:chOff x="385920" y="1469880"/>
            <a:chExt cx="8501040" cy="4782960"/>
          </a:xfrm>
        </p:grpSpPr>
        <p:grpSp>
          <p:nvGrpSpPr>
            <p:cNvPr id="294" name=""/>
            <p:cNvGrpSpPr/>
            <p:nvPr/>
          </p:nvGrpSpPr>
          <p:grpSpPr>
            <a:xfrm>
              <a:off x="385920" y="1469880"/>
              <a:ext cx="8501040" cy="4782960"/>
              <a:chOff x="385920" y="1469880"/>
              <a:chExt cx="8501040" cy="4782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385920" y="1469880"/>
                <a:ext cx="8501040" cy="4782960"/>
                <a:chOff x="385920" y="1469880"/>
                <a:chExt cx="8501040" cy="478296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85920" y="1469880"/>
                  <a:ext cx="8501040" cy="4782960"/>
                  <a:chOff x="385920" y="1469880"/>
                  <a:chExt cx="8501040" cy="47829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85920" y="17604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771480" y="16556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385920" y="14698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85920" y="61704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771480" y="61689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415800" y="15001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3795120" y="15001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09680" y="3186000"/>
                <a:ext cx="299880" cy="2143080"/>
                <a:chOff x="409680" y="3186000"/>
                <a:chExt cx="299880" cy="2143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9680" y="3186000"/>
                  <a:ext cx="299880" cy="2143080"/>
                  <a:chOff x="409680" y="3186000"/>
                  <a:chExt cx="299880" cy="2143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22280" y="31939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9680" y="3186000"/>
                    <a:ext cx="299880" cy="2143080"/>
                    <a:chOff x="409680" y="3186000"/>
                    <a:chExt cx="299880" cy="214308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9680" y="31860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11120" y="53290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52600" y="4235400"/>
                  <a:ext cx="46080" cy="42840"/>
                  <a:chOff x="552600" y="4235400"/>
                  <a:chExt cx="46080" cy="4284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552600" y="42354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54040" y="42368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409680" y="5526000"/>
                <a:ext cx="301680" cy="601560"/>
                <a:chOff x="409680" y="5526000"/>
                <a:chExt cx="301680" cy="6015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409680" y="5848200"/>
                  <a:ext cx="301680" cy="279360"/>
                  <a:chOff x="409680" y="5848200"/>
                  <a:chExt cx="301680" cy="27936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22280" y="58514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9680" y="5848200"/>
                    <a:ext cx="301680" cy="279360"/>
                    <a:chOff x="409680" y="5848200"/>
                    <a:chExt cx="301680" cy="279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409680" y="584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412920" y="6127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409680" y="5526000"/>
                  <a:ext cx="301680" cy="280800"/>
                  <a:chOff x="409680" y="5526000"/>
                  <a:chExt cx="301680" cy="280800"/>
                </a:xfrm>
              </p:grpSpPr>
              <p:sp>
                <p:nvSpPr>
                  <p:cNvPr id="320" name=""/>
                  <p:cNvSpPr/>
                  <p:nvPr/>
                </p:nvSpPr>
                <p:spPr>
                  <a:xfrm>
                    <a:off x="422280" y="55306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9680" y="5526000"/>
                    <a:ext cx="301680" cy="280800"/>
                    <a:chOff x="409680" y="5526000"/>
                    <a:chExt cx="301680" cy="2808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409680" y="55260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412920" y="58068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4" name=""/>
                <p:cNvSpPr/>
                <p:nvPr/>
              </p:nvSpPr>
              <p:spPr>
                <a:xfrm>
                  <a:off x="519120" y="59212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7680" y="56005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39920" y="1515960"/>
              <a:ext cx="191880" cy="179280"/>
              <a:chOff x="439920" y="1515960"/>
              <a:chExt cx="191880" cy="17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040" y="15159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39920" y="1520640"/>
                <a:ext cx="187200" cy="174600"/>
                <a:chOff x="439920" y="1520640"/>
                <a:chExt cx="187200" cy="1746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39920" y="15206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4600" y="16952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87440" y="1555560"/>
                <a:ext cx="102960" cy="98280"/>
                <a:chOff x="487440" y="1555560"/>
                <a:chExt cx="102960" cy="982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87440" y="15555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87440" y="15555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"/>
            <p:cNvGrpSpPr/>
            <p:nvPr/>
          </p:nvGrpSpPr>
          <p:grpSpPr>
            <a:xfrm>
              <a:off x="8618400" y="1525320"/>
              <a:ext cx="193680" cy="177840"/>
              <a:chOff x="8618400" y="1525320"/>
              <a:chExt cx="193680" cy="1778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8618400" y="1525320"/>
                <a:ext cx="193680" cy="177840"/>
                <a:chOff x="8618400" y="1525320"/>
                <a:chExt cx="193680" cy="177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624880" y="15253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8618400" y="1527120"/>
                  <a:ext cx="193680" cy="176040"/>
                  <a:chOff x="8618400" y="1527120"/>
                  <a:chExt cx="193680" cy="17604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8618400" y="15271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626320" y="17031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0" name=""/>
              <p:cNvGrpSpPr/>
              <p:nvPr/>
            </p:nvGrpSpPr>
            <p:grpSpPr>
              <a:xfrm>
                <a:off x="8648640" y="1533240"/>
                <a:ext cx="138240" cy="152640"/>
                <a:chOff x="8648640" y="1533240"/>
                <a:chExt cx="138240" cy="1526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8650440" y="15476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8648640" y="15332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3" name=""/>
          <p:cNvSpPr/>
          <p:nvPr/>
        </p:nvSpPr>
        <p:spPr>
          <a:xfrm>
            <a:off x="99252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 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 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 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 (km): 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 (km): 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 (deg): 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30240" y="182880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6980-B82D-4E84-ABA0-A87DEF523E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3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3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8C564-89AB-4DC7-88EF-9FF1F9FEA696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CSPICE-ba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ection of the boresight ray of a given CASSINI science instrument with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 of a given Saturnian satellite.   The program will compu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45B3-068D-4B6A-9FC9-F2528E1C1EE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3800" y="29685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8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38840" y="4042440"/>
            <a:ext cx="112716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8000" y="369108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5" y="4"/>
                </a:moveTo>
                <a:arcTo wR="10800" hR="10800" stAng="-5490773" swAng="5490773"/>
                <a:lnTo>
                  <a:pt x="10800" y="10800"/>
                </a:lnTo>
                <a:close/>
              </a:path>
              <a:path fill="none" w="21600" h="21600">
                <a:moveTo>
                  <a:pt x="10515" y="4"/>
                </a:moveTo>
                <a:arcTo wR="10800" hR="10800" stAng="-5490773" swAng="5490773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08040" y="4208760"/>
            <a:ext cx="138168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66" y="742"/>
                </a:moveTo>
                <a:arcTo wR="10800" hR="10800" stAng="-6681746" swAng="6749917"/>
                <a:lnTo>
                  <a:pt x="10800" y="10800"/>
                </a:lnTo>
                <a:close/>
              </a:path>
              <a:path fill="none" w="21600" h="21600">
                <a:moveTo>
                  <a:pt x="6866" y="742"/>
                </a:moveTo>
                <a:arcTo wR="10800" hR="10800" stAng="-6681746" swAng="6749917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48480" y="629208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323E-1BE9-4DE7-98E5-52D88EA56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5960" y="40435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7920" y="5769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5618C-F372-463F-A3C8-4C7D8ACD24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3360" y="1355760"/>
            <a:ext cx="848844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63480" y="380520"/>
            <a:ext cx="7567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4E60-E556-4BFC-83EA-AA338C8976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2200" y="656604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69640" y="1650960"/>
            <a:ext cx="82962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required kernels available to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is via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rnsh_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For this example we make a setup file (also called 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kernel” or “furnsh kernel”) containing a list of kernels to be load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mpt_c ( "Enter setup file name &gt; ", FILESZ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rnsh_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992400" y="380520"/>
            <a:ext cx="27021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360" y="2506680"/>
            <a:ext cx="7624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31FC-F78F-4284-AA9D-7376B678AD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CSPICE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cept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EAA7-FEC7-4681-A121-EA36003F9D24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50840" y="380520"/>
            <a:ext cx="6786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Surface Intercept and Rang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7800" y="431172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srfxpt_c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CSPICE function vnorm_c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_c 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000" y="3467160"/>
            <a:ext cx="76820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5960" y="1585800"/>
            <a:ext cx="829620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trgepc), the targ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We use "converged Newtonian" light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stellar aberration corrections to produce the most accurate su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ept solution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_c ( "Ellipsoid"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"CN+S"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&amp;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amp;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obspos,  &amp;fou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CSPICE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64EB-7ECF-48FC-94F2-D441D960D41A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0-05-11T10:42:30Z</cp:lastPrinted>
  <dcterms:modified xsi:type="dcterms:W3CDTF">2007-10-12T23:53:44Z</dcterms:modified>
  <cp:revision>432</cp:revision>
  <dc:subject/>
  <dc:title>Writing a FORTRAN SPICE Based Program </dc:title>
</cp:coreProperties>
</file>