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A3B4A2-D351-4C9B-AE7F-CCC96F4E64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79680" y="380520"/>
            <a:ext cx="5727600" cy="898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0480" y="1984320"/>
            <a:ext cx="776304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690480" y="4129560"/>
            <a:ext cx="776304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C8220E-0CDC-44AF-8D28-1C556BA1BD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79680" y="380520"/>
            <a:ext cx="5727600" cy="898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90480" y="1984320"/>
            <a:ext cx="378828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8828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90480" y="4129560"/>
            <a:ext cx="378828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68480" y="4129560"/>
            <a:ext cx="378828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F698A6-549B-41BB-9ED6-E58D27C4D7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79680" y="380520"/>
            <a:ext cx="5727600" cy="898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90480" y="1984320"/>
            <a:ext cx="249948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315240" y="1984320"/>
            <a:ext cx="249948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940000" y="1984320"/>
            <a:ext cx="249948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690480" y="4129560"/>
            <a:ext cx="249948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315240" y="4129560"/>
            <a:ext cx="249948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5940000" y="4129560"/>
            <a:ext cx="249948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78EBC5-4625-4E1A-AC57-9E3063473E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479680" y="380520"/>
            <a:ext cx="5727600" cy="898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690480" y="1984320"/>
            <a:ext cx="7763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479680" y="380520"/>
            <a:ext cx="5727600" cy="898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90480" y="1984320"/>
            <a:ext cx="7763040" cy="410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479680" y="380520"/>
            <a:ext cx="5727600" cy="898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90480" y="1984320"/>
            <a:ext cx="3788280" cy="410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88280" cy="410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479680" y="380520"/>
            <a:ext cx="5727600" cy="898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2479680" y="380520"/>
            <a:ext cx="5727600" cy="416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479680" y="380520"/>
            <a:ext cx="5727600" cy="898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90480" y="1984320"/>
            <a:ext cx="378828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88280" cy="410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90480" y="4129560"/>
            <a:ext cx="378828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79680" y="380520"/>
            <a:ext cx="5727600" cy="898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690480" y="1984320"/>
            <a:ext cx="7763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8BCC28-7466-431E-A6A8-4752B52930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79680" y="380520"/>
            <a:ext cx="5727600" cy="898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90480" y="1984320"/>
            <a:ext cx="3788280" cy="410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8828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668480" y="4129560"/>
            <a:ext cx="378828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479680" y="380520"/>
            <a:ext cx="5727600" cy="898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90480" y="1984320"/>
            <a:ext cx="378828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8828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90480" y="4129560"/>
            <a:ext cx="776304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79680" y="380520"/>
            <a:ext cx="5727600" cy="898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90480" y="1984320"/>
            <a:ext cx="776304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690480" y="4129560"/>
            <a:ext cx="776304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79680" y="380520"/>
            <a:ext cx="5727600" cy="898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90480" y="1984320"/>
            <a:ext cx="378828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8828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90480" y="4129560"/>
            <a:ext cx="378828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668480" y="4129560"/>
            <a:ext cx="378828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79680" y="380520"/>
            <a:ext cx="5727600" cy="898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90480" y="1984320"/>
            <a:ext cx="249948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315240" y="1984320"/>
            <a:ext cx="249948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940000" y="1984320"/>
            <a:ext cx="249948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690480" y="4129560"/>
            <a:ext cx="249948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/>
          </p:nvPr>
        </p:nvSpPr>
        <p:spPr>
          <a:xfrm>
            <a:off x="3315240" y="4129560"/>
            <a:ext cx="249948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7"/>
          <p:cNvSpPr>
            <a:spLocks noGrp="1"/>
          </p:cNvSpPr>
          <p:nvPr>
            <p:ph/>
          </p:nvPr>
        </p:nvSpPr>
        <p:spPr>
          <a:xfrm>
            <a:off x="5940000" y="4129560"/>
            <a:ext cx="249948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479680" y="380520"/>
            <a:ext cx="5727600" cy="898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90480" y="1984320"/>
            <a:ext cx="7763040" cy="410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DDF6A7-071F-4D4C-AF95-34938861F4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79680" y="380520"/>
            <a:ext cx="5727600" cy="898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90480" y="1984320"/>
            <a:ext cx="3788280" cy="410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88280" cy="410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E32731-37DC-4A5A-BEB7-DA8DE2339D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479680" y="380520"/>
            <a:ext cx="5727600" cy="898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324A6F-403D-4C83-B5F4-7A9C175229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2479680" y="380520"/>
            <a:ext cx="5727600" cy="416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376F40-AA42-43FE-97D7-4BF2811BDB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479680" y="380520"/>
            <a:ext cx="5727600" cy="898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90480" y="1984320"/>
            <a:ext cx="378828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88280" cy="410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90480" y="4129560"/>
            <a:ext cx="378828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97BBFF-6F77-49C0-AF5E-5759D8353F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79680" y="380520"/>
            <a:ext cx="5727600" cy="898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90480" y="1984320"/>
            <a:ext cx="3788280" cy="410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8828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68480" y="4129560"/>
            <a:ext cx="378828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293A40-749F-4AD5-8BDA-F9860FD7BE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479680" y="380520"/>
            <a:ext cx="5727600" cy="898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90480" y="1984320"/>
            <a:ext cx="378828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8828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90480" y="4129560"/>
            <a:ext cx="776304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F5159A-D581-46A9-BDDA-1B5646591C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79680" y="380520"/>
            <a:ext cx="5727600" cy="898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2054160" y="919080"/>
            <a:ext cx="65754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59920" y="969840"/>
            <a:ext cx="3903840" cy="2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200" bIns="252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90480" y="1984320"/>
            <a:ext cx="7763040" cy="410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71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39720" indent="-1695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99692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99692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99692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12600" y="6518160"/>
            <a:ext cx="2095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0" y="6616800"/>
            <a:ext cx="2890800" cy="24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241760" y="6616800"/>
            <a:ext cx="1901880" cy="24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6F977A3-FD77-45D5-8BFC-63B34DFE1A33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-227520" y="182520"/>
            <a:ext cx="2226240" cy="894960"/>
            <a:chOff x="-227520" y="182520"/>
            <a:chExt cx="2226240" cy="894960"/>
          </a:xfrm>
        </p:grpSpPr>
        <p:sp>
          <p:nvSpPr>
            <p:cNvPr id="8" name=""/>
            <p:cNvSpPr/>
            <p:nvPr/>
          </p:nvSpPr>
          <p:spPr>
            <a:xfrm flipH="1">
              <a:off x="1005480" y="326520"/>
              <a:ext cx="124920" cy="1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684" y="19702"/>
                  </a:moveTo>
                  <a:arcTo wR="10800" hR="10800" stAng="7469441" swAng="17318365"/>
                  <a:lnTo>
                    <a:pt x="10800" y="10800"/>
                  </a:lnTo>
                  <a:close/>
                </a:path>
                <a:path fill="none" w="21600" h="21600">
                  <a:moveTo>
                    <a:pt x="4684" y="19702"/>
                  </a:moveTo>
                  <a:arcTo wR="10800" hR="10800" stAng="7469441" swAng="17318365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77840" y="462960"/>
              <a:ext cx="1820880" cy="61452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911520" y="559440"/>
              <a:ext cx="310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>
              <a:off x="1066680" y="511560"/>
              <a:ext cx="0" cy="9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4880" y="638640"/>
              <a:ext cx="731880" cy="246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>
              <a:off x="-227160" y="367200"/>
              <a:ext cx="2204640" cy="517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672674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6726747"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92440" y="849600"/>
              <a:ext cx="74160" cy="7416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7200" bIns="72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816200" y="567360"/>
              <a:ext cx="74160" cy="7416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7200" bIns="72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>
              <a:off x="1069920" y="240480"/>
              <a:ext cx="0" cy="68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87400" y="370800"/>
              <a:ext cx="369360" cy="397440"/>
            </a:xfrm>
            <a:custGeom>
              <a:avLst/>
              <a:gdLst/>
              <a:ahLst/>
              <a:rect l="l" t="t" r="r" b="b"/>
              <a:pathLst>
                <a:path w="233" h="251">
                  <a:moveTo>
                    <a:pt x="134" y="0"/>
                  </a:moveTo>
                  <a:lnTo>
                    <a:pt x="95" y="0"/>
                  </a:lnTo>
                  <a:lnTo>
                    <a:pt x="0" y="246"/>
                  </a:lnTo>
                  <a:lnTo>
                    <a:pt x="114" y="35"/>
                  </a:lnTo>
                  <a:lnTo>
                    <a:pt x="233" y="251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 flipV="1">
              <a:off x="1069920" y="304200"/>
              <a:ext cx="0" cy="12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90240" y="182520"/>
              <a:ext cx="58680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170720" y="182520"/>
              <a:ext cx="67968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03520" y="2281320"/>
            <a:ext cx="5727600" cy="898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054160" y="919080"/>
            <a:ext cx="65754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057400" y="969840"/>
            <a:ext cx="3903840" cy="2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200" bIns="252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-12600" y="6518160"/>
            <a:ext cx="2095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-227520" y="182520"/>
            <a:ext cx="2226240" cy="894960"/>
            <a:chOff x="-227520" y="182520"/>
            <a:chExt cx="2226240" cy="894960"/>
          </a:xfrm>
        </p:grpSpPr>
        <p:sp>
          <p:nvSpPr>
            <p:cNvPr id="62" name=""/>
            <p:cNvSpPr/>
            <p:nvPr/>
          </p:nvSpPr>
          <p:spPr>
            <a:xfrm flipH="1">
              <a:off x="1005480" y="326520"/>
              <a:ext cx="124920" cy="1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684" y="19702"/>
                  </a:moveTo>
                  <a:arcTo wR="10800" hR="10800" stAng="7469441" swAng="17318365"/>
                  <a:lnTo>
                    <a:pt x="10800" y="10800"/>
                  </a:lnTo>
                  <a:close/>
                </a:path>
                <a:path fill="none" w="21600" h="21600">
                  <a:moveTo>
                    <a:pt x="4684" y="19702"/>
                  </a:moveTo>
                  <a:arcTo wR="10800" hR="10800" stAng="7469441" swAng="17318365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77840" y="462960"/>
              <a:ext cx="1820880" cy="61452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911520" y="559440"/>
              <a:ext cx="310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>
              <a:off x="1066680" y="511560"/>
              <a:ext cx="0" cy="9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24880" y="638640"/>
              <a:ext cx="731880" cy="246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V="1">
              <a:off x="-227160" y="367200"/>
              <a:ext cx="2204640" cy="517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672674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6726747"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92440" y="849600"/>
              <a:ext cx="74160" cy="7416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7200" bIns="72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816200" y="567360"/>
              <a:ext cx="74160" cy="7416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7200" bIns="72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V="1">
              <a:off x="1069920" y="240480"/>
              <a:ext cx="0" cy="68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87400" y="370800"/>
              <a:ext cx="369360" cy="397440"/>
            </a:xfrm>
            <a:custGeom>
              <a:avLst/>
              <a:gdLst/>
              <a:ahLst/>
              <a:rect l="l" t="t" r="r" b="b"/>
              <a:pathLst>
                <a:path w="233" h="251">
                  <a:moveTo>
                    <a:pt x="134" y="0"/>
                  </a:moveTo>
                  <a:lnTo>
                    <a:pt x="95" y="0"/>
                  </a:lnTo>
                  <a:lnTo>
                    <a:pt x="0" y="246"/>
                  </a:lnTo>
                  <a:lnTo>
                    <a:pt x="114" y="35"/>
                  </a:lnTo>
                  <a:lnTo>
                    <a:pt x="233" y="251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V="1">
              <a:off x="1069920" y="304200"/>
              <a:ext cx="0" cy="12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91320" y="182520"/>
              <a:ext cx="58680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171440" y="182520"/>
              <a:ext cx="67968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2960" algn="ctr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0160" algn="ctr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25560" algn="ctr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82556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82556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66720" y="2263680"/>
            <a:ext cx="5994720" cy="100656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</a:rPr>
              <a:t>Writing an Mice (MATLAB) </a:t>
            </a:r>
            <a:br>
              <a:rPr sz="3600"/>
            </a:br>
            <a:r>
              <a:rPr b="1" lang="en-US" sz="3600" spc="-1" strike="noStrike">
                <a:solidFill>
                  <a:srgbClr val="081d58"/>
                </a:solidFill>
                <a:latin typeface="Arial"/>
              </a:rPr>
              <a:t>Based Program</a:t>
            </a:r>
            <a:endParaRPr b="1" lang="en-US" sz="36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1295280" y="4723920"/>
            <a:ext cx="6391440" cy="174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23184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81d58"/>
                </a:solidFill>
                <a:latin typeface="Arial"/>
              </a:rPr>
              <a:t>October 2007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876320" y="380520"/>
            <a:ext cx="7159680" cy="4222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81d58"/>
                </a:solidFill>
                <a:latin typeface="Arial"/>
              </a:rPr>
              <a:t>Compute Lat/Lon and Illumination Angles</a:t>
            </a:r>
            <a:endParaRPr b="1" lang="en-US" sz="28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85800" y="1353960"/>
            <a:ext cx="78487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ute the planetocentric latitude (</a:t>
            </a:r>
            <a:r>
              <a:rPr b="1" lang="en-US" sz="1600" spc="-1" strike="noStrike">
                <a:solidFill>
                  <a:srgbClr val="063de8"/>
                </a:solidFill>
                <a:latin typeface="Courier New"/>
              </a:rPr>
              <a:t>pcla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 and longitude (</a:t>
            </a:r>
            <a:r>
              <a:rPr b="1" lang="en-US" sz="1600" spc="-1" strike="noStrike">
                <a:solidFill>
                  <a:srgbClr val="063de8"/>
                </a:solidFill>
                <a:latin typeface="Courier New"/>
              </a:rPr>
              <a:t>pcl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, as well as the planetodetic latitude (</a:t>
            </a:r>
            <a:r>
              <a:rPr b="1" lang="en-US" sz="1600" spc="-1" strike="noStrike">
                <a:solidFill>
                  <a:srgbClr val="063de8"/>
                </a:solidFill>
                <a:latin typeface="Courier New"/>
              </a:rPr>
              <a:t>pdla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 and longitude (</a:t>
            </a:r>
            <a:r>
              <a:rPr b="1" lang="en-US" sz="1600" spc="-1" strike="noStrike">
                <a:solidFill>
                  <a:srgbClr val="063de8"/>
                </a:solidFill>
                <a:latin typeface="Courier New"/>
              </a:rPr>
              <a:t>pdl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 of  the intersection point;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‘found’ the return boolean from cspice_srfxp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200" spc="-1" strike="noStrike">
                <a:solidFill>
                  <a:srgbClr val="760f50"/>
                </a:solidFill>
                <a:latin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( found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[</a:t>
            </a:r>
            <a:r>
              <a:rPr b="1" lang="en-US" sz="1200" spc="-1" strike="noStrike">
                <a:solidFill>
                  <a:srgbClr val="063de8"/>
                </a:solidFill>
                <a:latin typeface="Courier New"/>
              </a:rPr>
              <a:t>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200" spc="-1" strike="noStrike">
                <a:solidFill>
                  <a:srgbClr val="063de8"/>
                </a:solidFill>
                <a:latin typeface="Courier New"/>
              </a:rPr>
              <a:t>pclon, pcla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] = cspice_reclat( point 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303200" y="2971800"/>
            <a:ext cx="6392880" cy="16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% Let re, rp, and f be the satellite's longer equator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% radius, polar radius, and flattening fac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e = </a:t>
            </a:r>
            <a:r>
              <a:rPr b="1" lang="en-US" sz="1200" spc="-1" strike="noStrike">
                <a:solidFill>
                  <a:srgbClr val="fc0128"/>
                </a:solidFill>
                <a:latin typeface="Courier New"/>
              </a:rPr>
              <a:t>radii(1)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p = </a:t>
            </a:r>
            <a:r>
              <a:rPr b="1" lang="en-US" sz="1200" spc="-1" strike="noStrike">
                <a:solidFill>
                  <a:srgbClr val="fc0128"/>
                </a:solidFill>
                <a:latin typeface="Courier New"/>
              </a:rPr>
              <a:t>radii(3)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  = ( re - rp ) / re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[</a:t>
            </a:r>
            <a:r>
              <a:rPr b="1" lang="en-US" sz="1200" spc="-1" strike="noStrike">
                <a:solidFill>
                  <a:srgbClr val="063de8"/>
                </a:solidFill>
                <a:latin typeface="Courier New"/>
              </a:rPr>
              <a:t>pdla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200" spc="-1" strike="noStrike">
                <a:solidFill>
                  <a:srgbClr val="063de8"/>
                </a:solidFill>
                <a:latin typeface="Courier New"/>
              </a:rPr>
              <a:t>pdla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, alt] = cspice_recgeo( point, re, f 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95160" y="4952880"/>
            <a:ext cx="7763040" cy="10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illumination angles we want are the outputs of cspice_illum.  Units are radia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84360" indent="-227160"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4360" indent="-22716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[</a:t>
            </a:r>
            <a:r>
              <a:rPr b="1" lang="en-US" sz="1200" spc="-1" strike="noStrike">
                <a:solidFill>
                  <a:srgbClr val="063de8"/>
                </a:solidFill>
                <a:latin typeface="Courier New"/>
              </a:rPr>
              <a:t>pha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200" spc="-1" strike="noStrike">
                <a:solidFill>
                  <a:srgbClr val="063de8"/>
                </a:solidFill>
                <a:latin typeface="Courier New"/>
              </a:rPr>
              <a:t>sol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200" spc="-1" strike="noStrike">
                <a:solidFill>
                  <a:srgbClr val="063de8"/>
                </a:solidFill>
                <a:latin typeface="Courier New"/>
              </a:rPr>
              <a:t>emiss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] = cspice_illum( </a:t>
            </a:r>
            <a:r>
              <a:rPr b="1" lang="en-US" sz="1200" spc="-1" strike="noStrike">
                <a:solidFill>
                  <a:srgbClr val="fc0128"/>
                </a:solidFill>
                <a:latin typeface="Courier New"/>
              </a:rPr>
              <a:t>satnm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200" spc="-1" strike="noStrike">
                <a:solidFill>
                  <a:srgbClr val="fc0128"/>
                </a:solidFill>
                <a:latin typeface="Courier New"/>
              </a:rPr>
              <a:t>e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, ‘CN+S’, </a:t>
            </a:r>
            <a:r>
              <a:rPr b="1" lang="en-US" sz="1200" spc="-1" strike="noStrike">
                <a:solidFill>
                  <a:srgbClr val="fc0128"/>
                </a:solidFill>
                <a:latin typeface="Courier New"/>
              </a:rPr>
              <a:t>scnm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, point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riting a Mice-based progra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55CD65-35ED-45C8-911C-C2D1BA8072B4}" type="slidenum">
              <a:t>10</a:t>
            </a:fld>
          </a:p>
        </p:txBody>
      </p:sp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" dur="5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" dur="5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4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016000" y="380520"/>
            <a:ext cx="6654960" cy="474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Geometry Calculations: Summary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1353960"/>
            <a:ext cx="800100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% Compute the boresight ray intersection with the surface of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% target body. `</a:t>
            </a:r>
            <a:r>
              <a:rPr b="1" lang="en-US" sz="1200" spc="-1" strike="noStrike">
                <a:solidFill>
                  <a:srgbClr val="063de8"/>
                </a:solidFill>
                <a:latin typeface="Courier New"/>
              </a:rPr>
              <a:t>di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ヒラギノ角ゴ Pro W3"/>
              </a:rPr>
              <a:t>’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and norm(</a:t>
            </a:r>
            <a:r>
              <a:rPr b="1" lang="en-US" sz="1200" spc="-1" strike="noStrike">
                <a:solidFill>
                  <a:srgbClr val="063de8"/>
                </a:solidFill>
                <a:latin typeface="Courier New"/>
              </a:rPr>
              <a:t>obspo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 yield desired rang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[</a:t>
            </a:r>
            <a:r>
              <a:rPr b="1" lang="en-US" sz="1200" spc="-1" strike="noStrike">
                <a:solidFill>
                  <a:srgbClr val="063de8"/>
                </a:solidFill>
                <a:latin typeface="Courier New"/>
              </a:rPr>
              <a:t>point, dist, trgepc,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obspos</a:t>
            </a:r>
            <a:r>
              <a:rPr b="1" lang="en-US" sz="1200" spc="-1" strike="noStrike">
                <a:solidFill>
                  <a:srgbClr val="063de8"/>
                </a:solidFill>
                <a:latin typeface="Courier New"/>
              </a:rPr>
              <a:t>, foun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] = cspice_srfxpt( 'Ellipsoid', 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fc0128"/>
                </a:solidFill>
                <a:latin typeface="Courier New"/>
              </a:rPr>
              <a:t>satnm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200" spc="-1" strike="noStrike">
                <a:solidFill>
                  <a:srgbClr val="fc0128"/>
                </a:solidFill>
                <a:latin typeface="Courier New"/>
              </a:rPr>
              <a:t>e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, ‘CN+S’, </a:t>
            </a:r>
            <a:r>
              <a:rPr b="1" lang="en-US" sz="1200" spc="-1" strike="noStrike">
                <a:solidFill>
                  <a:srgbClr val="fc0128"/>
                </a:solidFill>
                <a:latin typeface="Courier New"/>
              </a:rPr>
              <a:t>scnm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200" spc="-1" strike="noStrike">
                <a:solidFill>
                  <a:srgbClr val="fc0128"/>
                </a:solidFill>
                <a:latin typeface="Courier New"/>
              </a:rPr>
              <a:t>ifram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200" spc="-1" strike="noStrike">
                <a:solidFill>
                  <a:srgbClr val="fc0128"/>
                </a:solidFill>
                <a:latin typeface="Courier New"/>
              </a:rPr>
              <a:t>insi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% If an intercept is found, compute planetocentric and planet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% latitude and longitude of the point.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if ( found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[r, </a:t>
            </a:r>
            <a:r>
              <a:rPr b="1" lang="en-US" sz="1200" spc="-1" strike="noStrike">
                <a:solidFill>
                  <a:srgbClr val="063de8"/>
                </a:solidFill>
                <a:latin typeface="Courier New"/>
              </a:rPr>
              <a:t>pclon, pcla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] = cspice_reclat( point 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% Let re, rp, and f be the satellite's longer equator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% radius, polar radius, and flattening fac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e = radii(1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p = radii(3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  = ( re - rp ) / re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[</a:t>
            </a:r>
            <a:r>
              <a:rPr b="1" lang="en-US" sz="1200" spc="-1" strike="noStrike">
                <a:solidFill>
                  <a:srgbClr val="063de8"/>
                </a:solidFill>
                <a:latin typeface="Courier New"/>
              </a:rPr>
              <a:t>pdlon, pdla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, alt] = cspice_recgeo( point, re, f 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% Compute illumination angles at the surface poi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[</a:t>
            </a:r>
            <a:r>
              <a:rPr b="1" lang="en-US" sz="1200" spc="-1" strike="noStrike">
                <a:solidFill>
                  <a:srgbClr val="063de8"/>
                </a:solidFill>
                <a:latin typeface="Courier New"/>
              </a:rPr>
              <a:t>phase, solar, emiss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] = cspice_illum( </a:t>
            </a:r>
            <a:r>
              <a:rPr b="1" lang="en-US" sz="1200" spc="-1" strike="noStrike">
                <a:solidFill>
                  <a:srgbClr val="fc0128"/>
                </a:solidFill>
                <a:latin typeface="Courier New"/>
              </a:rPr>
              <a:t>satnm, e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, ’CN+S', </a:t>
            </a:r>
            <a:r>
              <a:rPr b="1" lang="en-US" sz="1200" spc="-1" strike="noStrike">
                <a:solidFill>
                  <a:srgbClr val="063de8"/>
                </a:solidFill>
                <a:latin typeface="Courier New"/>
              </a:rPr>
              <a:t>scnm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, point 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riting a Mice-based progra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14F091-CCBC-4293-88EC-377569891B5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6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1" dur="5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6" dur="5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" dur="500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6" dur="500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1" dur="500"/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6" dur="500"/>
                                        <p:tgtEl>
                                          <p:spTgt spid="1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1" dur="500"/>
                                        <p:tgtEl>
                                          <p:spTgt spid="1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" dur="500"/>
                                        <p:tgtEl>
                                          <p:spTgt spid="1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1" dur="500"/>
                                        <p:tgtEl>
                                          <p:spTgt spid="1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6" dur="500"/>
                                        <p:tgtEl>
                                          <p:spTgt spid="17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17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6" dur="500"/>
                                        <p:tgtEl>
                                          <p:spTgt spid="17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1" dur="500"/>
                                        <p:tgtEl>
                                          <p:spTgt spid="172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6" dur="500"/>
                                        <p:tgtEl>
                                          <p:spTgt spid="172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1" dur="500"/>
                                        <p:tgtEl>
                                          <p:spTgt spid="172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6" dur="500"/>
                                        <p:tgtEl>
                                          <p:spTgt spid="172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1" dur="500"/>
                                        <p:tgtEl>
                                          <p:spTgt spid="172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690480" y="1596600"/>
            <a:ext cx="7996320" cy="4651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code above used quite a few inputs that we don't have yet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DB epoch of interest ( 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e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)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ellite and s/c names (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satnm, scnm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ellite ellipsoid radii (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radi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strument fixed frame name (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ifram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strument boresight vector in the instrument frame (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insit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of these values are user inputs; others can be obtained via CSPICE call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the required kernels have been loaded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t's prompt for the satellite name (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satnm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, spacecraft name (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scnm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, instrument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(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instnm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 and time of interest  (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tim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70000"/>
              </a:lnSpc>
              <a:spcBef>
                <a:spcPts val="524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fc0128"/>
                </a:solidFill>
                <a:latin typeface="Courier New"/>
              </a:rPr>
              <a:t>satnm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= input( 'Enter satellite name  &gt; ', 's'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fc0128"/>
                </a:solidFill>
                <a:latin typeface="Courier New"/>
              </a:rPr>
              <a:t>scnm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= input( 'Enter spacecraft name &gt; ', 's'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fc0128"/>
                </a:solidFill>
                <a:latin typeface="Courier New"/>
              </a:rPr>
              <a:t>instnm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= input( 'Enter instrument name &gt; ', 's'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fc0128"/>
                </a:solidFill>
                <a:latin typeface="Courier New"/>
              </a:rPr>
              <a:t>tim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= input( 'Enter time            &gt; ', 's'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title"/>
          </p:nvPr>
        </p:nvSpPr>
        <p:spPr>
          <a:xfrm>
            <a:off x="3981240" y="380520"/>
            <a:ext cx="2724120" cy="474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Get inputs - 1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riting a Mice-based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7C5DC4-3217-44CC-A6A0-CF3A15949B58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981240" y="380520"/>
            <a:ext cx="2724120" cy="474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Get Inputs - 2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93720" y="3098880"/>
            <a:ext cx="8026560" cy="19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93720" y="1447920"/>
            <a:ext cx="810252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n we can get the rest of the inputs from Mice call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o get the TDB epoch (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e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 from the user-supplied time string (which ma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fer to the UTC, TDB or TT time systems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200" spc="-1" strike="noStrike">
                <a:solidFill>
                  <a:srgbClr val="fc0128"/>
                </a:solidFill>
                <a:latin typeface="Courier New"/>
              </a:rPr>
              <a:t>e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= cspice_str2et( time 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93720" y="3049560"/>
            <a:ext cx="7834320" cy="6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o get the satellite’s ellipsoid radii (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radi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adii = cspice_bodvrd(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atnm, 'RADII', 3 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93720" y="3902040"/>
            <a:ext cx="783432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o get the instrument boresight direction (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insit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 and the name of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strument frame (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ifram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 in which it is defin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[instid, found] = cspice_bodn2c( </a:t>
            </a:r>
            <a:r>
              <a:rPr b="1" lang="en-US" sz="1200" spc="-1" strike="noStrike">
                <a:solidFill>
                  <a:srgbClr val="fc0128"/>
                </a:solidFill>
                <a:latin typeface="Courier New"/>
              </a:rPr>
              <a:t>instnm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if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 ~found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xt = sprintf( 'Unable to determine ID for instrument: %d', instnm 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rror(tx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[shape, </a:t>
            </a:r>
            <a:r>
              <a:rPr b="1" lang="en-US" sz="1200" spc="-1" strike="noStrike">
                <a:solidFill>
                  <a:srgbClr val="fc0128"/>
                </a:solidFill>
                <a:latin typeface="Courier New"/>
              </a:rPr>
              <a:t>iframe, insi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, bundry] = cspice_getfov( instid, ROOM 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riting a Mice-based progra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B31596-5650-452C-9882-B3AC8C878756}" type="slidenum">
              <a:t>13</a:t>
            </a:fld>
          </a:p>
        </p:txBody>
      </p:sp>
    </p:spTree>
  </p:cSld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8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3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8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819160" y="380520"/>
            <a:ext cx="5049720" cy="474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Getting inputs:  summary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09480" y="1523880"/>
            <a:ext cx="7925040" cy="484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% Prompt for the user-supplied inputs for our progra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fc0128"/>
                </a:solidFill>
                <a:latin typeface="Courier New"/>
              </a:rPr>
              <a:t>setup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= input( 'Enter setup file name &gt; ', 's'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spice_furnsh( </a:t>
            </a:r>
            <a:r>
              <a:rPr b="1" lang="en-US" sz="1200" spc="-1" strike="noStrike">
                <a:solidFill>
                  <a:srgbClr val="fc0128"/>
                </a:solidFill>
                <a:latin typeface="Courier New"/>
              </a:rPr>
              <a:t>setup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fc0128"/>
                </a:solidFill>
                <a:latin typeface="Courier New"/>
              </a:rPr>
              <a:t>satnm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= input( 'Enter satellite name  &gt; ', 's'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fc0128"/>
                </a:solidFill>
                <a:latin typeface="Courier New"/>
              </a:rPr>
              <a:t>scnm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= input( 'Enter spacecraft name &gt; ', 's'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fc0128"/>
                </a:solidFill>
                <a:latin typeface="Courier New"/>
              </a:rPr>
              <a:t>instnm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= input( 'Enter instrument name &gt; ', 's'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fc0128"/>
                </a:solidFill>
                <a:latin typeface="Courier New"/>
              </a:rPr>
              <a:t>time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= input( 'Enter time            &gt; ', 's'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% Get the epoch corresponding to the input tim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fc0128"/>
                </a:solidFill>
                <a:latin typeface="Courier New"/>
              </a:rPr>
              <a:t>e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= cspice_str2et( time 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% Get the radii of the satelli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fc0128"/>
                </a:solidFill>
                <a:latin typeface="Courier New"/>
              </a:rPr>
              <a:t>radii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= cspice_bodvrd( </a:t>
            </a:r>
            <a:r>
              <a:rPr b="1" lang="en-US" sz="1200" spc="-1" strike="noStrike">
                <a:solidFill>
                  <a:srgbClr val="fc0128"/>
                </a:solidFill>
                <a:latin typeface="Courier New"/>
              </a:rPr>
              <a:t>satnm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, 'RADII', 3 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% Get the instrument boresight and frame na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[instid, found] = cspice_bodn2c( </a:t>
            </a:r>
            <a:r>
              <a:rPr b="1" lang="en-US" sz="1200" spc="-1" strike="noStrike">
                <a:solidFill>
                  <a:srgbClr val="fc0128"/>
                </a:solidFill>
                <a:latin typeface="Courier New"/>
              </a:rPr>
              <a:t>instnm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if ( ~found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xt = sprintf( 'Unable to determine ID for instrument: %d', instnm 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rror(tx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[shape, </a:t>
            </a:r>
            <a:r>
              <a:rPr b="1" lang="en-US" sz="1200" spc="-1" strike="noStrike">
                <a:solidFill>
                  <a:srgbClr val="fc0128"/>
                </a:solidFill>
                <a:latin typeface="Courier New"/>
              </a:rPr>
              <a:t>iframe, insi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, bundry] = cspice_getfov( instid, ROOM 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riting a Mice-based progra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2DD9F5-D7AF-473F-8218-77297596802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5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38320" y="380520"/>
            <a:ext cx="3017880" cy="474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Display results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066680" y="1600200"/>
            <a:ext cx="7845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% Display results.  Convert angles from radians to degre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% for outpu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066680" y="2336760"/>
            <a:ext cx="738504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printf( 'Intercept planetocentric longitude      (deg):  %11.6f\n',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2D*pclon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printf( 'Intercept planetocentric latitude       (deg):  %11.6f\n',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2D*pclat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printf( 'Intercept planetodetic longitude        (deg):  %11.6f\n',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2D*pdlon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printf( 'Intercept planetodetic latitude         (deg):  %11.6f\n',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R2D*pdlat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printf( 'Range from spacecraft to intercept point (km):  %11.6f\n',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ist     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printf( 'Range from spacecraft to target center   (km):  %11.6f\n',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orm(obspos)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printf( 'Intercept phase angle                   (deg):  %11.6f\n',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2D*phase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printf( 'Intercept solar incidence angle         (deg):  %11.6f\n',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2D*solar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printf( 'Intercept emission angle                (deg):  %11.6f\n',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2D*emissn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33520" y="5456160"/>
            <a:ext cx="7545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isp( ['No intercept point found at ' time ]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riting a Mice-based progra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1C81D1-8F24-4377-80EF-D866665E2CB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2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7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2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690480" y="1676160"/>
            <a:ext cx="7539120" cy="4187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o finish up the program we need to declare the variables we've used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'll highlight techniques used by NAIF programmer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d remaining MATLAB code required to make a syntactically valid progra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title"/>
          </p:nvPr>
        </p:nvSpPr>
        <p:spPr>
          <a:xfrm>
            <a:off x="3052800" y="380520"/>
            <a:ext cx="4462560" cy="898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omplete the program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62120" y="3505320"/>
            <a:ext cx="6364080" cy="26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RO PROG_GEO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ABCORR = 'CN+S'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OOM   = 10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2D    = cspice_dp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% Prompt for the user-supplied inputs for our progra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fc0128"/>
                </a:solidFill>
                <a:latin typeface="Courier New"/>
              </a:rPr>
              <a:t>setup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= input( 'Enter setup file name &gt; ', 's'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spice_furnsh( </a:t>
            </a:r>
            <a:r>
              <a:rPr b="1" lang="en-US" sz="1200" spc="-1" strike="noStrike">
                <a:solidFill>
                  <a:srgbClr val="fc0128"/>
                </a:solidFill>
                <a:latin typeface="Courier New"/>
              </a:rPr>
              <a:t>setup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fc0128"/>
                </a:solidFill>
                <a:latin typeface="Courier New"/>
              </a:rPr>
              <a:t>satnm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= input( 'Enter satellite name  &gt; ', 's'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fc0128"/>
                </a:solidFill>
                <a:latin typeface="Courier New"/>
              </a:rPr>
              <a:t>scnm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= input( 'Enter spacecraft name &gt; ', 's'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fc0128"/>
                </a:solidFill>
                <a:latin typeface="Courier New"/>
              </a:rPr>
              <a:t>instnm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= input( 'Enter instrument name &gt; ', 's'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fc0128"/>
                </a:solidFill>
                <a:latin typeface="Courier New"/>
              </a:rPr>
              <a:t>tim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= input( 'Enter time            &gt; ', 's'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riting a Mice-based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A4752F-49F2-4877-9689-027388118DB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9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712600" y="380520"/>
            <a:ext cx="5172120" cy="474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omplete source code - 1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09480" y="1523880"/>
            <a:ext cx="7925040" cy="32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% Get the epoch corresponding to the input tim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fc0128"/>
                </a:solidFill>
                <a:latin typeface="Courier New"/>
              </a:rPr>
              <a:t>e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= cspice_str2et( time 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% Get the radii of the satelli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fc0128"/>
                </a:solidFill>
                <a:latin typeface="Courier New"/>
              </a:rPr>
              <a:t>radii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= cspice_bodvrd( </a:t>
            </a:r>
            <a:r>
              <a:rPr b="1" lang="en-US" sz="1200" spc="-1" strike="noStrike">
                <a:solidFill>
                  <a:srgbClr val="fc0128"/>
                </a:solidFill>
                <a:latin typeface="Courier New"/>
              </a:rPr>
              <a:t>satnm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, 'RADII', 3 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% Get the instrument boresight and frame na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[instid, found] = cspice_bodn2c( </a:t>
            </a:r>
            <a:r>
              <a:rPr b="1" lang="en-US" sz="1200" spc="-1" strike="noStrike">
                <a:solidFill>
                  <a:srgbClr val="fc0128"/>
                </a:solidFill>
                <a:latin typeface="Courier New"/>
              </a:rPr>
              <a:t>instnm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if ( ~found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xt = sprintf( 'Unable to determine ID for instrument: %d', instnm 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rror(tx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[shape, </a:t>
            </a:r>
            <a:r>
              <a:rPr b="1" lang="en-US" sz="1200" spc="-1" strike="noStrike">
                <a:solidFill>
                  <a:srgbClr val="fc0128"/>
                </a:solidFill>
                <a:latin typeface="Courier New"/>
              </a:rPr>
              <a:t>iframe, insi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, bundry] = cspice_getfov( instid, ROOM 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riting a Mice-based progra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CEEC99-1130-4DF0-A631-1251CCB432E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808000" y="380520"/>
            <a:ext cx="5073480" cy="474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omplete source code - 2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09480" y="1523880"/>
            <a:ext cx="792504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% Compute the boresight ray intersection with the surface of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% target body. `</a:t>
            </a:r>
            <a:r>
              <a:rPr b="1" lang="en-US" sz="1200" spc="-1" strike="noStrike">
                <a:solidFill>
                  <a:srgbClr val="063de8"/>
                </a:solidFill>
                <a:latin typeface="Courier New"/>
              </a:rPr>
              <a:t>di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ヒラギノ角ゴ Pro W3"/>
              </a:rPr>
              <a:t>’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and norm(</a:t>
            </a:r>
            <a:r>
              <a:rPr b="1" lang="en-US" sz="1200" spc="-1" strike="noStrike">
                <a:solidFill>
                  <a:srgbClr val="063de8"/>
                </a:solidFill>
                <a:latin typeface="Courier New"/>
              </a:rPr>
              <a:t>obspo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 yield desired rang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[ </a:t>
            </a:r>
            <a:r>
              <a:rPr b="1" lang="en-US" sz="1200" spc="-1" strike="noStrike">
                <a:solidFill>
                  <a:srgbClr val="063de8"/>
                </a:solidFill>
                <a:latin typeface="Courier New"/>
              </a:rPr>
              <a:t>point, di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, trgepc, </a:t>
            </a:r>
            <a:r>
              <a:rPr b="1" lang="en-US" sz="1200" spc="-1" strike="noStrike">
                <a:solidFill>
                  <a:srgbClr val="063de8"/>
                </a:solidFill>
                <a:latin typeface="Courier New"/>
              </a:rPr>
              <a:t>obspos, foun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] = cspice_srfxpt( 'Ellipsoid', 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              </a:t>
            </a:r>
            <a:r>
              <a:rPr b="1" lang="en-US" sz="1200" spc="-1" strike="noStrike">
                <a:solidFill>
                  <a:srgbClr val="fc0128"/>
                </a:solidFill>
                <a:latin typeface="Courier New"/>
              </a:rPr>
              <a:t>satnm, e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, ABCORR, </a:t>
            </a:r>
            <a:r>
              <a:rPr b="1" lang="en-US" sz="1200" spc="-1" strike="noStrike">
                <a:solidFill>
                  <a:srgbClr val="fc0128"/>
                </a:solidFill>
                <a:latin typeface="Courier New"/>
              </a:rPr>
              <a:t>scnm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200" spc="-1" strike="noStrike">
                <a:solidFill>
                  <a:srgbClr val="fc0128"/>
                </a:solidFill>
                <a:latin typeface="Courier New"/>
              </a:rPr>
              <a:t>iframe, insi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% If an intercept is found, compute planetocentric and planet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% latitude and longitude of the poi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if ( found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[r, </a:t>
            </a:r>
            <a:r>
              <a:rPr b="1" lang="en-US" sz="1200" spc="-1" strike="noStrike">
                <a:solidFill>
                  <a:srgbClr val="063de8"/>
                </a:solidFill>
                <a:latin typeface="Courier New"/>
              </a:rPr>
              <a:t>pclon, pcla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] = cspice_reclat( point 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% Let re, rp, and f be the satellite's longer equatorial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% radius, polar radius, and flattening factor.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e = radii(1);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p = radii(3);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  = ( re - rp ) / re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[</a:t>
            </a:r>
            <a:r>
              <a:rPr b="1" lang="en-US" sz="1200" spc="-1" strike="noStrike">
                <a:solidFill>
                  <a:srgbClr val="063de8"/>
                </a:solidFill>
                <a:latin typeface="Courier New"/>
              </a:rPr>
              <a:t>pdlon, pdla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, alt] = cspice_recgeo( point, re, f 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% Compute illumination angles at the surface poin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[phase, solar, emissn] = cspice_illum( </a:t>
            </a:r>
            <a:r>
              <a:rPr b="1" lang="en-US" sz="1200" spc="-1" strike="noStrike">
                <a:solidFill>
                  <a:srgbClr val="fc0128"/>
                </a:solidFill>
                <a:latin typeface="Courier New"/>
              </a:rPr>
              <a:t>satnm, e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, ABCORR, </a:t>
            </a:r>
            <a:r>
              <a:rPr b="1" lang="en-US" sz="1200" spc="-1" strike="noStrike">
                <a:solidFill>
                  <a:srgbClr val="fc0128"/>
                </a:solidFill>
                <a:latin typeface="Courier New"/>
              </a:rPr>
              <a:t>scnm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, point 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riting a Mice-based progra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11AF6C-08FA-49A4-86C8-95D1F517E05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815920" y="380520"/>
            <a:ext cx="5073480" cy="474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omplete source code - 3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09480" y="1523880"/>
            <a:ext cx="792504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% Display results.  Convert angles from radians to degrees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% for outpu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printf( 'Intercept planetocentric longitude      (deg):  %11.6f\n',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2D*pclon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printf( 'Intercept planetocentric latitude       (deg):  %11.6f\n',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2D*pclat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printf( 'Intercept planetodetic longitude        (deg):  %11.6f\n',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2D*pdlon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printf( 'Intercept planetodetic latitude         (deg):  %11.6f\n',...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R2D*pdlat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printf( 'Range from spacecraft to intercept point (km):  %11.6f\n',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ist     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printf( 'Range from spacecraft to target center   (km):  %11.6f\n',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orm(obspos)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printf( 'Intercept phase angle                   (deg):  %11.6f\n',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2D*phase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printf( 'Intercept solar incidence angle         (deg):  %11.6f\n',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2D*solar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printf( 'Intercept emission angle                (deg):  %11.6f\n’,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2D*emissn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isp( ['No intercept point found at ' time ]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% Unload the kernels and clear the kernel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spice_kcl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riting a Mice-based progra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EA4796-7B82-4E90-A7B3-E01D3F4C6B8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1905120" y="2666520"/>
            <a:ext cx="5867280" cy="2210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This coding example is an “animated” presentation that is best viewed using PowerPoint set to “Slide Show” mod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Undefined variables are displayed in red; results are displayed in blu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title"/>
          </p:nvPr>
        </p:nvSpPr>
        <p:spPr>
          <a:xfrm>
            <a:off x="3236760" y="380520"/>
            <a:ext cx="4213440" cy="898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Viewing This Tutorial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riting a Mice-based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5F5C1A-9A1C-4AC0-A8ED-B45C929C415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690480" y="1598760"/>
            <a:ext cx="7763040" cy="410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 looks like we have everything taken care of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have all necessary kerne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made a setup file (metakernel) pointing to th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wrote the progra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t's run it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title"/>
          </p:nvPr>
        </p:nvSpPr>
        <p:spPr>
          <a:xfrm>
            <a:off x="3214440" y="380520"/>
            <a:ext cx="4259160" cy="898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Running the program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riting a Mice-based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02584E-9A71-4F00-8485-51C4D3D2429A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214440" y="380520"/>
            <a:ext cx="4259160" cy="898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Running the program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380880" y="1447920"/>
            <a:ext cx="8501040" cy="4782960"/>
            <a:chOff x="380880" y="1447920"/>
            <a:chExt cx="8501040" cy="4782960"/>
          </a:xfrm>
        </p:grpSpPr>
        <p:grpSp>
          <p:nvGrpSpPr>
            <p:cNvPr id="199" name=""/>
            <p:cNvGrpSpPr/>
            <p:nvPr/>
          </p:nvGrpSpPr>
          <p:grpSpPr>
            <a:xfrm>
              <a:off x="380880" y="1447920"/>
              <a:ext cx="8501040" cy="4782960"/>
              <a:chOff x="380880" y="1447920"/>
              <a:chExt cx="8501040" cy="4782960"/>
            </a:xfrm>
          </p:grpSpPr>
          <p:grpSp>
            <p:nvGrpSpPr>
              <p:cNvPr id="200" name=""/>
              <p:cNvGrpSpPr/>
              <p:nvPr/>
            </p:nvGrpSpPr>
            <p:grpSpPr>
              <a:xfrm>
                <a:off x="380880" y="1447920"/>
                <a:ext cx="8501040" cy="4782960"/>
                <a:chOff x="380880" y="1447920"/>
                <a:chExt cx="8501040" cy="4782960"/>
              </a:xfrm>
            </p:grpSpPr>
            <p:grpSp>
              <p:nvGrpSpPr>
                <p:cNvPr id="201" name=""/>
                <p:cNvGrpSpPr/>
                <p:nvPr/>
              </p:nvGrpSpPr>
              <p:grpSpPr>
                <a:xfrm>
                  <a:off x="380880" y="1447920"/>
                  <a:ext cx="8501040" cy="4782960"/>
                  <a:chOff x="380880" y="1447920"/>
                  <a:chExt cx="8501040" cy="4782960"/>
                </a:xfrm>
              </p:grpSpPr>
              <p:sp>
                <p:nvSpPr>
                  <p:cNvPr id="202" name=""/>
                  <p:cNvSpPr/>
                  <p:nvPr/>
                </p:nvSpPr>
                <p:spPr>
                  <a:xfrm>
                    <a:off x="380880" y="1738440"/>
                    <a:ext cx="8501040" cy="4491000"/>
                  </a:xfrm>
                  <a:prstGeom prst="rect">
                    <a:avLst/>
                  </a:prstGeom>
                  <a:solidFill>
                    <a:srgbClr val="6f6f6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3" name=""/>
                  <p:cNvSpPr/>
                  <p:nvPr/>
                </p:nvSpPr>
                <p:spPr>
                  <a:xfrm>
                    <a:off x="766440" y="1633680"/>
                    <a:ext cx="8115480" cy="459720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4" name=""/>
                  <p:cNvSpPr/>
                  <p:nvPr/>
                </p:nvSpPr>
                <p:spPr>
                  <a:xfrm>
                    <a:off x="380880" y="1447920"/>
                    <a:ext cx="8501040" cy="293760"/>
                  </a:xfrm>
                  <a:prstGeom prst="rect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5" name=""/>
                  <p:cNvSpPr/>
                  <p:nvPr/>
                </p:nvSpPr>
                <p:spPr>
                  <a:xfrm>
                    <a:off x="380880" y="6148440"/>
                    <a:ext cx="8501040" cy="82440"/>
                  </a:xfrm>
                  <a:prstGeom prst="rect">
                    <a:avLst/>
                  </a:prstGeom>
                  <a:solidFill>
                    <a:srgbClr val="ababab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5640" bIns="35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6" name=""/>
                  <p:cNvSpPr/>
                  <p:nvPr/>
                </p:nvSpPr>
                <p:spPr>
                  <a:xfrm>
                    <a:off x="766440" y="6147000"/>
                    <a:ext cx="7766280" cy="8388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7080" bIns="37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7" name=""/>
                  <p:cNvSpPr/>
                  <p:nvPr/>
                </p:nvSpPr>
                <p:spPr>
                  <a:xfrm>
                    <a:off x="410760" y="1478160"/>
                    <a:ext cx="8437680" cy="231840"/>
                  </a:xfrm>
                  <a:prstGeom prst="rect">
                    <a:avLst/>
                  </a:prstGeom>
                  <a:noFill/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8" name=""/>
                <p:cNvSpPr/>
                <p:nvPr/>
              </p:nvSpPr>
              <p:spPr>
                <a:xfrm>
                  <a:off x="3790080" y="1478160"/>
                  <a:ext cx="1555920" cy="280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Terminal Window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9" name=""/>
              <p:cNvGrpSpPr/>
              <p:nvPr/>
            </p:nvGrpSpPr>
            <p:grpSpPr>
              <a:xfrm>
                <a:off x="404640" y="3164040"/>
                <a:ext cx="299880" cy="2143080"/>
                <a:chOff x="404640" y="3164040"/>
                <a:chExt cx="299880" cy="214308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404640" y="3164040"/>
                  <a:ext cx="299880" cy="2143080"/>
                  <a:chOff x="404640" y="3164040"/>
                  <a:chExt cx="299880" cy="214308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417240" y="3171960"/>
                    <a:ext cx="287280" cy="2122560"/>
                  </a:xfrm>
                  <a:prstGeom prst="rect">
                    <a:avLst/>
                  </a:prstGeom>
                  <a:solidFill>
                    <a:srgbClr val="919191"/>
                  </a:solidFill>
                  <a:ln w="25560">
                    <a:solidFill>
                      <a:srgbClr val="081d5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12" name=""/>
                  <p:cNvGrpSpPr/>
                  <p:nvPr/>
                </p:nvGrpSpPr>
                <p:grpSpPr>
                  <a:xfrm>
                    <a:off x="404640" y="3164040"/>
                    <a:ext cx="299880" cy="2143080"/>
                    <a:chOff x="404640" y="3164040"/>
                    <a:chExt cx="299880" cy="2143080"/>
                  </a:xfrm>
                </p:grpSpPr>
                <p:sp>
                  <p:nvSpPr>
                    <p:cNvPr id="213" name=""/>
                    <p:cNvSpPr/>
                    <p:nvPr/>
                  </p:nvSpPr>
                  <p:spPr>
                    <a:xfrm>
                      <a:off x="404640" y="3164040"/>
                      <a:ext cx="0" cy="213840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4" name=""/>
                    <p:cNvSpPr/>
                    <p:nvPr/>
                  </p:nvSpPr>
                  <p:spPr>
                    <a:xfrm>
                      <a:off x="406080" y="5307120"/>
                      <a:ext cx="298440" cy="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215" name=""/>
                <p:cNvGrpSpPr/>
                <p:nvPr/>
              </p:nvGrpSpPr>
              <p:grpSpPr>
                <a:xfrm>
                  <a:off x="547560" y="4213440"/>
                  <a:ext cx="46080" cy="42840"/>
                  <a:chOff x="547560" y="4213440"/>
                  <a:chExt cx="46080" cy="42840"/>
                </a:xfrm>
              </p:grpSpPr>
              <p:sp>
                <p:nvSpPr>
                  <p:cNvPr id="216" name=""/>
                  <p:cNvSpPr/>
                  <p:nvPr/>
                </p:nvSpPr>
                <p:spPr>
                  <a:xfrm>
                    <a:off x="547560" y="4213440"/>
                    <a:ext cx="46080" cy="428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6200" bIns="-16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7" name=""/>
                  <p:cNvSpPr/>
                  <p:nvPr/>
                </p:nvSpPr>
                <p:spPr>
                  <a:xfrm>
                    <a:off x="549000" y="4214880"/>
                    <a:ext cx="31680" cy="302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200" bIns="-25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18" name=""/>
              <p:cNvGrpSpPr/>
              <p:nvPr/>
            </p:nvGrpSpPr>
            <p:grpSpPr>
              <a:xfrm>
                <a:off x="404640" y="5504040"/>
                <a:ext cx="301680" cy="601560"/>
                <a:chOff x="404640" y="5504040"/>
                <a:chExt cx="301680" cy="601560"/>
              </a:xfrm>
            </p:grpSpPr>
            <p:grpSp>
              <p:nvGrpSpPr>
                <p:cNvPr id="219" name=""/>
                <p:cNvGrpSpPr/>
                <p:nvPr/>
              </p:nvGrpSpPr>
              <p:grpSpPr>
                <a:xfrm>
                  <a:off x="404640" y="5826240"/>
                  <a:ext cx="301680" cy="279360"/>
                  <a:chOff x="404640" y="5826240"/>
                  <a:chExt cx="301680" cy="279360"/>
                </a:xfrm>
              </p:grpSpPr>
              <p:sp>
                <p:nvSpPr>
                  <p:cNvPr id="220" name=""/>
                  <p:cNvSpPr/>
                  <p:nvPr/>
                </p:nvSpPr>
                <p:spPr>
                  <a:xfrm>
                    <a:off x="417240" y="5829480"/>
                    <a:ext cx="287280" cy="263520"/>
                  </a:xfrm>
                  <a:prstGeom prst="rect">
                    <a:avLst/>
                  </a:prstGeom>
                  <a:solidFill>
                    <a:srgbClr val="919191"/>
                  </a:solidFill>
                  <a:ln w="25560">
                    <a:solidFill>
                      <a:srgbClr val="081d5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21" name=""/>
                  <p:cNvGrpSpPr/>
                  <p:nvPr/>
                </p:nvGrpSpPr>
                <p:grpSpPr>
                  <a:xfrm>
                    <a:off x="404640" y="5826240"/>
                    <a:ext cx="301680" cy="279360"/>
                    <a:chOff x="404640" y="5826240"/>
                    <a:chExt cx="301680" cy="279360"/>
                  </a:xfrm>
                </p:grpSpPr>
                <p:sp>
                  <p:nvSpPr>
                    <p:cNvPr id="222" name=""/>
                    <p:cNvSpPr/>
                    <p:nvPr/>
                  </p:nvSpPr>
                  <p:spPr>
                    <a:xfrm>
                      <a:off x="404640" y="5826240"/>
                      <a:ext cx="0" cy="27468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3" name=""/>
                    <p:cNvSpPr/>
                    <p:nvPr/>
                  </p:nvSpPr>
                  <p:spPr>
                    <a:xfrm>
                      <a:off x="407880" y="6105600"/>
                      <a:ext cx="298440" cy="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224" name=""/>
                <p:cNvGrpSpPr/>
                <p:nvPr/>
              </p:nvGrpSpPr>
              <p:grpSpPr>
                <a:xfrm>
                  <a:off x="404640" y="5504040"/>
                  <a:ext cx="301680" cy="280800"/>
                  <a:chOff x="404640" y="5504040"/>
                  <a:chExt cx="301680" cy="280800"/>
                </a:xfrm>
              </p:grpSpPr>
              <p:sp>
                <p:nvSpPr>
                  <p:cNvPr id="225" name=""/>
                  <p:cNvSpPr/>
                  <p:nvPr/>
                </p:nvSpPr>
                <p:spPr>
                  <a:xfrm>
                    <a:off x="417240" y="5508720"/>
                    <a:ext cx="287280" cy="263520"/>
                  </a:xfrm>
                  <a:prstGeom prst="rect">
                    <a:avLst/>
                  </a:prstGeom>
                  <a:solidFill>
                    <a:srgbClr val="919191"/>
                  </a:solidFill>
                  <a:ln w="25560">
                    <a:solidFill>
                      <a:srgbClr val="081d5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26" name=""/>
                  <p:cNvGrpSpPr/>
                  <p:nvPr/>
                </p:nvGrpSpPr>
                <p:grpSpPr>
                  <a:xfrm>
                    <a:off x="404640" y="5504040"/>
                    <a:ext cx="301680" cy="280800"/>
                    <a:chOff x="404640" y="5504040"/>
                    <a:chExt cx="301680" cy="280800"/>
                  </a:xfrm>
                </p:grpSpPr>
                <p:sp>
                  <p:nvSpPr>
                    <p:cNvPr id="227" name=""/>
                    <p:cNvSpPr/>
                    <p:nvPr/>
                  </p:nvSpPr>
                  <p:spPr>
                    <a:xfrm>
                      <a:off x="404640" y="5504040"/>
                      <a:ext cx="0" cy="27468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8" name=""/>
                    <p:cNvSpPr/>
                    <p:nvPr/>
                  </p:nvSpPr>
                  <p:spPr>
                    <a:xfrm>
                      <a:off x="407880" y="5784840"/>
                      <a:ext cx="298440" cy="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229" name=""/>
                <p:cNvSpPr/>
                <p:nvPr/>
              </p:nvSpPr>
              <p:spPr>
                <a:xfrm>
                  <a:off x="514080" y="5899320"/>
                  <a:ext cx="115920" cy="127080"/>
                </a:xfrm>
                <a:custGeom>
                  <a:avLst/>
                  <a:gdLst/>
                  <a:ahLst/>
                  <a:rect l="l" t="t" r="r" b="b"/>
                  <a:pathLst>
                    <a:path w="73" h="80">
                      <a:moveTo>
                        <a:pt x="34" y="0"/>
                      </a:moveTo>
                      <a:lnTo>
                        <a:pt x="0" y="79"/>
                      </a:lnTo>
                      <a:lnTo>
                        <a:pt x="72" y="79"/>
                      </a:lnTo>
                      <a:lnTo>
                        <a:pt x="34" y="0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12640" y="5578560"/>
                  <a:ext cx="115920" cy="127080"/>
                </a:xfrm>
                <a:custGeom>
                  <a:avLst/>
                  <a:gdLst/>
                  <a:ahLst/>
                  <a:rect l="l" t="t" r="r" b="b"/>
                  <a:pathLst>
                    <a:path w="73" h="80">
                      <a:moveTo>
                        <a:pt x="35" y="79"/>
                      </a:moveTo>
                      <a:lnTo>
                        <a:pt x="0" y="0"/>
                      </a:lnTo>
                      <a:lnTo>
                        <a:pt x="72" y="0"/>
                      </a:lnTo>
                      <a:lnTo>
                        <a:pt x="35" y="79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31" name=""/>
            <p:cNvGrpSpPr/>
            <p:nvPr/>
          </p:nvGrpSpPr>
          <p:grpSpPr>
            <a:xfrm>
              <a:off x="434880" y="1494000"/>
              <a:ext cx="191880" cy="179280"/>
              <a:chOff x="434880" y="1494000"/>
              <a:chExt cx="191880" cy="179280"/>
            </a:xfrm>
          </p:grpSpPr>
          <p:sp>
            <p:nvSpPr>
              <p:cNvPr id="232" name=""/>
              <p:cNvSpPr/>
              <p:nvPr/>
            </p:nvSpPr>
            <p:spPr>
              <a:xfrm>
                <a:off x="441000" y="1494000"/>
                <a:ext cx="185760" cy="172800"/>
              </a:xfrm>
              <a:prstGeom prst="rect">
                <a:avLst/>
              </a:prstGeom>
              <a:solidFill>
                <a:srgbClr val="919191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3" name=""/>
              <p:cNvGrpSpPr/>
              <p:nvPr/>
            </p:nvGrpSpPr>
            <p:grpSpPr>
              <a:xfrm>
                <a:off x="434880" y="1498680"/>
                <a:ext cx="187200" cy="174600"/>
                <a:chOff x="434880" y="1498680"/>
                <a:chExt cx="187200" cy="174600"/>
              </a:xfrm>
            </p:grpSpPr>
            <p:sp>
              <p:nvSpPr>
                <p:cNvPr id="234" name=""/>
                <p:cNvSpPr/>
                <p:nvPr/>
              </p:nvSpPr>
              <p:spPr>
                <a:xfrm>
                  <a:off x="434880" y="1498680"/>
                  <a:ext cx="0" cy="1699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439560" y="1673280"/>
                  <a:ext cx="1825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6" name=""/>
              <p:cNvGrpSpPr/>
              <p:nvPr/>
            </p:nvGrpSpPr>
            <p:grpSpPr>
              <a:xfrm>
                <a:off x="482400" y="1533600"/>
                <a:ext cx="102960" cy="98280"/>
                <a:chOff x="482400" y="1533600"/>
                <a:chExt cx="102960" cy="98280"/>
              </a:xfrm>
            </p:grpSpPr>
            <p:sp>
              <p:nvSpPr>
                <p:cNvPr id="237" name=""/>
                <p:cNvSpPr/>
                <p:nvPr/>
              </p:nvSpPr>
              <p:spPr>
                <a:xfrm>
                  <a:off x="482400" y="1533600"/>
                  <a:ext cx="102960" cy="982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482400" y="1533600"/>
                  <a:ext cx="102960" cy="1908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39" name=""/>
            <p:cNvGrpSpPr/>
            <p:nvPr/>
          </p:nvGrpSpPr>
          <p:grpSpPr>
            <a:xfrm>
              <a:off x="8613360" y="1503360"/>
              <a:ext cx="193680" cy="177840"/>
              <a:chOff x="8613360" y="1503360"/>
              <a:chExt cx="193680" cy="177840"/>
            </a:xfrm>
          </p:grpSpPr>
          <p:grpSp>
            <p:nvGrpSpPr>
              <p:cNvPr id="240" name=""/>
              <p:cNvGrpSpPr/>
              <p:nvPr/>
            </p:nvGrpSpPr>
            <p:grpSpPr>
              <a:xfrm>
                <a:off x="8613360" y="1503360"/>
                <a:ext cx="193680" cy="177840"/>
                <a:chOff x="8613360" y="1503360"/>
                <a:chExt cx="193680" cy="177840"/>
              </a:xfrm>
            </p:grpSpPr>
            <p:sp>
              <p:nvSpPr>
                <p:cNvPr id="241" name=""/>
                <p:cNvSpPr/>
                <p:nvPr/>
              </p:nvSpPr>
              <p:spPr>
                <a:xfrm>
                  <a:off x="8619840" y="1503360"/>
                  <a:ext cx="187200" cy="171720"/>
                </a:xfrm>
                <a:prstGeom prst="rect">
                  <a:avLst/>
                </a:prstGeom>
                <a:solidFill>
                  <a:srgbClr val="919191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42" name=""/>
                <p:cNvGrpSpPr/>
                <p:nvPr/>
              </p:nvGrpSpPr>
              <p:grpSpPr>
                <a:xfrm>
                  <a:off x="8613360" y="1505160"/>
                  <a:ext cx="193680" cy="176040"/>
                  <a:chOff x="8613360" y="1505160"/>
                  <a:chExt cx="193680" cy="176040"/>
                </a:xfrm>
              </p:grpSpPr>
              <p:sp>
                <p:nvSpPr>
                  <p:cNvPr id="243" name=""/>
                  <p:cNvSpPr/>
                  <p:nvPr/>
                </p:nvSpPr>
                <p:spPr>
                  <a:xfrm>
                    <a:off x="8613360" y="1505160"/>
                    <a:ext cx="0" cy="16992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4" name=""/>
                  <p:cNvSpPr/>
                  <p:nvPr/>
                </p:nvSpPr>
                <p:spPr>
                  <a:xfrm>
                    <a:off x="8621280" y="1681200"/>
                    <a:ext cx="18576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45" name=""/>
              <p:cNvGrpSpPr/>
              <p:nvPr/>
            </p:nvGrpSpPr>
            <p:grpSpPr>
              <a:xfrm>
                <a:off x="8643600" y="1511280"/>
                <a:ext cx="138240" cy="152640"/>
                <a:chOff x="8643600" y="1511280"/>
                <a:chExt cx="138240" cy="152640"/>
              </a:xfrm>
            </p:grpSpPr>
            <p:sp>
              <p:nvSpPr>
                <p:cNvPr id="246" name=""/>
                <p:cNvSpPr/>
                <p:nvPr/>
              </p:nvSpPr>
              <p:spPr>
                <a:xfrm>
                  <a:off x="8645400" y="1525680"/>
                  <a:ext cx="136440" cy="1270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 flipV="1">
                  <a:off x="8643600" y="1511280"/>
                  <a:ext cx="136440" cy="1526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48" name=""/>
          <p:cNvSpPr/>
          <p:nvPr/>
        </p:nvSpPr>
        <p:spPr>
          <a:xfrm>
            <a:off x="992520" y="182880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gt;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095560"/>
            <a:ext cx="7772400" cy="39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nter setup file name &gt; setup.k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nter satellite name  &gt; titan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nter spacecraft name &gt; cassini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nter instrument name &gt; cassini_iss_nac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nter time            &gt; 2005 feb 15 8:15 UT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ercept planetocentric longitude      (deg):  -156.443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ercept planetocentric latitude       (deg):    18.78853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ercept planetodetic longitude        (deg):  -156.443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ercept planetodetic latitude         (deg):    18.78853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ange from spacecraft to intercept point (km):  4810.94188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ange from spacecraft to target center   (km):  7384.32655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ercept phase angle                   (deg):    43.2745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ercept solar incidence angle         (deg):    41.03842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ercept emission angle                (deg):     2.5146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526040" y="1828800"/>
            <a:ext cx="176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og_geomet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riting a Mice-based progra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D02B9E-67B6-4E88-B34B-5BC2EB69B5F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5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1" dur="500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6" dur="500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1" dur="500"/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1" dur="500"/>
                                        <p:tgtEl>
                                          <p:spTgt spid="2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4" dur="500"/>
                                        <p:tgtEl>
                                          <p:spTgt spid="2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2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0" dur="500"/>
                                        <p:tgtEl>
                                          <p:spTgt spid="2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3" dur="500"/>
                                        <p:tgtEl>
                                          <p:spTgt spid="2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6" dur="500"/>
                                        <p:tgtEl>
                                          <p:spTgt spid="2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9" dur="500"/>
                                        <p:tgtEl>
                                          <p:spTgt spid="24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2" dur="500"/>
                                        <p:tgtEl>
                                          <p:spTgt spid="24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5" dur="500"/>
                                        <p:tgtEl>
                                          <p:spTgt spid="24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/>
          </p:nvPr>
        </p:nvSpPr>
        <p:spPr>
          <a:xfrm>
            <a:off x="690120" y="1355760"/>
            <a:ext cx="8170920" cy="499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1840" indent="-231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titude defini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71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lanetocentric latitude of a point P:  angle between segment from origin to point and x-y plane (red arc in diagram)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71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lanetodetic latitude of a point P: angle between x-y plane and extension of ellipsoid normal vector N that connects x-y plane and P (blue arc in diagram)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title"/>
          </p:nvPr>
        </p:nvSpPr>
        <p:spPr>
          <a:xfrm>
            <a:off x="4545000" y="380520"/>
            <a:ext cx="1595520" cy="474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Backup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2612880" y="3621240"/>
            <a:ext cx="0" cy="2420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-842760" y="4429080"/>
            <a:ext cx="6911280" cy="3228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2651040" y="3544920"/>
            <a:ext cx="2881440" cy="2457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4303800" y="3544920"/>
            <a:ext cx="1228680" cy="249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517000" y="318132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116440" y="60022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808240" y="4964040"/>
            <a:ext cx="251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ference ellipso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rot="17748000">
            <a:off x="4957560" y="4616280"/>
            <a:ext cx="280800" cy="306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508200" y="5278320"/>
            <a:ext cx="1841400" cy="1593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3755" y="412"/>
                </a:moveTo>
                <a:arcTo wR="10800" hR="10800" stAng="-4447321" swAng="4394163"/>
                <a:lnTo>
                  <a:pt x="10800" y="10800"/>
                </a:lnTo>
                <a:close/>
              </a:path>
              <a:path fill="none" w="21600" h="21600">
                <a:moveTo>
                  <a:pt x="13755" y="412"/>
                </a:moveTo>
                <a:arcTo wR="10800" hR="10800" stAng="-4447321" swAng="4394163"/>
              </a:path>
            </a:pathLst>
          </a:custGeom>
          <a:solidFill>
            <a:srgbClr val="ffffff"/>
          </a:solidFill>
          <a:ln w="1260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612880" y="6041880"/>
            <a:ext cx="4916520" cy="381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448160" y="6146640"/>
            <a:ext cx="11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-y pl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566000" y="4527720"/>
            <a:ext cx="8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z-ax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223240" y="397512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356200" y="5227560"/>
            <a:ext cx="1840680" cy="1593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3755" y="412"/>
                </a:moveTo>
                <a:arcTo wR="10800" hR="10800" stAng="-4447321" swAng="4394163"/>
                <a:lnTo>
                  <a:pt x="10800" y="10800"/>
                </a:lnTo>
                <a:close/>
              </a:path>
              <a:path fill="none" w="21600" h="21600">
                <a:moveTo>
                  <a:pt x="13755" y="412"/>
                </a:moveTo>
                <a:arcTo wR="10800" hR="10800" stAng="-4447321" swAng="4394163"/>
              </a:path>
            </a:pathLst>
          </a:custGeom>
          <a:solidFill>
            <a:srgbClr val="ffffff"/>
          </a:solidFill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911320" y="5554080"/>
            <a:ext cx="1441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lanetocentric latitu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976640" y="5626800"/>
            <a:ext cx="1343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lanetodetic latitu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riting a Mice-based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B881B6-1B3F-41E6-914F-6880C8981957}" type="slidenum">
              <a:t>2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690120" y="1355760"/>
            <a:ext cx="8170920" cy="499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18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rst, let's go over the important steps in the process of writing a Mice-based program and putting it to work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derstand the geometry problem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fy the set of SPICE kernels that contain the data needed to perform the computation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ulate an algorithm to compute the quantities of interest using SPIC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rite and compile the program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et actual kernel files and verify that they contain the data needed to support the computation for the time(s) of interest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un the program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o illustrate these steps, let's write a program that computes the apparent intersection of the boresight ray of a given CASSINI science instrument with the surface of a given Saturnian satellite.   The program will compute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lanetocentric and planetodetic (geodetic) latitudes and longitudes of the intercept point.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ange from spacecraft to intercept point and from spacecraft to target cen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llumination angles (phase, solar incidence, and emission) at the intercept point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4095360" y="380520"/>
            <a:ext cx="2497320" cy="898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Introduction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riting a Mice-based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AC0C04-4ED1-4E5F-94D6-1B39E0E28306}" type="slidenum">
              <a:t>3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500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500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1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500"/>
                                        <p:tgtEl>
                                          <p:spTgt spid="11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500"/>
                                        <p:tgtEl>
                                          <p:spTgt spid="11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611520" y="1393920"/>
            <a:ext cx="4730760" cy="51102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263520" y="5345280"/>
            <a:ext cx="286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ing what model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30760" y="1239840"/>
            <a:ext cx="39708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want the bores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cept on the surface, ran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s/c to intercept and targ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nter, and illumination angles a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intercept poi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63880" y="2971800"/>
            <a:ext cx="114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49480" y="3548160"/>
            <a:ext cx="246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what object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46600" y="4110120"/>
            <a:ext cx="317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which instrumen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38680" y="4724280"/>
            <a:ext cx="311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what spacecraft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03200" y="3016080"/>
            <a:ext cx="28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0128"/>
                </a:solidFill>
                <a:latin typeface="Arial"/>
              </a:rPr>
              <a:t>TIME (UTC, TDB or T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672640" y="3586320"/>
            <a:ext cx="124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Arial"/>
              </a:rPr>
              <a:t>SATN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82920" y="4110120"/>
            <a:ext cx="14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c0128"/>
                </a:solidFill>
                <a:latin typeface="Arial"/>
              </a:rPr>
              <a:t>INSTN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304080" y="4724280"/>
            <a:ext cx="10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Arial"/>
              </a:rPr>
              <a:t>SCN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081240" y="5335560"/>
            <a:ext cx="139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Arial"/>
              </a:rPr>
              <a:t>SETUP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124080" y="380520"/>
            <a:ext cx="4440240" cy="474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Observation geometry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300000" y="4311720"/>
            <a:ext cx="820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hase angl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13535400">
            <a:off x="6702840" y="4039920"/>
            <a:ext cx="1126440" cy="1082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142293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142293"/>
              </a:path>
            </a:pathLst>
          </a:custGeom>
          <a:noFill/>
          <a:ln w="1260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726080" y="5656320"/>
            <a:ext cx="601560" cy="587160"/>
          </a:xfrm>
          <a:custGeom>
            <a:avLst/>
            <a:gdLst>
              <a:gd name="textAreaLeft" fmla="*/ 137160 w 601560"/>
              <a:gd name="textAreaRight" fmla="*/ 464400 w 601560"/>
              <a:gd name="textAreaTop" fmla="*/ 133920 h 587160"/>
              <a:gd name="textAreaBottom" fmla="*/ 453240 h 587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eaec5e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5032440" y="4657680"/>
            <a:ext cx="2458800" cy="1306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535520" y="3890880"/>
            <a:ext cx="1264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olar incidence angl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7491240" y="3312720"/>
            <a:ext cx="844560" cy="1344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951320" y="3006720"/>
            <a:ext cx="941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urface norm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529680" y="3508200"/>
            <a:ext cx="948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mission angl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rot="18618600">
            <a:off x="6406560" y="3690360"/>
            <a:ext cx="1904760" cy="1828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243" y="14"/>
                </a:moveTo>
                <a:arcTo wR="10800" hR="10800" stAng="-5577502" swAng="5577502"/>
                <a:lnTo>
                  <a:pt x="10800" y="10800"/>
                </a:lnTo>
                <a:close/>
              </a:path>
              <a:path fill="none" w="21600" h="21600">
                <a:moveTo>
                  <a:pt x="10243" y="14"/>
                </a:moveTo>
                <a:arcTo wR="10800" hR="10800" stAng="-5577502" swAng="5577502"/>
              </a:path>
            </a:pathLst>
          </a:custGeom>
          <a:noFill/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rot="17091000">
            <a:off x="6918480" y="4196880"/>
            <a:ext cx="1380960" cy="1272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981" y="698"/>
                </a:moveTo>
                <a:arcTo wR="10800" hR="10800" stAng="-6642670" swAng="6642670"/>
                <a:lnTo>
                  <a:pt x="10800" y="10800"/>
                </a:lnTo>
                <a:close/>
              </a:path>
              <a:path fill="none" w="21600" h="21600">
                <a:moveTo>
                  <a:pt x="6981" y="698"/>
                </a:moveTo>
                <a:arcTo wR="10800" hR="10800" stAng="-6642670" swAng="6642670"/>
              </a:path>
            </a:pathLst>
          </a:custGeom>
          <a:noFill/>
          <a:ln w="1260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4911480" y="2888280"/>
            <a:ext cx="2032560" cy="2208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riting a Mice-based progra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913A80-A18D-468C-A568-205DC47371D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52880" y="380520"/>
            <a:ext cx="2589120" cy="474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Needed Data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4541760" y="1528920"/>
            <a:ext cx="3708360" cy="428148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386280" y="2322360"/>
            <a:ext cx="45514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e transformation kern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ientation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ment descrip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apes of satellites, plan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phemerides for spacecraft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turn barycenter and satelli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840200" y="5079960"/>
            <a:ext cx="601920" cy="587520"/>
          </a:xfrm>
          <a:custGeom>
            <a:avLst/>
            <a:gdLst>
              <a:gd name="textAreaLeft" fmla="*/ 137160 w 601920"/>
              <a:gd name="textAreaRight" fmla="*/ 464760 w 601920"/>
              <a:gd name="textAreaTop" fmla="*/ 133920 h 587520"/>
              <a:gd name="textAreaBottom" fmla="*/ 453600 h 587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eaec5e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7610400" y="3390480"/>
            <a:ext cx="533520" cy="838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797240" y="3160800"/>
            <a:ext cx="941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urface norm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5148360" y="4235400"/>
            <a:ext cx="2457360" cy="1152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535520" y="3505320"/>
            <a:ext cx="1264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cc33"/>
                </a:solidFill>
                <a:latin typeface="Arial"/>
              </a:rPr>
              <a:t>solar incidence angl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rot="18618600">
            <a:off x="6549120" y="3316680"/>
            <a:ext cx="1828080" cy="1828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923160" y="3160800"/>
            <a:ext cx="948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c0128"/>
                </a:solidFill>
                <a:latin typeface="Arial"/>
              </a:rPr>
              <a:t>emission angl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rot="13535400">
            <a:off x="6779880" y="3642480"/>
            <a:ext cx="1123560" cy="1085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174" y="6"/>
                </a:moveTo>
                <a:arcTo wR="10800" hR="10800" stAng="-5280924" swAng="5280924"/>
                <a:lnTo>
                  <a:pt x="10800" y="10800"/>
                </a:lnTo>
                <a:close/>
              </a:path>
              <a:path fill="none" w="21600" h="21600">
                <a:moveTo>
                  <a:pt x="11174" y="6"/>
                </a:moveTo>
                <a:arcTo wR="10800" hR="10800" stAng="-5280924" swAng="5280924"/>
              </a:path>
            </a:pathLst>
          </a:custGeom>
          <a:noFill/>
          <a:ln w="1260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376320" y="4043520"/>
            <a:ext cx="820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63de8"/>
                </a:solidFill>
                <a:latin typeface="Arial"/>
              </a:rPr>
              <a:t>Phase angl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674000">
            <a:off x="7396200" y="3688200"/>
            <a:ext cx="874440" cy="1371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593" y="487"/>
                </a:moveTo>
                <a:arcTo wR="10800" hR="10800" stAng="-6436356" swAng="5907042"/>
                <a:lnTo>
                  <a:pt x="10800" y="10800"/>
                </a:lnTo>
                <a:close/>
              </a:path>
              <a:path fill="none" w="21600" h="21600">
                <a:moveTo>
                  <a:pt x="7593" y="487"/>
                </a:moveTo>
                <a:arcTo wR="10800" hR="10800" stAng="-6436356" swAng="5907042"/>
              </a:path>
            </a:pathLst>
          </a:custGeom>
          <a:noFill/>
          <a:ln w="1260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H="1" flipV="1">
            <a:off x="5554800" y="2754720"/>
            <a:ext cx="1581120" cy="1867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riting a Mice-based progra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DBC9B7-3840-4E71-918F-479229842C1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304920" y="1355760"/>
            <a:ext cx="8534160" cy="473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required to compute vectors, rotations and other parameters shown in the picture are stored in the SPICE kernels listed below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:  these kernels have been selected to support this presentation; they should not be assumed to be appropriate for user applications.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arameter                   Kernel Type      File nam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-----------------------     --------------   ------------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time conversions            generic LSK      </a:t>
            </a:r>
            <a:r>
              <a:rPr b="1" lang="en-US" sz="1400" spc="-1" strike="noStrike">
                <a:solidFill>
                  <a:srgbClr val="919191"/>
                </a:solidFill>
                <a:latin typeface="Courier New"/>
              </a:rPr>
              <a:t>naif0008.tl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ASSINI SCLK     </a:t>
            </a:r>
            <a:r>
              <a:rPr b="1" lang="en-US" sz="1400" spc="-1" strike="noStrike">
                <a:solidFill>
                  <a:srgbClr val="919191"/>
                </a:solidFill>
                <a:latin typeface="Courier New"/>
              </a:rPr>
              <a:t>cassini.tsc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atellite orientation       generic PCK      </a:t>
            </a:r>
            <a:r>
              <a:rPr b="1" lang="en-US" sz="1400" spc="-1" strike="noStrike">
                <a:solidFill>
                  <a:srgbClr val="919191"/>
                </a:solidFill>
                <a:latin typeface="Courier New"/>
              </a:rPr>
              <a:t>pck00008.tpc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atellite shape             generic PCK      </a:t>
            </a:r>
            <a:r>
              <a:rPr b="1" lang="en-US" sz="1400" spc="-1" strike="noStrike">
                <a:solidFill>
                  <a:srgbClr val="919191"/>
                </a:solidFill>
                <a:latin typeface="Courier New"/>
              </a:rPr>
              <a:t>pck00008.tpc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atellite position          planet/sat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hemeris SPK    </a:t>
            </a:r>
            <a:r>
              <a:rPr b="1" lang="en-US" sz="1400" spc="-1" strike="noStrike">
                <a:solidFill>
                  <a:srgbClr val="919191"/>
                </a:solidFill>
                <a:latin typeface="Courier New"/>
              </a:rPr>
              <a:t>020514_SE_SAT105.bs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919191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lanet barycenter position  planet SPK       </a:t>
            </a:r>
            <a:r>
              <a:rPr b="1" lang="en-US" sz="1400" spc="-1" strike="noStrike">
                <a:solidFill>
                  <a:srgbClr val="919191"/>
                </a:solidFill>
                <a:latin typeface="Courier New"/>
              </a:rPr>
              <a:t>981005_PLTEPH-DE405S.bs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acecraft position         spacecraft SPK   </a:t>
            </a:r>
            <a:r>
              <a:rPr b="1" lang="en-US" sz="1400" spc="-1" strike="noStrike">
                <a:solidFill>
                  <a:srgbClr val="919191"/>
                </a:solidFill>
                <a:latin typeface="Courier New"/>
              </a:rPr>
              <a:t>tour9201.bs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acecraft orientation      spacecraft CK    </a:t>
            </a:r>
            <a:r>
              <a:rPr b="1" lang="en-US" sz="1400" spc="-1" strike="noStrike">
                <a:solidFill>
                  <a:srgbClr val="919191"/>
                </a:solidFill>
                <a:latin typeface="Courier New"/>
              </a:rPr>
              <a:t>cas_050215.bc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strument alignment        CASSINI FK       </a:t>
            </a:r>
            <a:r>
              <a:rPr b="1" lang="en-US" sz="1400" spc="-1" strike="noStrike">
                <a:solidFill>
                  <a:srgbClr val="919191"/>
                </a:solidFill>
                <a:latin typeface="Courier New"/>
              </a:rPr>
              <a:t>cas_v37.tf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strument boresight        Instrument IK    </a:t>
            </a:r>
            <a:r>
              <a:rPr b="1" lang="en-US" sz="1400" spc="-1" strike="noStrike">
                <a:solidFill>
                  <a:srgbClr val="919191"/>
                </a:solidFill>
                <a:latin typeface="Courier New"/>
              </a:rPr>
              <a:t>cas_iss_v09.ti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title"/>
          </p:nvPr>
        </p:nvSpPr>
        <p:spPr>
          <a:xfrm>
            <a:off x="1647720" y="380520"/>
            <a:ext cx="7399440" cy="474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Which kinds of kernels are needed?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riting a Mice-based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664990-C119-4835-9D39-C6626BC4E065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7340760" y="6562800"/>
            <a:ext cx="18018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r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1682640"/>
            <a:ext cx="8458200" cy="448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easiest and most flexible way to make these kernels available to the program is via cspice_furnsh. For this example we make a setup file (also called a “metakernel” or “furnsh kernel”) containing a list of kernels to be load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\begin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KERNELS_TO_LOAD = ( </a:t>
            </a:r>
            <a:r>
              <a:rPr b="1" lang="en-US" sz="1400" spc="-1" strike="noStrike">
                <a:solidFill>
                  <a:srgbClr val="919191"/>
                </a:solidFill>
                <a:latin typeface="Courier New"/>
              </a:rPr>
              <a:t>'naif0008.tls',             'cassini.tsc'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919191"/>
                </a:solidFill>
                <a:latin typeface="Courier New"/>
              </a:rPr>
              <a:t>                       </a:t>
            </a:r>
            <a:r>
              <a:rPr b="1" lang="en-US" sz="1400" spc="-1" strike="noStrike">
                <a:solidFill>
                  <a:srgbClr val="919191"/>
                </a:solidFill>
                <a:latin typeface="Courier New"/>
              </a:rPr>
              <a:t>'pck00008.tpc',             '020514_SE_SAT105.bsp'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919191"/>
                </a:solidFill>
                <a:latin typeface="Courier New"/>
              </a:rPr>
              <a:t>                       </a:t>
            </a:r>
            <a:r>
              <a:rPr b="1" lang="en-US" sz="1400" spc="-1" strike="noStrike">
                <a:solidFill>
                  <a:srgbClr val="919191"/>
                </a:solidFill>
                <a:latin typeface="Courier New"/>
              </a:rPr>
              <a:t>'981005_PLTEPH-DE405S.bsp', 'tour9201.bsp'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919191"/>
                </a:solidFill>
                <a:latin typeface="Courier New"/>
              </a:rPr>
              <a:t>                       </a:t>
            </a:r>
            <a:r>
              <a:rPr b="1" lang="en-US" sz="1400" spc="-1" strike="noStrike">
                <a:solidFill>
                  <a:srgbClr val="919191"/>
                </a:solidFill>
                <a:latin typeface="Courier New"/>
              </a:rPr>
              <a:t>'cas_050215.bc',            'cas_v37.tf'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919191"/>
                </a:solidFill>
                <a:latin typeface="Courier New"/>
              </a:rPr>
              <a:t>                       </a:t>
            </a:r>
            <a:r>
              <a:rPr b="1" lang="en-US" sz="1400" spc="-1" strike="noStrike">
                <a:solidFill>
                  <a:srgbClr val="919191"/>
                </a:solidFill>
                <a:latin typeface="Courier New"/>
              </a:rPr>
              <a:t>'cas_iss_v09.ti'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\begintex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d we make the program prompt for the name of this setup file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fc0128"/>
                </a:solidFill>
                <a:latin typeface="Courier New"/>
              </a:rPr>
              <a:t>setup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= input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'Enter setup file name &gt; 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's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spice_furnsh( </a:t>
            </a:r>
            <a:r>
              <a:rPr b="1" lang="en-US" sz="1200" spc="-1" strike="noStrike">
                <a:solidFill>
                  <a:srgbClr val="fc0128"/>
                </a:solidFill>
                <a:latin typeface="Courier New"/>
              </a:rPr>
              <a:t>setup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026240" y="378000"/>
            <a:ext cx="2633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200" bIns="25200" anchor="t">
            <a:spAutoFit/>
          </a:bodyPr>
          <a:p>
            <a:pPr algn="ctr">
              <a:lnSpc>
                <a:spcPct val="87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Load kern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14520" y="2629080"/>
            <a:ext cx="762444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ote:  these kernels have been selected to support this presentation; they should not be assumed to be appropriate for user applicatio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riting a Mice-based program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777F2D-0E3C-4473-B59F-D0D70FA2A35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090600" y="380520"/>
            <a:ext cx="4506840" cy="898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Programming Solution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93720" y="1355760"/>
            <a:ext cx="776304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31840" indent="-231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mpt for setup file (“metakernel”) name; load kernels specified via setup file. (Done on previous chart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mpt for user inputs required to completely specify problem.  Obtain further inputs required by geometry routines via Mice cal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ute the intersection of the boresight direction ray with the surface of the satellite, presented as a triaxial ellipsoid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there is an intersectio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vert Cartesian coordinates of the intersection point to planetocentric latitudinal and planetodetic coordin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ute spacecraft-to-intercept point range and spacecraft-to-target center ra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nd the illumination angles (phase, solar incidence, and emission) at the intercept po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isplay the result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discuss the geometric portion of the problem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riting a Mice-based progra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7DB754-F11D-4D7D-8A5A-D30E24CCBB59}" type="slidenum">
              <a:t>8</a:t>
            </a:fld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1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1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6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16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533520" y="1432080"/>
            <a:ext cx="807696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ute the intercept point (</a:t>
            </a:r>
            <a:r>
              <a:rPr b="1" lang="en-US" sz="1400" spc="-1" strike="noStrike">
                <a:solidFill>
                  <a:srgbClr val="063de8"/>
                </a:solidFill>
                <a:latin typeface="Courier New"/>
              </a:rPr>
              <a:t>poi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 of the instrument boresight vector (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insit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th the satellite’s (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satnm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 surface at the TDB time of interest (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e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.  This call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lso returns the distance between the spacecraft and intercept point (</a:t>
            </a:r>
            <a:r>
              <a:rPr b="1" lang="en-US" sz="1400" spc="-1" strike="noStrike">
                <a:solidFill>
                  <a:srgbClr val="063de8"/>
                </a:solidFill>
                <a:latin typeface="Courier New"/>
              </a:rPr>
              <a:t>dis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1600" spc="-1" strike="noStrike">
                <a:solidFill>
                  <a:srgbClr val="063de8"/>
                </a:solidFill>
                <a:latin typeface="Arial"/>
              </a:rPr>
              <a:t>,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light-time corrected epoch at the intercept point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trgepc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, the target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enter-to-spacecraft vector (</a:t>
            </a:r>
            <a:r>
              <a:rPr b="1" lang="en-US" sz="1400" spc="-1" strike="noStrike">
                <a:solidFill>
                  <a:srgbClr val="063de8"/>
                </a:solidFill>
                <a:latin typeface="Courier New"/>
              </a:rPr>
              <a:t>obspo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, and a boolean flag indicating whether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intercept was found (</a:t>
            </a:r>
            <a:r>
              <a:rPr b="1" lang="en-US" sz="1400" spc="-1" strike="noStrike">
                <a:solidFill>
                  <a:srgbClr val="063de8"/>
                </a:solidFill>
                <a:latin typeface="Courier New"/>
              </a:rPr>
              <a:t>found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ote: undefined variables are in red; results are in blue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[</a:t>
            </a:r>
            <a:r>
              <a:rPr b="1" lang="en-US" sz="1200" spc="-1" strike="noStrike">
                <a:solidFill>
                  <a:srgbClr val="063de8"/>
                </a:solidFill>
                <a:latin typeface="Courier New"/>
              </a:rPr>
              <a:t>point, dist,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gepc,</a:t>
            </a:r>
            <a:r>
              <a:rPr b="1" lang="en-US" sz="1200" spc="-1" strike="noStrike">
                <a:solidFill>
                  <a:srgbClr val="063de8"/>
                </a:solidFill>
                <a:latin typeface="Courier New"/>
              </a:rPr>
              <a:t> obspos, foun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] = cspice_srfxpt(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'Ellipsoid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, ...                             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fc0128"/>
                </a:solidFill>
                <a:latin typeface="Courier New"/>
              </a:rPr>
              <a:t>satnm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200" spc="-1" strike="noStrike">
                <a:solidFill>
                  <a:srgbClr val="fc0128"/>
                </a:solidFill>
                <a:latin typeface="Courier New"/>
              </a:rPr>
              <a:t>e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, ‘CN+S’, </a:t>
            </a:r>
            <a:r>
              <a:rPr b="1" lang="en-US" sz="1200" spc="-1" strike="noStrike">
                <a:solidFill>
                  <a:srgbClr val="fc0128"/>
                </a:solidFill>
                <a:latin typeface="Courier New"/>
              </a:rPr>
              <a:t>scnm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200" spc="-1" strike="noStrike">
                <a:solidFill>
                  <a:srgbClr val="fc0128"/>
                </a:solidFill>
                <a:latin typeface="Courier New"/>
              </a:rPr>
              <a:t>ifram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200" spc="-1" strike="noStrike">
                <a:solidFill>
                  <a:srgbClr val="fc0128"/>
                </a:solidFill>
                <a:latin typeface="Courier New"/>
              </a:rPr>
              <a:t>insi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title"/>
          </p:nvPr>
        </p:nvSpPr>
        <p:spPr>
          <a:xfrm>
            <a:off x="2706480" y="380520"/>
            <a:ext cx="5275080" cy="474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ompute surface intercep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70040" y="4311720"/>
            <a:ext cx="7750080" cy="20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ranges we want are obtained from the outputs of cspice_srfxpt.  These outputs are defined only if a surface  intercept is found.  I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63de8"/>
                </a:solidFill>
                <a:latin typeface="Courier New"/>
              </a:rPr>
              <a:t>foun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tru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spacecraft-to-surface intercept range is the output argumen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63de8"/>
                </a:solidFill>
                <a:latin typeface="Courier New"/>
              </a:rPr>
              <a:t>dis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d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pacecraft-to-target center range is the norm of the output argument </a:t>
            </a:r>
            <a:r>
              <a:rPr b="1" lang="en-US" sz="1400" spc="-1" strike="noStrike">
                <a:solidFill>
                  <a:srgbClr val="063de8"/>
                </a:solidFill>
                <a:latin typeface="Courier New"/>
              </a:rPr>
              <a:t>obspo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its are km.  We use the MATLAB functi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norm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to obtain the norm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84360" indent="-227160"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4360" indent="-22716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200" spc="-1" strike="noStrike">
                <a:solidFill>
                  <a:srgbClr val="063de8"/>
                </a:solidFill>
                <a:latin typeface="Courier New"/>
              </a:rPr>
              <a:t>norm( obspos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4360" indent="-22716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'll write out the range data along with the other program result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riting a Mice-based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4F3AEC-3DF8-47B7-B1BA-37E7E993822F}" type="slidenum">
              <a:t>9</a:t>
            </a:fld>
          </a:p>
        </p:txBody>
      </p:sp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harles Acton</cp:lastModifiedBy>
  <cp:lastPrinted>2004-04-30T00:36:05Z</cp:lastPrinted>
  <dcterms:modified xsi:type="dcterms:W3CDTF">2007-10-12T23:53:24Z</dcterms:modified>
  <cp:revision>542</cp:revision>
  <dc:subject/>
  <dc:title>Writing a FORTRAN SPICE Based Program </dc:title>
</cp:coreProperties>
</file>