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58288" cy="6872288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328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63520" y="587520"/>
            <a:ext cx="4515120" cy="33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3280" y="4331160"/>
            <a:ext cx="5465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65320" y="587520"/>
            <a:ext cx="4511520" cy="33861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OS X m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65320" y="587520"/>
            <a:ext cx="4511520" cy="33861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test information. Edited furnsh warning. CSPICE no longer throws an error for multiply loaded binary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6B69-E105-4C23-A47D-299F53BA7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4B7A-4005-436E-A798-92AE071F1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4881-4A3C-42A2-9904-22FC8DBF4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F279-8872-4D5D-9721-9708E0A3B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594F-F50B-49BB-B0C2-ACE4A1695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272AF-7A24-48BB-A442-56E4D6DB4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451B-314C-4E41-8F30-B97700551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8349-00EF-497E-926E-BB169C9AC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9408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A1546-E5E7-4A37-ABA8-C80E50813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DC57-0C90-4871-8C0C-369440E0D1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8813B-BF82-4813-B2EE-748A0A120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0857-9C1D-4972-8175-7381709FD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408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63880" y="920880"/>
            <a:ext cx="6584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ED6A-BA41-410F-A094-9BE67CD65B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97040" y="2271600"/>
            <a:ext cx="5772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TLAB Interface to CSPICE</a:t>
            </a:r>
            <a:br>
              <a:rPr sz="32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“Mice”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How to Access the CSPICE library U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TLAB</a:t>
            </a:r>
            <a:r>
              <a:rPr b="1" lang="en-US" sz="2400" spc="-1" strike="noStrike" baseline="30000">
                <a:solidFill>
                  <a:srgbClr val="081d58"/>
                </a:solidFill>
                <a:latin typeface="Arial"/>
              </a:rPr>
              <a:t>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9600" y="6400800"/>
            <a:ext cx="1969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81d58"/>
                </a:solidFill>
                <a:latin typeface="Arial"/>
              </a:rPr>
              <a:t>© </a:t>
            </a:r>
            <a:r>
              <a:rPr b="1" lang="en-US" sz="1400" spc="-1" strike="noStrike">
                <a:solidFill>
                  <a:srgbClr val="081d58"/>
                </a:solidFill>
                <a:latin typeface="Arial"/>
              </a:rPr>
              <a:t>The MathWork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1295280"/>
            <a:ext cx="81532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e 6-vector (6x1 array)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_i = state(:,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ephemeris time vect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revious example to UTC calendar strings with three decimal places of precision in the seconds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mat = 'C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   = 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cstr = cspice_et2utc( et, format, prec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tcs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array of 1000 strings (dimensioned 1000x24), where eac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is the calendar date corresponding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(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cces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ring of utcstr corresponding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phemeris time with the exp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tcstr_i = utcstr(i,: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00480" y="380880"/>
            <a:ext cx="4304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Vectoriz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8E328-3ECC-438B-8381-D70166B8A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29528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t the position components (the first three components in a state vector) of the N state vectors returned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latitudinal coordin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radius, latitude, longitude] = cspice_reclat( state(1:3,: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ll returns three double precision 1x1000 arrays (vectorized scalars)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di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t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itu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00480" y="380880"/>
            <a:ext cx="4304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Vectorizatio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C2CB-27A7-4B27-8E36-C9CA6E0784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58200" y="380880"/>
            <a:ext cx="6470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imple Use of Mice Funct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371600"/>
            <a:ext cx="8076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n example of Mice use, calculate and plot the trajectory in the J2000 inertial frame of the Cassini spacecraft from June 20, 2004 to December 1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286000"/>
            <a:ext cx="8076960" cy="39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Define the number of divisions of the time interval and the time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EP =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00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tc  = strvcat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Jun 20, 2004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Dec 1, 2005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Load the needed kernels. Use a meta kernel "standard.ker" to load the ker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"naif0008.tls," "de405_2000-2050.bsp," "pck00008.tpc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standard.ke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/kernels/cassini/spk/T18-5TDJ5.bsp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t          = cspice_str2et( utc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       = 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:STEP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 * ( et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 - et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 )/STEP + et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pos,ltime ]=cspice_spkpos(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Cassini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times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J2000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NONE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'SATURN BARYCENTER'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Plot the resulting trajec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= pos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: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 = pos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: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z = pos(</a:t>
            </a:r>
            <a:r>
              <a:rPr b="0" lang="en-US" sz="12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: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lot3(x,y,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CEEC-5416-44BD-9896-C5677D5C5F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330280" y="380880"/>
            <a:ext cx="61365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raphic Output using MAT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8000" y="6195960"/>
            <a:ext cx="66308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jectory of the Cassini vehicle in the J2000 frame, for June 20, 2005 to Dec 1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38200" y="1289160"/>
            <a:ext cx="6280200" cy="473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E830-E2DB-4E6F-8195-52E3872BFF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85840" y="380520"/>
            <a:ext cx="1436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6201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Bene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Use of Mice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4193-13CA-413F-ADA5-FB82ED5AAE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operates as an extension to the MATLAB language reg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ice calls are functions regardless of the call format of the underlying CSPICE routine, returning MATLAB native data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e has some capability not available in CSPICE such as vector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PICE error messages return to MATLAB in the form usable by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y...ca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r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96800" y="380520"/>
            <a:ext cx="27464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Benefi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5196-BA3E-44CF-ACFC-25570059D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TLAB environment includes an intrinsic capability to use external rout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e functions as a MATLAB Executable, MEX, consisting of the Mice MEX shared object library and a set of .m wrapper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ce library contains the MATLAB callable C interface routines that wrap a subset of CSPICE wrapper ca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rapper files, named cspice_*.m and mice_*.m, provide the MATLAB calls to the interface func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unction prefixed with ‘cspice_’ retains essentially the same argument list as the CSPICE counterpa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terface prefixed with ‘mice_’ returns a structure, with the fields of the structure corresponding to the output arguments of the CSPICE counterpar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rappers include a header section describing the function call, displayable by the MATLAB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440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1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A475-5A9B-4EF9-82A2-4FA16AEC2A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447920"/>
            <a:ext cx="800100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user invokes a call to a Mice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ATLAB cal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he function's wrapper, which call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he Mice MEX shared object library,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s its function then returns the resul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o the wrapper, whic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returns the result to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arent from the user’s persp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44024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ow Does It Work? (2)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288F-5079-46A9-A0B3-49B46E2B33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51200" y="380880"/>
            <a:ext cx="3423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3716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F distributes Mice as a complete, standalone pack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ckage inclu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SPICE source fi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ce interface source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specific build scripts for Mice and CSP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versions of the SPICE cookbook programs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tict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b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HTML based help system for both Mice and CSPICE, with the Mice help cross-linked to CSP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ce MEX shared library and the M wrapper files. The system is ready for use after installation of the the library and wrapper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BAE22-BA52-47DF-8460-D052DA8592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739960" y="380880"/>
            <a:ext cx="36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Oper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A possible irritant exists in loading kernels using the </a:t>
            </a:r>
            <a:r>
              <a:rPr b="1" lang="en-US" sz="24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Kernels load into your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ession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, not into your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cripts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. This me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binary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accessible (“active”) throughout your MATLAB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ata from loaded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text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s remain in the kernel pool (in the memory space used by CSPICE) throughout your MATLAB 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sequence: some kernel data may be available to one of your scripts even though not intended to be 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You could get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incorrect results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(If you run only one script during your MATLAB session, there’s no problem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1760" y="5991120"/>
            <a:ext cx="1893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B532-4286-4D98-8084-9711751E7E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739960" y="380880"/>
            <a:ext cx="3672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Operation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7360" y="14479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81d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itigation: two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Load all needed SPICE kernels for your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ession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at the beginning of the session, paying careful attention to the files loaded and the loading order (loading order affects preced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Convince yourself that this approach will provide ALL of the scripts you will run during this MATLAB session with the appropriate SPICE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At or near the end of every MATLAB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script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inclu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unload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for each kernel loaded using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or include a call to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kclear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to remove </a:t>
            </a:r>
            <a:r>
              <a:rPr b="1" lang="en-US" sz="1800" spc="-1" strike="noStrike" u="sng">
                <a:solidFill>
                  <a:srgbClr val="081d58"/>
                </a:solidFill>
                <a:uFillTx/>
                <a:latin typeface="Arial"/>
              </a:rPr>
              <a:t>ALL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kernel data from the kernel pool loaded using </a:t>
            </a:r>
            <a:r>
              <a:rPr b="0" lang="en-US" sz="1800" spc="-1" strike="noStrike">
                <a:solidFill>
                  <a:srgbClr val="081d58"/>
                </a:solidFill>
                <a:latin typeface="Courier New"/>
              </a:rPr>
              <a:t>cspice_furn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81d58"/>
              </a:buClr>
              <a:buFont typeface="Courier New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C845-E937-43C7-AAE6-73F807E9E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ice functions include use of vectorized arguments, a capability not available in C or FORTRAN toolk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use Mice to retrieve state vectors and light-time values for 1000 ephemeris tim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the array of 1000 ephemeris times in steps of 10 hours, keyed on July 1, 200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rt = cspice_str2et('July 1 2005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t    = (0:999)*36000 + star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the state vectors and corresponding light times from Mars to earth at eac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J2000 frame with LT+S aberration corre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state, ltime] = cspice_spkezr( 'Earth', et, 'J2000', 'LT+S', 'MARS'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05160" y="380880"/>
            <a:ext cx="4304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ice Vectorizatio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41760" y="5991120"/>
            <a:ext cx="1893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d on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ATLAB Interface to C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EF8E-B7E6-409D-B98F-2A1B541C2F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0T14:50:09Z</dcterms:created>
  <dc:creator>Chuck Acton</dc:creator>
  <dc:description/>
  <cp:keywords/>
  <dc:language>en-US</dc:language>
  <cp:lastModifiedBy>Charles Acton</cp:lastModifiedBy>
  <cp:lastPrinted>2007-04-23T16:06:28Z</cp:lastPrinted>
  <dcterms:modified xsi:type="dcterms:W3CDTF">2007-10-12T23:53:00Z</dcterms:modified>
  <cp:revision>714</cp:revision>
  <dc:subject/>
  <dc:title>No Slide Title</dc:title>
</cp:coreProperties>
</file>