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58288" cy="6872288"/>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1D89EF-FA4C-4E54-911E-C13257E344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EA9526-02D4-4D32-A99E-1021CF431D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3A6BE6-6E10-454E-AFAA-D3B17B448D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7E64E9-892D-4243-A1C1-B05A6AE5AF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8760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E3D4A4-2494-48C6-9F3A-3509F4311A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5C8C77-CE64-44C6-9907-642D6AA6E3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4AF5B4-0AAB-4090-8F9F-B7BB69B160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CDDC3B-F5E5-454E-AF84-44D704A9C7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8760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0A11D4-456C-4D12-9448-3DC3332C0A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DD259C-4C10-4866-B235-B12790E74B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C18243-1A04-4A61-A142-158BE25147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E260A0-4B26-46C9-A9C8-12A2F4E6D7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AFF68-F1CB-4EDD-98BF-2EC7B5EE246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5680" y="2271240"/>
            <a:ext cx="6121440" cy="10054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Dynamic Reference Frames</a:t>
            </a:r>
            <a:endParaRPr b="1" lang="en-US" sz="3600" spc="-1" strike="noStrike">
              <a:solidFill>
                <a:srgbClr val="081d58"/>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728280" y="1279080"/>
            <a:ext cx="8064360" cy="5340600"/>
          </a:xfrm>
          <a:prstGeom prst="rect">
            <a:avLst/>
          </a:prstGeom>
          <a:noFill/>
          <a:ln w="0">
            <a:noFill/>
          </a:ln>
        </p:spPr>
        <p:txBody>
          <a:bodyPr lIns="90360" rIns="90360" tIns="44280" bIns="44280" anchor="t">
            <a:normAutofit/>
          </a:bodyPr>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we say that a vector is "aligned" with another vector, we mean that the angular separation between the two vectors is zero.</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use the terms "defining a frame" and "specifying a frame" interchangeably.  Both refer to creating a frame definition in a frame kernel.</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definitions:</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erm "API" stands for "Application Programming Interface."  This term refers to the set of SPICE routines that are intended to be called directly by SPICE-based program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otation </a:t>
            </a:r>
            <a:endParaRPr b="1" lang="en-US" sz="2000" spc="-1" strike="noStrike">
              <a:solidFill>
                <a:srgbClr val="000000"/>
              </a:solidFill>
              <a:latin typeface="Arial"/>
            </a:endParaRPr>
          </a:p>
          <a:p>
            <a:pPr lvl="1" marL="685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lvl="1" marL="685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dicates a frame rotation of theta radians about axis n, where n is one of {1, 2, 3}.  This transformation rotates vectors by –theta radians about axis n.</a:t>
            </a:r>
            <a:endParaRPr b="1" lang="en-US" sz="2000" spc="-1" strike="noStrike">
              <a:solidFill>
                <a:srgbClr val="000000"/>
              </a:solidFill>
              <a:latin typeface="Arial"/>
            </a:endParaRPr>
          </a:p>
        </p:txBody>
      </p:sp>
      <p:sp>
        <p:nvSpPr>
          <p:cNvPr id="133" name="PlaceHolder 2"/>
          <p:cNvSpPr>
            <a:spLocks noGrp="1"/>
          </p:cNvSpPr>
          <p:nvPr>
            <p:ph type="title"/>
          </p:nvPr>
        </p:nvSpPr>
        <p:spPr>
          <a:xfrm>
            <a:off x="3785760" y="380520"/>
            <a:ext cx="31482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erminology - 3</a:t>
            </a:r>
            <a:endParaRPr b="1" lang="en-US" sz="3200" spc="-1" strike="noStrike">
              <a:solidFill>
                <a:srgbClr val="081d58"/>
              </a:solidFill>
              <a:latin typeface="Arial"/>
            </a:endParaRPr>
          </a:p>
        </p:txBody>
      </p:sp>
      <p:sp>
        <p:nvSpPr>
          <p:cNvPr id="134" name=""/>
          <p:cNvSpPr/>
          <p:nvPr/>
        </p:nvSpPr>
        <p:spPr>
          <a:xfrm>
            <a:off x="1622520" y="4849920"/>
            <a:ext cx="2651040" cy="57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theta]</a:t>
            </a:r>
            <a:r>
              <a:rPr b="1" lang="en-US" sz="2800" spc="-1" strike="noStrike" baseline="-40000">
                <a:solidFill>
                  <a:srgbClr val="000000"/>
                </a:solidFill>
                <a:latin typeface="Courier New"/>
              </a:rPr>
              <a:t>n</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20452428-22B8-43BB-BC42-0EC479A512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41440" y="1179000"/>
            <a:ext cx="8339040" cy="5605560"/>
          </a:xfrm>
          <a:prstGeom prst="rect">
            <a:avLst/>
          </a:prstGeom>
          <a:noFill/>
          <a:ln w="0">
            <a:noFill/>
          </a:ln>
        </p:spPr>
        <p:txBody>
          <a:bodyPr lIns="90360" rIns="90360" tIns="44280" bIns="44280" anchor="t">
            <a:normAutofit fontScale="99000"/>
          </a:bodyPr>
          <a:p>
            <a:pPr marL="282960" indent="-2829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meterized dynamic frames</a:t>
            </a:r>
            <a:endParaRPr b="1" lang="en-US" sz="2800" spc="-1" strike="noStrike">
              <a:solidFill>
                <a:srgbClr val="000000"/>
              </a:solidFill>
              <a:latin typeface="Arial"/>
            </a:endParaRPr>
          </a:p>
          <a:p>
            <a:pPr lvl="1" marL="62208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s the only frame definition style currently supported by the dynamic frames subsystem.</a:t>
            </a:r>
            <a:endParaRPr b="1" lang="en-US" sz="2000" spc="-1" strike="noStrike">
              <a:solidFill>
                <a:srgbClr val="000000"/>
              </a:solidFill>
              <a:latin typeface="Arial"/>
            </a:endParaRPr>
          </a:p>
          <a:p>
            <a:pPr lvl="2" marL="961920" indent="-2260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ture versions of SPICE might support additional styles.</a:t>
            </a:r>
            <a:endParaRPr b="1" lang="en-US" sz="2000" spc="-1" strike="noStrike">
              <a:solidFill>
                <a:srgbClr val="000000"/>
              </a:solidFill>
              <a:latin typeface="Arial"/>
            </a:endParaRPr>
          </a:p>
          <a:p>
            <a:pPr lvl="1" marL="62208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s are defined via parameterized formulas</a:t>
            </a:r>
            <a:endParaRPr b="1" lang="en-US" sz="2000" spc="-1" strike="noStrike">
              <a:solidFill>
                <a:srgbClr val="000000"/>
              </a:solidFill>
              <a:latin typeface="Arial"/>
            </a:endParaRPr>
          </a:p>
          <a:p>
            <a:pPr lvl="2" marL="961920" indent="-2260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de implementing the formulas is built into SPICE.</a:t>
            </a:r>
            <a:endParaRPr b="1" lang="en-US" sz="2000" spc="-1" strike="noStrike">
              <a:solidFill>
                <a:srgbClr val="000000"/>
              </a:solidFill>
              <a:latin typeface="Arial"/>
            </a:endParaRPr>
          </a:p>
          <a:p>
            <a:pPr lvl="2" marL="961920" indent="-2260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rameters are specified in a frame kernel.</a:t>
            </a:r>
            <a:endParaRPr b="1" lang="en-US" sz="2000" spc="-1" strike="noStrike">
              <a:solidFill>
                <a:srgbClr val="000000"/>
              </a:solidFill>
              <a:latin typeface="Arial"/>
            </a:endParaRPr>
          </a:p>
          <a:p>
            <a:pPr lvl="1" marL="62208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terized dynamic frames</a:t>
            </a:r>
            <a:r>
              <a:rPr b="1" lang="en-US" sz="1800" spc="-1" strike="noStrike">
                <a:solidFill>
                  <a:srgbClr val="000000"/>
                </a:solidFill>
                <a:latin typeface="Arial"/>
              </a:rPr>
              <a:t> </a:t>
            </a:r>
            <a:r>
              <a:rPr b="1" lang="en-US" sz="2000" spc="-1" strike="noStrike">
                <a:solidFill>
                  <a:srgbClr val="000000"/>
                </a:solidFill>
                <a:latin typeface="Arial"/>
              </a:rPr>
              <a:t>are grouped into frame "families".  Each family corresponds to a distinct, parameterized geometric formula providing a frame definition. The families are:</a:t>
            </a:r>
            <a:endParaRPr b="1" lang="en-US" sz="2000" spc="-1" strike="noStrike">
              <a:solidFill>
                <a:srgbClr val="000000"/>
              </a:solidFill>
              <a:latin typeface="Arial"/>
            </a:endParaRPr>
          </a:p>
          <a:p>
            <a:pPr lvl="2" marL="961920" indent="-2260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Vector Frames</a:t>
            </a:r>
            <a:endParaRPr b="1" lang="en-US" sz="2000" spc="-1" strike="noStrike">
              <a:solidFill>
                <a:srgbClr val="000000"/>
              </a:solidFill>
              <a:latin typeface="Arial"/>
            </a:endParaRPr>
          </a:p>
          <a:p>
            <a:pPr lvl="2" marL="961920" indent="-2260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 Equator and Equinox of Date Frames</a:t>
            </a:r>
            <a:endParaRPr b="1" lang="en-US" sz="2000" spc="-1" strike="noStrike">
              <a:solidFill>
                <a:srgbClr val="000000"/>
              </a:solidFill>
              <a:latin typeface="Arial"/>
            </a:endParaRPr>
          </a:p>
          <a:p>
            <a:pPr lvl="2" marL="961920" indent="-2260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ue Equator and Equinox of Date Frames</a:t>
            </a:r>
            <a:endParaRPr b="1" lang="en-US" sz="2000" spc="-1" strike="noStrike">
              <a:solidFill>
                <a:srgbClr val="000000"/>
              </a:solidFill>
              <a:latin typeface="Arial"/>
            </a:endParaRPr>
          </a:p>
          <a:p>
            <a:pPr lvl="2" marL="961920" indent="-2260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 Ecliptic and Equinox of Date Frames</a:t>
            </a:r>
            <a:endParaRPr b="1" lang="en-US" sz="2000" spc="-1" strike="noStrike">
              <a:solidFill>
                <a:srgbClr val="000000"/>
              </a:solidFill>
              <a:latin typeface="Arial"/>
            </a:endParaRPr>
          </a:p>
          <a:p>
            <a:pPr lvl="2" marL="961920" indent="-2260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ler Frames</a:t>
            </a:r>
            <a:endParaRPr b="1" lang="en-US" sz="2000" spc="-1" strike="noStrike">
              <a:solidFill>
                <a:srgbClr val="000000"/>
              </a:solidFill>
              <a:latin typeface="Arial"/>
            </a:endParaRPr>
          </a:p>
        </p:txBody>
      </p:sp>
      <p:sp>
        <p:nvSpPr>
          <p:cNvPr id="136" name="PlaceHolder 2"/>
          <p:cNvSpPr>
            <a:spLocks noGrp="1"/>
          </p:cNvSpPr>
          <p:nvPr>
            <p:ph type="title"/>
          </p:nvPr>
        </p:nvSpPr>
        <p:spPr>
          <a:xfrm>
            <a:off x="1941480" y="380520"/>
            <a:ext cx="68515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arameterized Dynamic Frames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CBDA656E-68BD-468A-B6D4-8A5D2DF7DD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99840" y="1327320"/>
            <a:ext cx="8064360" cy="55432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ng Parameterized Dynamic Fram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meterized Dynamic frames are defined using "keyword=value" assignments in a frame kernel.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items must be specified in the frame definition:</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nam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ID code </a:t>
            </a:r>
            <a:endParaRPr b="1" lang="en-US" sz="1800" spc="-1" strike="noStrike">
              <a:solidFill>
                <a:srgbClr val="000000"/>
              </a:solidFill>
              <a:latin typeface="Arial"/>
            </a:endParaRPr>
          </a:p>
          <a:p>
            <a:pPr lvl="3" marL="1542960" indent="-1713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ange 1400000-2000000 is reserved for people outside of the NAIF group</a:t>
            </a:r>
            <a:endParaRPr b="1" lang="en-US" sz="16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5 for dynamic fram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ID code (=frame ID code for dynamic fram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center (=NAIF ID code for central body)</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definition style (='PARAMETERIZE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 frame</a:t>
            </a:r>
            <a:endParaRPr b="1" lang="en-US" sz="1800" spc="-1" strike="noStrike">
              <a:solidFill>
                <a:srgbClr val="000000"/>
              </a:solidFill>
              <a:latin typeface="Arial"/>
            </a:endParaRPr>
          </a:p>
          <a:p>
            <a:pPr lvl="3" marL="1542960" indent="-1713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definition specifies mapping from dynamic frame to the base fram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family</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mily-specific assignments</a:t>
            </a:r>
            <a:endParaRPr b="1" lang="en-US" sz="1800" spc="-1" strike="noStrike">
              <a:solidFill>
                <a:srgbClr val="000000"/>
              </a:solidFill>
              <a:latin typeface="Arial"/>
            </a:endParaRPr>
          </a:p>
        </p:txBody>
      </p:sp>
      <p:sp>
        <p:nvSpPr>
          <p:cNvPr id="138" name="PlaceHolder 2"/>
          <p:cNvSpPr>
            <a:spLocks noGrp="1"/>
          </p:cNvSpPr>
          <p:nvPr>
            <p:ph type="title"/>
          </p:nvPr>
        </p:nvSpPr>
        <p:spPr>
          <a:xfrm>
            <a:off x="1929960" y="380520"/>
            <a:ext cx="6851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arameterized Dynamic Frames -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4809F04E-E5D7-425F-84CD-EFDBAEEBA0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64880" y="1241280"/>
            <a:ext cx="8862840" cy="5486400"/>
          </a:xfrm>
          <a:prstGeom prst="rect">
            <a:avLst/>
          </a:prstGeom>
          <a:noFill/>
          <a:ln w="0">
            <a:noFill/>
          </a:ln>
        </p:spPr>
        <p:txBody>
          <a:bodyPr lIns="90360" rIns="90360" tIns="44280" bIns="44280" anchor="t">
            <a:normAutofit/>
          </a:bodyPr>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ion state </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sible states are 'ROTATING' and 'INERTIAL'.</a:t>
            </a:r>
            <a:endParaRPr b="1" lang="en-US" sz="2000" spc="-1" strike="noStrike">
              <a:solidFill>
                <a:srgbClr val="000000"/>
              </a:solidFill>
              <a:latin typeface="Arial"/>
            </a:endParaRPr>
          </a:p>
          <a:p>
            <a:pPr lvl="4" marL="2000160" indent="-171360">
              <a:lnSpc>
                <a:spcPct val="90000"/>
              </a:lnSpc>
              <a:spcBef>
                <a:spcPts val="7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 is treated as rotating or inertial for the purpose of velocity transformations.</a:t>
            </a:r>
            <a:endParaRPr b="1" lang="en-US" sz="20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fault dynamic frame rotation state is 'ROTATING'.</a:t>
            </a:r>
            <a:r>
              <a:rPr b="1" lang="en-US" sz="2400" spc="-1" strike="noStrike">
                <a:solidFill>
                  <a:srgbClr val="000000"/>
                </a:solidFill>
                <a:latin typeface="Arial"/>
              </a:rPr>
              <a:t>  </a:t>
            </a:r>
            <a:endParaRPr b="1" lang="en-US" sz="2400" spc="-1" strike="noStrike">
              <a:solidFill>
                <a:srgbClr val="000000"/>
              </a:solidFill>
              <a:latin typeface="Arial"/>
            </a:endParaRPr>
          </a:p>
          <a:p>
            <a:pPr lvl="3" marL="1542960" indent="-17136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rotating two-vector and Euler frames, the rotation state assignment can be omitted from the frame definition.</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of-date" frames, the frame definition must either specify the rotation state or designate the frame as "frozen" at a specified epoch. </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ze epoch.</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ce of this optional assignment in a frame kernel indicates that the frame orientation, relative to the base frame, is held constant ("frozen") at the specified epoch.</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dynamic frames are not frozen.</a:t>
            </a:r>
            <a:endParaRPr b="1" lang="en-US" sz="2000" spc="-1" strike="noStrike">
              <a:solidFill>
                <a:srgbClr val="000000"/>
              </a:solidFill>
              <a:latin typeface="Arial"/>
            </a:endParaRPr>
          </a:p>
        </p:txBody>
      </p:sp>
      <p:sp>
        <p:nvSpPr>
          <p:cNvPr id="140" name="PlaceHolder 2"/>
          <p:cNvSpPr>
            <a:spLocks noGrp="1"/>
          </p:cNvSpPr>
          <p:nvPr>
            <p:ph type="title"/>
          </p:nvPr>
        </p:nvSpPr>
        <p:spPr>
          <a:xfrm>
            <a:off x="1929960" y="380520"/>
            <a:ext cx="6851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arameterized Dynamic Frames - 3</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66295517-769F-415B-BDBE-E218E855ED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4720" y="1362240"/>
            <a:ext cx="8453520" cy="54799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vector frames are defined using two time-dependent vectors:   the "primary" and "secondary" vector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of the primary and secondary vectors may be defined by a variety of geometric means.  Each vector may be a</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on vector</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 near point vector</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locity vector</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ant vecto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ser associates specified positive or negative axes of the two-vector frame with the primary and secondary vector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vector frames are always right-handed and have orthogonal axes, so two non-parallel vectors and associations of axes with these vectors suffice to define the orientation of a frame.</a:t>
            </a:r>
            <a:endParaRPr b="1" lang="en-US" sz="1800" spc="-1" strike="noStrike">
              <a:solidFill>
                <a:srgbClr val="000000"/>
              </a:solidFill>
              <a:latin typeface="Arial"/>
            </a:endParaRPr>
          </a:p>
        </p:txBody>
      </p:sp>
      <p:sp>
        <p:nvSpPr>
          <p:cNvPr id="142" name="PlaceHolder 2"/>
          <p:cNvSpPr>
            <a:spLocks noGrp="1"/>
          </p:cNvSpPr>
          <p:nvPr>
            <p:ph type="title"/>
          </p:nvPr>
        </p:nvSpPr>
        <p:spPr>
          <a:xfrm>
            <a:off x="2255760" y="380520"/>
            <a:ext cx="6215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Concepts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3A465571-33FE-4C0F-9DBF-2ECB07042B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50520" y="1349280"/>
            <a:ext cx="8077320" cy="3276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Vecto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pecified positive or negative</a:t>
            </a:r>
            <a:r>
              <a:rPr b="1" lang="en-US" sz="1600" spc="-1" strike="noStrike">
                <a:solidFill>
                  <a:srgbClr val="000000"/>
                </a:solidFill>
                <a:latin typeface="Arial"/>
              </a:rPr>
              <a:t> </a:t>
            </a:r>
            <a:r>
              <a:rPr b="1" lang="en-US" sz="1800" spc="-1" strike="noStrike">
                <a:solidFill>
                  <a:srgbClr val="000000"/>
                </a:solidFill>
                <a:latin typeface="Arial"/>
              </a:rPr>
              <a:t>axis of the two-vector frame is aligned with this vector.</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rame kernel creator assigns to this vector one of the axis designations     { +X, -X, +Y, -Y, +Z, -Z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degrees of freedom of the frame orientation are removed by association of an axis with the primary vector.  The third degree of freedom is the frame's rotation about the primary vecto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a frame's -X axis is aligned with the primary vector:</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PlaceHolder 2"/>
          <p:cNvSpPr>
            <a:spLocks noGrp="1"/>
          </p:cNvSpPr>
          <p:nvPr>
            <p:ph type="title"/>
          </p:nvPr>
        </p:nvSpPr>
        <p:spPr>
          <a:xfrm>
            <a:off x="2255760" y="380520"/>
            <a:ext cx="6215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Concepts - 2</a:t>
            </a:r>
            <a:endParaRPr b="1" lang="en-US" sz="3200" spc="-1" strike="noStrike">
              <a:solidFill>
                <a:srgbClr val="081d58"/>
              </a:solidFill>
              <a:latin typeface="Arial"/>
            </a:endParaRPr>
          </a:p>
        </p:txBody>
      </p:sp>
      <p:grpSp>
        <p:nvGrpSpPr>
          <p:cNvPr id="145" name=""/>
          <p:cNvGrpSpPr/>
          <p:nvPr/>
        </p:nvGrpSpPr>
        <p:grpSpPr>
          <a:xfrm>
            <a:off x="1749600" y="4240080"/>
            <a:ext cx="4839840" cy="2301480"/>
            <a:chOff x="1749600" y="4240080"/>
            <a:chExt cx="4839840" cy="2301480"/>
          </a:xfrm>
        </p:grpSpPr>
        <p:sp>
          <p:nvSpPr>
            <p:cNvPr id="146" name=""/>
            <p:cNvSpPr/>
            <p:nvPr/>
          </p:nvSpPr>
          <p:spPr>
            <a:xfrm flipH="1" flipV="1">
              <a:off x="4073400" y="4809600"/>
              <a:ext cx="2017440" cy="17319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900680" y="5524560"/>
              <a:ext cx="712440" cy="615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4927680" y="4643280"/>
              <a:ext cx="299520" cy="889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flipV="1">
              <a:off x="3975120" y="5389200"/>
              <a:ext cx="941040" cy="150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rot="9600600">
              <a:off x="5112360" y="5671800"/>
              <a:ext cx="765720" cy="653760"/>
            </a:xfrm>
            <a:custGeom>
              <a:avLst/>
              <a:gdLst/>
              <a:ahLst/>
              <a:rect l="l" t="t" r="r" b="b"/>
              <a:pathLst>
                <a:path stroke="0" w="21600" h="21600">
                  <a:moveTo>
                    <a:pt x="16985" y="1946"/>
                  </a:moveTo>
                  <a:arcTo wR="10800" hR="10800" stAng="-3303754" swAng="14583337"/>
                  <a:lnTo>
                    <a:pt x="10800" y="10800"/>
                  </a:lnTo>
                  <a:close/>
                </a:path>
                <a:path fill="none" w="21600" h="21600">
                  <a:moveTo>
                    <a:pt x="16985" y="1946"/>
                  </a:moveTo>
                  <a:arcTo wR="10800" hR="10800" stAng="-3303754" swAng="14583337"/>
                </a:path>
              </a:pathLst>
            </a:custGeom>
            <a:noFill/>
            <a:ln w="12600">
              <a:solidFill>
                <a:srgbClr val="000000"/>
              </a:solidFill>
              <a:miter/>
              <a:headEnd len="med" type="triangle" w="med"/>
              <a:tailEnd len="med" type="triangle" w="med"/>
            </a:ln>
          </p:spPr>
          <p:style>
            <a:lnRef idx="0"/>
            <a:fillRef idx="0"/>
            <a:effectRef idx="0"/>
            <a:fontRef idx="minor"/>
          </p:style>
          <p:txBody>
            <a:bodyPr wrap="none" lIns="90000" rIns="90000" tIns="46800" bIns="46800" anchor="ctr"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925960" y="5810400"/>
              <a:ext cx="663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2" name=""/>
            <p:cNvSpPr/>
            <p:nvPr/>
          </p:nvSpPr>
          <p:spPr>
            <a:xfrm>
              <a:off x="5122800" y="4240080"/>
              <a:ext cx="663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a:solidFill>
                  <a:srgbClr val="000000"/>
                </a:solidFill>
                <a:latin typeface="Times New Roman"/>
              </a:endParaRPr>
            </a:p>
          </p:txBody>
        </p:sp>
        <p:sp>
          <p:nvSpPr>
            <p:cNvPr id="153" name=""/>
            <p:cNvSpPr/>
            <p:nvPr/>
          </p:nvSpPr>
          <p:spPr>
            <a:xfrm>
              <a:off x="3537000" y="5175360"/>
              <a:ext cx="663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t>
              </a:r>
              <a:endParaRPr b="0" lang="en-US" sz="2400" spc="-1" strike="noStrike">
                <a:solidFill>
                  <a:srgbClr val="000000"/>
                </a:solidFill>
                <a:latin typeface="Times New Roman"/>
              </a:endParaRPr>
            </a:p>
          </p:txBody>
        </p:sp>
        <p:sp>
          <p:nvSpPr>
            <p:cNvPr id="154" name=""/>
            <p:cNvSpPr/>
            <p:nvPr/>
          </p:nvSpPr>
          <p:spPr>
            <a:xfrm>
              <a:off x="1749600" y="4595760"/>
              <a:ext cx="2755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rimary Vector</a:t>
              </a:r>
              <a:endParaRPr b="0" lang="en-US" sz="2400" spc="-1" strike="noStrike">
                <a:solidFill>
                  <a:srgbClr val="000000"/>
                </a:solidFill>
                <a:latin typeface="Times New Roman"/>
              </a:endParaRPr>
            </a:p>
          </p:txBody>
        </p:sp>
        <p:sp>
          <p:nvSpPr>
            <p:cNvPr id="155" name=""/>
            <p:cNvSpPr/>
            <p:nvPr/>
          </p:nvSpPr>
          <p:spPr>
            <a:xfrm>
              <a:off x="4222800" y="4440240"/>
              <a:ext cx="663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E6A2A5AE-CB80-4807-A1D2-312F6FA1D7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87360" y="1240920"/>
            <a:ext cx="8540640" cy="3327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ary Vecto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en-US" sz="2000" spc="-1" strike="noStrike">
                <a:solidFill>
                  <a:srgbClr val="000000"/>
                </a:solidFill>
                <a:latin typeface="Arial"/>
              </a:rPr>
              <a:t> </a:t>
            </a:r>
            <a:r>
              <a:rPr b="1" lang="en-US" sz="1800" spc="-1" strike="noStrike">
                <a:solidFill>
                  <a:srgbClr val="000000"/>
                </a:solidFill>
                <a:latin typeface="Arial"/>
              </a:rPr>
              <a:t>specified positive or negative axis of the two-vector frame is aligned with the component of the secondary vector orthogonal to the primary vector.</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rame kernel creator associates with this vector one of the axis designations { +X, -X, +Y, -Y, +Z, -Z }, where the axis is orthogonal to that associated with the primary vecto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continued:  the frame's +Y axis is associated with the secondary vector.  The component of the secondary vector orthogonal to the primary vector is aligned with the frame's +Y axis.  The secondary vector thus lies in the frame's X-Y plane.</a:t>
            </a:r>
            <a:endParaRPr b="1" lang="en-US" sz="1800" spc="-1" strike="noStrike">
              <a:solidFill>
                <a:srgbClr val="000000"/>
              </a:solidFill>
              <a:latin typeface="Arial"/>
            </a:endParaRPr>
          </a:p>
        </p:txBody>
      </p:sp>
      <p:sp>
        <p:nvSpPr>
          <p:cNvPr id="157" name="PlaceHolder 2"/>
          <p:cNvSpPr>
            <a:spLocks noGrp="1"/>
          </p:cNvSpPr>
          <p:nvPr>
            <p:ph type="title"/>
          </p:nvPr>
        </p:nvSpPr>
        <p:spPr>
          <a:xfrm>
            <a:off x="2250720" y="317520"/>
            <a:ext cx="62247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Concepts - 3</a:t>
            </a:r>
            <a:endParaRPr b="1" lang="en-US" sz="3200" spc="-1" strike="noStrike">
              <a:solidFill>
                <a:srgbClr val="081d58"/>
              </a:solidFill>
              <a:latin typeface="Arial"/>
            </a:endParaRPr>
          </a:p>
        </p:txBody>
      </p:sp>
      <p:sp>
        <p:nvSpPr>
          <p:cNvPr id="158" name=""/>
          <p:cNvSpPr/>
          <p:nvPr/>
        </p:nvSpPr>
        <p:spPr>
          <a:xfrm flipH="1" flipV="1">
            <a:off x="2638080" y="4943160"/>
            <a:ext cx="2017800" cy="17319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65360" y="5657760"/>
            <a:ext cx="712800" cy="615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3492360" y="4776480"/>
            <a:ext cx="300240" cy="888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2539800" y="5522400"/>
            <a:ext cx="941400" cy="150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186080" y="5842080"/>
            <a:ext cx="663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63" name=""/>
          <p:cNvSpPr/>
          <p:nvPr/>
        </p:nvSpPr>
        <p:spPr>
          <a:xfrm>
            <a:off x="3716280" y="4573440"/>
            <a:ext cx="663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t>
            </a:r>
            <a:endParaRPr b="0" lang="en-US" sz="2400" spc="-1" strike="noStrike">
              <a:solidFill>
                <a:srgbClr val="000000"/>
              </a:solidFill>
              <a:latin typeface="Times New Roman"/>
            </a:endParaRPr>
          </a:p>
        </p:txBody>
      </p:sp>
      <p:sp>
        <p:nvSpPr>
          <p:cNvPr id="164" name=""/>
          <p:cNvSpPr/>
          <p:nvPr/>
        </p:nvSpPr>
        <p:spPr>
          <a:xfrm>
            <a:off x="2101680" y="5308560"/>
            <a:ext cx="663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a:t>
            </a:r>
            <a:endParaRPr b="0" lang="en-US" sz="2400" spc="-1" strike="noStrike">
              <a:solidFill>
                <a:srgbClr val="000000"/>
              </a:solidFill>
              <a:latin typeface="Times New Roman"/>
            </a:endParaRPr>
          </a:p>
        </p:txBody>
      </p:sp>
      <p:sp>
        <p:nvSpPr>
          <p:cNvPr id="165" name=""/>
          <p:cNvSpPr/>
          <p:nvPr/>
        </p:nvSpPr>
        <p:spPr>
          <a:xfrm>
            <a:off x="314280" y="4729320"/>
            <a:ext cx="2755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rimary Vector</a:t>
            </a:r>
            <a:endParaRPr b="0" lang="en-US" sz="2400" spc="-1" strike="noStrike">
              <a:solidFill>
                <a:srgbClr val="000000"/>
              </a:solidFill>
              <a:latin typeface="Times New Roman"/>
            </a:endParaRPr>
          </a:p>
        </p:txBody>
      </p:sp>
      <p:sp>
        <p:nvSpPr>
          <p:cNvPr id="166" name=""/>
          <p:cNvSpPr/>
          <p:nvPr/>
        </p:nvSpPr>
        <p:spPr>
          <a:xfrm flipV="1">
            <a:off x="3497400" y="5573520"/>
            <a:ext cx="1552320" cy="106200"/>
          </a:xfrm>
          <a:prstGeom prst="line">
            <a:avLst/>
          </a:prstGeom>
          <a:ln w="57240">
            <a:solidFill>
              <a:srgbClr val="5054fa"/>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084560" y="4970520"/>
            <a:ext cx="3016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Secondary Vector</a:t>
            </a:r>
            <a:endParaRPr b="0" lang="en-US" sz="2400" spc="-1" strike="noStrike">
              <a:solidFill>
                <a:srgbClr val="000000"/>
              </a:solidFill>
              <a:latin typeface="Times New Roman"/>
            </a:endParaRPr>
          </a:p>
        </p:txBody>
      </p:sp>
      <p:sp>
        <p:nvSpPr>
          <p:cNvPr id="168" name=""/>
          <p:cNvSpPr/>
          <p:nvPr/>
        </p:nvSpPr>
        <p:spPr>
          <a:xfrm flipV="1">
            <a:off x="4651200" y="5584680"/>
            <a:ext cx="390600" cy="1106640"/>
          </a:xfrm>
          <a:prstGeom prst="line">
            <a:avLst/>
          </a:prstGeom>
          <a:ln w="57240">
            <a:solidFill>
              <a:srgbClr val="5054fa"/>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rot="4482000">
            <a:off x="4345200" y="6274440"/>
            <a:ext cx="501840" cy="322200"/>
          </a:xfrm>
          <a:prstGeom prst="diamond">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2801880" y="4687920"/>
            <a:ext cx="663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1" name=""/>
          <p:cNvSpPr/>
          <p:nvPr/>
        </p:nvSpPr>
        <p:spPr>
          <a:xfrm>
            <a:off x="5105520" y="5562720"/>
            <a:ext cx="3773520" cy="1057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de8"/>
                </a:solidFill>
                <a:latin typeface="Arial"/>
              </a:rPr>
              <a:t>Component of secondary vector orthogonal to primary vector</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243B907C-A324-49C9-B232-6E1B7EFC37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06080" y="1355400"/>
            <a:ext cx="8464680" cy="523404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ary Vector, continued</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ly the secondary vector itself is not orthogonal to the primary vector.</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econdary vector must be linearly independent of the primary vector.</a:t>
            </a:r>
            <a:endParaRPr b="1" lang="en-US" sz="20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ar-degenerate geometry can lead to extreme loss of precision.</a:t>
            </a:r>
            <a:endParaRPr b="1" lang="en-US" sz="1800" spc="-1" strike="noStrike">
              <a:solidFill>
                <a:srgbClr val="000000"/>
              </a:solidFill>
              <a:latin typeface="Arial"/>
            </a:endParaRPr>
          </a:p>
          <a:p>
            <a:pPr lvl="3" marL="1542960" indent="-17136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problem can be difficult to diagnose.</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ICE enforces independence using a default angular separation tolerance of 1 milliradian. The angular separation of the primary and secondary vectors may not differ from 0 or Pi radians by less than this tolerance.</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rame kernel creator can specify a different tolerance value.  The frame kernel assignment for this is:</a:t>
            </a:r>
            <a:endParaRPr b="1" lang="en-US" sz="1800" spc="-1" strike="noStrike">
              <a:solidFill>
                <a:srgbClr val="000000"/>
              </a:solidFill>
              <a:latin typeface="Arial"/>
            </a:endParaRPr>
          </a:p>
          <a:p>
            <a:pPr lvl="3" marL="154296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RAME_&lt;frame_ID&gt;_ANGLE_SEP_TOL = &lt;tolerance&gt; </a:t>
            </a:r>
            <a:endParaRPr b="1" lang="en-US" sz="1400" spc="-1" strike="noStrike">
              <a:solidFill>
                <a:srgbClr val="000000"/>
              </a:solidFill>
              <a:latin typeface="Arial"/>
            </a:endParaRPr>
          </a:p>
          <a:p>
            <a:pPr lvl="2" marL="114300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ere the tolerance is given in radians.</a:t>
            </a:r>
            <a:endParaRPr b="1" lang="en-US" sz="1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ers of two-vector frames should ensure that the primary and secondary vectors can't become nearly parallel for any realistic evaluation epoch.</a:t>
            </a:r>
            <a:endParaRPr b="1" lang="en-US" sz="2000" spc="-1" strike="noStrike">
              <a:solidFill>
                <a:srgbClr val="000000"/>
              </a:solidFill>
              <a:latin typeface="Arial"/>
            </a:endParaRPr>
          </a:p>
        </p:txBody>
      </p:sp>
      <p:sp>
        <p:nvSpPr>
          <p:cNvPr id="173" name="PlaceHolder 2"/>
          <p:cNvSpPr>
            <a:spLocks noGrp="1"/>
          </p:cNvSpPr>
          <p:nvPr>
            <p:ph type="title"/>
          </p:nvPr>
        </p:nvSpPr>
        <p:spPr>
          <a:xfrm>
            <a:off x="2255760" y="380520"/>
            <a:ext cx="6215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Concepts - 4</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84C162A3-52F6-433A-80DA-EA307A3DAB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91920" y="1204920"/>
            <a:ext cx="7918200" cy="55166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on Vector</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defined by the position of one ephemeris object relative to another.  The frame kernel creator specifie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arget</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bserver</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berration correction</a:t>
            </a:r>
            <a:r>
              <a:rPr b="1" lang="en-US" sz="2000" spc="-1" strike="noStrike">
                <a:solidFill>
                  <a:srgbClr val="000000"/>
                </a:solidFill>
                <a:latin typeface="Arial"/>
              </a:rPr>
              <a:t>	</a:t>
            </a:r>
            <a:endParaRPr b="1" lang="en-US" sz="2000" spc="-1" strike="noStrike">
              <a:solidFill>
                <a:srgbClr val="000000"/>
              </a:solidFill>
              <a:latin typeface="Arial"/>
            </a:endParaRPr>
          </a:p>
          <a:p>
            <a:pPr lvl="3" marL="1542960" indent="-1713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ctor may optionally be corrected for light time and stellar aberration.</a:t>
            </a:r>
            <a:endParaRPr b="1" lang="en-US" sz="1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poch at which the position vector is computed is supplied via a call to a SPICE API routine:</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n input to an SPK routine, e.g. SPKEZR, SPKPO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n input to a frame system routine, e.g. SXFORM, PXFORM.</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ference frame relative to which the vector is expressed is not specified by the frame kernel creator.</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 automatically selects this frame.</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2"/>
          <p:cNvSpPr>
            <a:spLocks noGrp="1"/>
          </p:cNvSpPr>
          <p:nvPr>
            <p:ph type="title"/>
          </p:nvPr>
        </p:nvSpPr>
        <p:spPr>
          <a:xfrm>
            <a:off x="2257560" y="380520"/>
            <a:ext cx="6215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Concepts - 5</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A03CA2D2-8769-4261-82BD-DEA2CF88AC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299520" y="1213920"/>
            <a:ext cx="8597880" cy="572796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 Near Point Vector</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defined as the vector from an observer to the nearest point on a specified extended target body to that observer. The frame kernel creator specifies:</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arget</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bserver</a:t>
            </a:r>
            <a:endParaRPr b="1" lang="en-US" sz="20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berration correction</a:t>
            </a:r>
            <a:r>
              <a:rPr b="1" lang="en-US" sz="1800" spc="-1" strike="noStrike">
                <a:solidFill>
                  <a:srgbClr val="000000"/>
                </a:solidFill>
                <a:latin typeface="Arial"/>
              </a:rPr>
              <a:t>	</a:t>
            </a:r>
            <a:endParaRPr b="1" lang="en-US" sz="1800" spc="-1" strike="noStrike">
              <a:solidFill>
                <a:srgbClr val="000000"/>
              </a:solidFill>
              <a:latin typeface="Arial"/>
            </a:endParaRPr>
          </a:p>
          <a:p>
            <a:pPr lvl="3" marL="1542960" indent="-17136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ctor may optionally be corrected for light time and stellar aberration.</a:t>
            </a:r>
            <a:endParaRPr b="1" lang="en-US" sz="1800" spc="-1" strike="noStrike">
              <a:solidFill>
                <a:srgbClr val="000000"/>
              </a:solidFill>
              <a:latin typeface="Arial"/>
            </a:endParaRPr>
          </a:p>
          <a:p>
            <a:pPr lvl="3" marL="1542960" indent="-17136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light time correction is used, both the position and orientation of the</a:t>
            </a:r>
            <a:r>
              <a:rPr b="1" lang="en-US" sz="1600" spc="-1" strike="noStrike">
                <a:solidFill>
                  <a:srgbClr val="000000"/>
                </a:solidFill>
                <a:latin typeface="Arial"/>
              </a:rPr>
              <a:t> </a:t>
            </a:r>
            <a:r>
              <a:rPr b="1" lang="en-US" sz="1800" spc="-1" strike="noStrike">
                <a:solidFill>
                  <a:srgbClr val="000000"/>
                </a:solidFill>
                <a:latin typeface="Arial"/>
              </a:rPr>
              <a:t>target body are corrected for light time.</a:t>
            </a:r>
            <a:endParaRPr b="1" lang="en-US" sz="1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xtended target body is modeled as a triaxial ellipsoid.</a:t>
            </a:r>
            <a:endParaRPr b="1" lang="en-US" sz="20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 and shape data are given by a PCK.</a:t>
            </a:r>
            <a:endParaRPr b="1" lang="en-US" sz="1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poch is supplied via a SPICE API call, as for position vector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ference frame relative to which the vector is expressed is not specified by the frame kernel creator.</a:t>
            </a:r>
            <a:endParaRPr b="1" lang="en-US" sz="20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ICE automatically selects this frame.</a:t>
            </a:r>
            <a:endParaRPr b="1" lang="en-US" sz="1800" spc="-1" strike="noStrike">
              <a:solidFill>
                <a:srgbClr val="000000"/>
              </a:solidFill>
              <a:latin typeface="Arial"/>
            </a:endParaRPr>
          </a:p>
        </p:txBody>
      </p:sp>
      <p:sp>
        <p:nvSpPr>
          <p:cNvPr id="177" name="PlaceHolder 2"/>
          <p:cNvSpPr>
            <a:spLocks noGrp="1"/>
          </p:cNvSpPr>
          <p:nvPr>
            <p:ph type="title"/>
          </p:nvPr>
        </p:nvSpPr>
        <p:spPr>
          <a:xfrm>
            <a:off x="2257560" y="380520"/>
            <a:ext cx="6215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Concepts - 6</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054A9AF3-0F12-44EB-875F-B298BF9322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92280" y="1361880"/>
            <a:ext cx="7772400" cy="48085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 to Dynamic Reference Fram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inolog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meterized Dynamic Reference Frame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ng Dynamic Reference Fram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Vector Frame Concept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Vector Frame Exampl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Date" Fram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ler Fram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zen Dynamic Fram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ertial Dynamic Fram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ic Dynamic Reference Frame Kernel</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up</a:t>
            </a:r>
            <a:endParaRPr b="1" lang="en-US" sz="2400" spc="-1" strike="noStrike">
              <a:solidFill>
                <a:srgbClr val="000000"/>
              </a:solidFill>
              <a:latin typeface="Arial"/>
            </a:endParaRPr>
          </a:p>
        </p:txBody>
      </p:sp>
      <p:sp>
        <p:nvSpPr>
          <p:cNvPr id="115" name="PlaceHolder 2"/>
          <p:cNvSpPr>
            <a:spLocks noGrp="1"/>
          </p:cNvSpPr>
          <p:nvPr>
            <p:ph type="title"/>
          </p:nvPr>
        </p:nvSpPr>
        <p:spPr>
          <a:xfrm>
            <a:off x="4635000" y="380520"/>
            <a:ext cx="14367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opic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BF7AEA63-28AD-410E-974B-74432BC25D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20840" y="1160280"/>
            <a:ext cx="8478720" cy="563868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locity Vector</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defined by the velocity of a target ephemeris object relative to an observing ephemeris object. The frame kernel creator specifies:</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arget</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bserver</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elocity reference frame</a:t>
            </a:r>
            <a:endParaRPr b="1" lang="en-US" sz="2000" spc="-1" strike="noStrike">
              <a:solidFill>
                <a:srgbClr val="000000"/>
              </a:solidFill>
              <a:latin typeface="Arial"/>
            </a:endParaRPr>
          </a:p>
          <a:p>
            <a:pPr lvl="3" marL="1542960" indent="-17136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frame may be distinct from the base frame.</a:t>
            </a:r>
            <a:endParaRPr b="1" lang="en-US" sz="1800" spc="-1" strike="noStrike">
              <a:solidFill>
                <a:srgbClr val="000000"/>
              </a:solidFill>
              <a:latin typeface="Arial"/>
            </a:endParaRPr>
          </a:p>
          <a:p>
            <a:pPr lvl="3" marL="1542960" indent="-17136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velocity frame choices can lead to radically different two-vector frame definition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berration correction</a:t>
            </a:r>
            <a:r>
              <a:rPr b="1" lang="en-US" sz="1800" spc="-1" strike="noStrike">
                <a:solidFill>
                  <a:srgbClr val="000000"/>
                </a:solidFill>
                <a:latin typeface="Arial"/>
              </a:rPr>
              <a:t>	</a:t>
            </a:r>
            <a:endParaRPr b="1" lang="en-US" sz="1800" spc="-1" strike="noStrike">
              <a:solidFill>
                <a:srgbClr val="000000"/>
              </a:solidFill>
              <a:latin typeface="Arial"/>
            </a:endParaRPr>
          </a:p>
          <a:p>
            <a:pPr lvl="3" marL="1542960" indent="-17136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locity vector may optionally be corrected for light time and stellar aberration.</a:t>
            </a:r>
            <a:endParaRPr b="1" lang="en-US" sz="1800" spc="-1" strike="noStrike">
              <a:solidFill>
                <a:srgbClr val="000000"/>
              </a:solidFill>
              <a:latin typeface="Arial"/>
            </a:endParaRPr>
          </a:p>
          <a:p>
            <a:pPr lvl="3" marL="1542960" indent="-17136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light time correction also implies evaluation of the velocity vector's frame at a light-time corrected epoch:  the epoch is corrected for light time between the velocity frame's center and the observer, if the velocity frame is non-inertial.</a:t>
            </a:r>
            <a:endParaRPr b="1" lang="en-US" sz="1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poch is supplied via a SPICE API call, as for position vectors.</a:t>
            </a:r>
            <a:endParaRPr b="1" lang="en-US" sz="2000" spc="-1" strike="noStrike">
              <a:solidFill>
                <a:srgbClr val="000000"/>
              </a:solidFill>
              <a:latin typeface="Arial"/>
            </a:endParaRPr>
          </a:p>
        </p:txBody>
      </p:sp>
      <p:sp>
        <p:nvSpPr>
          <p:cNvPr id="179" name="PlaceHolder 2"/>
          <p:cNvSpPr>
            <a:spLocks noGrp="1"/>
          </p:cNvSpPr>
          <p:nvPr>
            <p:ph type="title"/>
          </p:nvPr>
        </p:nvSpPr>
        <p:spPr>
          <a:xfrm>
            <a:off x="2257560" y="380520"/>
            <a:ext cx="6215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Concepts - 7</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1AD1DE34-425E-4105-A4FB-B6CBAF5E68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87440" y="1184040"/>
            <a:ext cx="8369280" cy="549900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tant Vector</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ector is constant in a frame specified by the kernel creator.</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stant vector's frame may be time-dependent.</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frame may be distinct from the base frame.</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ector may be specified in a variety of coordinate system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tesian</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itudinal </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ght ascension/declination (RA/DEC)</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observer may optionally be associated with a constant vector for the purpose of defining aberration correction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rientation of the constant vector's frame may optionally be corrected for light time between the frame's center and the observer: if the frame is non-inertial, it is evaluated at a light-time corrected epoch.</a:t>
            </a:r>
            <a:endParaRPr b="1" lang="en-US" sz="2000" spc="-1" strike="noStrike">
              <a:solidFill>
                <a:srgbClr val="000000"/>
              </a:solidFill>
              <a:latin typeface="Arial"/>
            </a:endParaRPr>
          </a:p>
        </p:txBody>
      </p:sp>
      <p:sp>
        <p:nvSpPr>
          <p:cNvPr id="181" name="PlaceHolder 2"/>
          <p:cNvSpPr>
            <a:spLocks noGrp="1"/>
          </p:cNvSpPr>
          <p:nvPr>
            <p:ph type="title"/>
          </p:nvPr>
        </p:nvSpPr>
        <p:spPr>
          <a:xfrm>
            <a:off x="2257560" y="380520"/>
            <a:ext cx="6215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Concepts - 8</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1A832D2F-CAF0-4842-8A62-E3DA1B5E29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49080" y="1541520"/>
            <a:ext cx="7918200" cy="5083200"/>
          </a:xfrm>
          <a:prstGeom prst="rect">
            <a:avLst/>
          </a:prstGeom>
          <a:noFill/>
          <a:ln w="0">
            <a:noFill/>
          </a:ln>
        </p:spPr>
        <p:txBody>
          <a:bodyPr lIns="90360" rIns="90360" tIns="44280" bIns="44280" anchor="t">
            <a:normAutofit/>
          </a:bodyPr>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stant vector may optionally be corrected for stellar aberration due to motion of observer relative to solar system barycenter.</a:t>
            </a:r>
            <a:endParaRPr b="1" lang="en-US" sz="2000" spc="-1" strike="noStrike">
              <a:solidFill>
                <a:srgbClr val="000000"/>
              </a:solidFill>
              <a:latin typeface="Arial"/>
            </a:endParaRPr>
          </a:p>
          <a:p>
            <a:pPr lvl="3" marL="1542960" indent="-1713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llar aberration can be specified without light time correction; the string indicating stellar aberration correction alone is</a:t>
            </a:r>
            <a:endParaRPr b="1" lang="en-US" sz="1800" spc="-1" strike="noStrike">
              <a:solidFill>
                <a:srgbClr val="000000"/>
              </a:solidFill>
              <a:latin typeface="Arial"/>
            </a:endParaRPr>
          </a:p>
          <a:p>
            <a:pPr lvl="4" marL="2000160" indent="0">
              <a:lnSpc>
                <a:spcPct val="90000"/>
              </a:lnSpc>
              <a:spcBef>
                <a:spcPts val="675"/>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1" lang="en-US" sz="1800" spc="-1" strike="noStrike">
              <a:solidFill>
                <a:srgbClr val="000000"/>
              </a:solidFill>
              <a:latin typeface="Arial"/>
            </a:endParaRPr>
          </a:p>
          <a:p>
            <a:pPr lvl="3" marL="1542960" indent="-1713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correction specification is not supported elsewhere in the SPICE Toolkit API.</a:t>
            </a:r>
            <a:endParaRPr b="1" lang="en-US" sz="1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poch is supplied via a SPICE API call, as for position vector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constant vector's frame is time-dependent, that frame is evaluated at this epoch, optionally adjusted for light time.</a:t>
            </a:r>
            <a:endParaRPr b="1" lang="en-US" sz="2000" spc="-1" strike="noStrike">
              <a:solidFill>
                <a:srgbClr val="000000"/>
              </a:solidFill>
              <a:latin typeface="Arial"/>
            </a:endParaRPr>
          </a:p>
          <a:p>
            <a:pPr lvl="2" marL="114300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2"/>
          <p:cNvSpPr>
            <a:spLocks noGrp="1"/>
          </p:cNvSpPr>
          <p:nvPr>
            <p:ph type="title"/>
          </p:nvPr>
        </p:nvSpPr>
        <p:spPr>
          <a:xfrm>
            <a:off x="2257560" y="380520"/>
            <a:ext cx="6215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Concepts - 9</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7E1CC05C-5161-4099-84C6-F3880DBBE8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4560" y="366840"/>
            <a:ext cx="6262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Examples - 1</a:t>
            </a:r>
            <a:endParaRPr b="1" lang="en-US" sz="3200" spc="-1" strike="noStrike">
              <a:solidFill>
                <a:srgbClr val="081d58"/>
              </a:solidFill>
              <a:latin typeface="Arial"/>
            </a:endParaRPr>
          </a:p>
        </p:txBody>
      </p:sp>
      <p:sp>
        <p:nvSpPr>
          <p:cNvPr id="185" name=""/>
          <p:cNvSpPr/>
          <p:nvPr/>
        </p:nvSpPr>
        <p:spPr>
          <a:xfrm rot="20882400">
            <a:off x="1907640" y="3185640"/>
            <a:ext cx="4759560" cy="81756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5194440" y="3062160"/>
            <a:ext cx="707760" cy="473040"/>
          </a:xfrm>
          <a:prstGeom prst="ellipse">
            <a:avLst/>
          </a:prstGeom>
          <a:gradFill rotWithShape="0">
            <a:gsLst>
              <a:gs pos="0">
                <a:srgbClr val="744114"/>
              </a:gs>
              <a:gs pos="100000">
                <a:srgbClr val="fc8f2c"/>
              </a:gs>
            </a:gsLst>
            <a:lin ang="135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flipV="1">
            <a:off x="2432160" y="3317400"/>
            <a:ext cx="3062160" cy="9162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699000" y="2103480"/>
            <a:ext cx="503208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Primary vector:</a:t>
            </a:r>
            <a:r>
              <a:rPr b="1" lang="en-US" sz="1200" spc="-1" strike="noStrike">
                <a:solidFill>
                  <a:srgbClr val="fc0128"/>
                </a:solidFill>
                <a:latin typeface="Arial"/>
              </a:rPr>
              <a:t>   </a:t>
            </a:r>
            <a:r>
              <a:rPr b="1" lang="en-US" sz="1600" spc="-1" strike="noStrike">
                <a:solidFill>
                  <a:srgbClr val="000000"/>
                </a:solidFill>
                <a:latin typeface="Arial"/>
              </a:rPr>
              <a:t> spacecraft nadir direction vector.  Associated with nadir frame's -Z axis in frame kernel.   </a:t>
            </a:r>
            <a:endParaRPr b="0" lang="en-US" sz="1600" spc="-1" strike="noStrike">
              <a:solidFill>
                <a:srgbClr val="000000"/>
              </a:solidFill>
              <a:latin typeface="Times New Roman"/>
            </a:endParaRPr>
          </a:p>
        </p:txBody>
      </p:sp>
      <p:sp>
        <p:nvSpPr>
          <p:cNvPr id="189" name=""/>
          <p:cNvSpPr/>
          <p:nvPr/>
        </p:nvSpPr>
        <p:spPr>
          <a:xfrm>
            <a:off x="4813200" y="4332240"/>
            <a:ext cx="391788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Secondary vector:</a:t>
            </a:r>
            <a:r>
              <a:rPr b="1" lang="en-US" sz="1600" spc="-1" strike="noStrike">
                <a:solidFill>
                  <a:srgbClr val="fc0128"/>
                </a:solidFill>
                <a:latin typeface="Arial"/>
              </a:rPr>
              <a:t> </a:t>
            </a:r>
            <a:r>
              <a:rPr b="1" lang="en-US" sz="1600" spc="-1" strike="noStrike">
                <a:solidFill>
                  <a:srgbClr val="000000"/>
                </a:solidFill>
                <a:latin typeface="Arial"/>
              </a:rPr>
              <a:t>spacecraft  velocity relative to center of motion in J2000 frame.  Associated with nadir frame's  +X axis in frame kernel.</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90" name=""/>
          <p:cNvSpPr/>
          <p:nvPr/>
        </p:nvSpPr>
        <p:spPr>
          <a:xfrm>
            <a:off x="1712880" y="5405400"/>
            <a:ext cx="410040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rmalized component of secondary</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ctor orthogonal to primary vector.</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vector is aligned with the nadir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s +X axis.</a:t>
            </a:r>
            <a:endParaRPr b="0" lang="en-US" sz="1600" spc="-1" strike="noStrike">
              <a:solidFill>
                <a:srgbClr val="000000"/>
              </a:solidFill>
              <a:latin typeface="Times New Roman"/>
            </a:endParaRPr>
          </a:p>
        </p:txBody>
      </p:sp>
      <p:sp>
        <p:nvSpPr>
          <p:cNvPr id="191" name=""/>
          <p:cNvSpPr/>
          <p:nvPr/>
        </p:nvSpPr>
        <p:spPr>
          <a:xfrm>
            <a:off x="2768760" y="4830840"/>
            <a:ext cx="438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192" name=""/>
          <p:cNvSpPr/>
          <p:nvPr/>
        </p:nvSpPr>
        <p:spPr>
          <a:xfrm>
            <a:off x="376920" y="2381400"/>
            <a:ext cx="292248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  =  Z  x  X,  completing the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ht-handed frame.</a:t>
            </a:r>
            <a:endParaRPr b="0" lang="en-US" sz="1600" spc="-1" strike="noStrike">
              <a:solidFill>
                <a:srgbClr val="000000"/>
              </a:solidFill>
              <a:latin typeface="Times New Roman"/>
            </a:endParaRPr>
          </a:p>
        </p:txBody>
      </p:sp>
      <p:sp>
        <p:nvSpPr>
          <p:cNvPr id="193" name=""/>
          <p:cNvSpPr/>
          <p:nvPr/>
        </p:nvSpPr>
        <p:spPr>
          <a:xfrm flipH="1">
            <a:off x="1563840" y="4235400"/>
            <a:ext cx="838080" cy="265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19240" y="4478400"/>
            <a:ext cx="438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 </a:t>
            </a:r>
            <a:endParaRPr b="0" lang="en-US" sz="1800" spc="-1" strike="noStrike">
              <a:solidFill>
                <a:srgbClr val="000000"/>
              </a:solidFill>
              <a:latin typeface="Times New Roman"/>
            </a:endParaRPr>
          </a:p>
        </p:txBody>
      </p:sp>
      <p:sp>
        <p:nvSpPr>
          <p:cNvPr id="195" name=""/>
          <p:cNvSpPr/>
          <p:nvPr/>
        </p:nvSpPr>
        <p:spPr>
          <a:xfrm>
            <a:off x="1984320" y="2901960"/>
            <a:ext cx="438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96" name=""/>
          <p:cNvSpPr/>
          <p:nvPr/>
        </p:nvSpPr>
        <p:spPr>
          <a:xfrm>
            <a:off x="842760" y="1447920"/>
            <a:ext cx="74134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dir-Oriented Spacecraft-Centered Frame</a:t>
            </a:r>
            <a:endParaRPr b="0" lang="en-US" sz="2800" spc="-1" strike="noStrike">
              <a:solidFill>
                <a:srgbClr val="000000"/>
              </a:solidFill>
              <a:latin typeface="Times New Roman"/>
            </a:endParaRPr>
          </a:p>
        </p:txBody>
      </p:sp>
      <p:sp>
        <p:nvSpPr>
          <p:cNvPr id="197" name=""/>
          <p:cNvSpPr/>
          <p:nvPr/>
        </p:nvSpPr>
        <p:spPr>
          <a:xfrm>
            <a:off x="6767640" y="2784600"/>
            <a:ext cx="2246040" cy="1443960"/>
          </a:xfrm>
          <a:prstGeom prst="rect">
            <a:avLst/>
          </a:prstGeom>
          <a:solidFill>
            <a:srgbClr val="24cac6"/>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dir vector can be defined to point to either:</a:t>
            </a:r>
            <a:endParaRPr b="0" lang="en-US" sz="16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losest point to spacecraft on ellipsoid</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enter of mass of orbited body</a:t>
            </a:r>
            <a:endParaRPr b="0" lang="en-US" sz="1200" spc="-1" strike="noStrike">
              <a:solidFill>
                <a:srgbClr val="000000"/>
              </a:solidFill>
              <a:latin typeface="Times New Roman"/>
            </a:endParaRPr>
          </a:p>
        </p:txBody>
      </p:sp>
      <p:sp>
        <p:nvSpPr>
          <p:cNvPr id="198" name=""/>
          <p:cNvSpPr/>
          <p:nvPr/>
        </p:nvSpPr>
        <p:spPr>
          <a:xfrm flipH="1" flipV="1">
            <a:off x="2206800" y="3343320"/>
            <a:ext cx="193680" cy="876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420280" y="4246200"/>
            <a:ext cx="2184120" cy="113040"/>
          </a:xfrm>
          <a:prstGeom prst="line">
            <a:avLst/>
          </a:prstGeom>
          <a:ln w="5724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408400" y="4222800"/>
            <a:ext cx="361800" cy="515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Dynamic Frames</a:t>
            </a:r>
          </a:p>
        </p:txBody>
      </p:sp>
      <p:sp>
        <p:nvSpPr>
          <p:cNvPr id="4" name="PlaceHolder 3"/>
          <p:cNvSpPr>
            <a:spLocks noGrp="1"/>
          </p:cNvSpPr>
          <p:nvPr>
            <p:ph type="sldNum" idx="2"/>
          </p:nvPr>
        </p:nvSpPr>
        <p:spPr/>
        <p:txBody>
          <a:bodyPr/>
          <a:p>
            <a:fld id="{689B1C21-F70D-43A4-B6BB-20477B7A1F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30200" y="1422360"/>
            <a:ext cx="7120080" cy="5182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Nadir-Oriented Spacecraft-Centered Frame:  Frame kernel specificatio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he -Z axis points from the spacecraft toward the closest point on Mar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he component of inertially referenced spacecraft velocity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vector orthogonal to Z is aligned with the +X axi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he +Y axis is the cross product of the +Z axis and the +X axi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FRAME_&lt;frame_name&gt;              = &lt;frame_ID&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AME           = &lt;frame_name&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          = 5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_ID       = &lt;frame_ID&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ENTER         = &lt;orbiter_ID&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ELATIVE       = 'J2000'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DEF_STYLE      = 'PARAMETERIZED'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AMILY         = 'TWO-VECTOR'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AXIS       = '-Z'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VECTOR_DEF = 'TARGET_NEAR_POIN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OBSERVER   = &lt;orbiter_ID/name&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TARGET     = 'MAR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ABCORR     = 'NON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AXIS       = 'X'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VECTOR_DEF = 'OBSERVER_TARGET_VELOCITY'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OBSERVER   = 'MAR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TARGET     = &lt;orbiter_ID/name&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ABCORR     = 'NON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FRAME      = 'J2000'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3" name="PlaceHolder 2"/>
          <p:cNvSpPr>
            <a:spLocks noGrp="1"/>
          </p:cNvSpPr>
          <p:nvPr>
            <p:ph type="title"/>
          </p:nvPr>
        </p:nvSpPr>
        <p:spPr>
          <a:xfrm>
            <a:off x="2236320" y="380520"/>
            <a:ext cx="62629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Examples - 2</a:t>
            </a:r>
            <a:endParaRPr b="1" lang="en-US" sz="3200" spc="-1" strike="noStrike">
              <a:solidFill>
                <a:srgbClr val="081d58"/>
              </a:solidFill>
              <a:latin typeface="Arial"/>
            </a:endParaRPr>
          </a:p>
        </p:txBody>
      </p:sp>
      <p:sp>
        <p:nvSpPr>
          <p:cNvPr id="204" name=""/>
          <p:cNvSpPr/>
          <p:nvPr/>
        </p:nvSpPr>
        <p:spPr>
          <a:xfrm>
            <a:off x="5923800" y="2967120"/>
            <a:ext cx="3067200" cy="1571400"/>
          </a:xfrm>
          <a:prstGeom prst="rect">
            <a:avLst/>
          </a:prstGeom>
          <a:solidFill>
            <a:srgbClr val="24cac6"/>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name&gt;       =  user-specifi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ame n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ID&gt;             =  integer frame I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d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orbiter_ID&gt;           =  NAIF ID code of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acecraf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orbiter_ID/name&gt; = NAIF ID code o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ame of spacecraf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907FB1FA-0E76-4B8D-8CC9-7FB220A8D2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355840" y="380520"/>
            <a:ext cx="6262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Examples - 3</a:t>
            </a:r>
            <a:endParaRPr b="1" lang="en-US" sz="3200" spc="-1" strike="noStrike">
              <a:solidFill>
                <a:srgbClr val="081d58"/>
              </a:solidFill>
              <a:latin typeface="Arial"/>
            </a:endParaRPr>
          </a:p>
        </p:txBody>
      </p:sp>
      <p:sp>
        <p:nvSpPr>
          <p:cNvPr id="206" name=""/>
          <p:cNvSpPr/>
          <p:nvPr/>
        </p:nvSpPr>
        <p:spPr>
          <a:xfrm rot="20882400">
            <a:off x="3336480" y="3185640"/>
            <a:ext cx="4759560" cy="81756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6622920" y="3062160"/>
            <a:ext cx="708120" cy="473040"/>
          </a:xfrm>
          <a:prstGeom prst="ellipse">
            <a:avLst/>
          </a:prstGeom>
          <a:gradFill rotWithShape="0">
            <a:gsLst>
              <a:gs pos="0">
                <a:srgbClr val="744114"/>
              </a:gs>
              <a:gs pos="100000">
                <a:srgbClr val="fc8f2c"/>
              </a:gs>
            </a:gsLst>
            <a:lin ang="135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3850560" y="4246920"/>
            <a:ext cx="2141640" cy="87840"/>
          </a:xfrm>
          <a:prstGeom prst="line">
            <a:avLst/>
          </a:prstGeom>
          <a:ln w="57240">
            <a:solidFill>
              <a:srgbClr val="fc0128"/>
            </a:solidFill>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9" name=""/>
          <p:cNvSpPr/>
          <p:nvPr/>
        </p:nvSpPr>
        <p:spPr>
          <a:xfrm flipV="1">
            <a:off x="3846600" y="3303720"/>
            <a:ext cx="3062160" cy="915840"/>
          </a:xfrm>
          <a:prstGeom prst="line">
            <a:avLst/>
          </a:prstGeom>
          <a:ln w="57240">
            <a:solidFill>
              <a:srgbClr val="063de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699000" y="2103480"/>
            <a:ext cx="503208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Secondary vector:</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craft position relative to center of motion. Associated with view frame's +Y axis in frame kernel.   </a:t>
            </a:r>
            <a:endParaRPr b="0" lang="en-US" sz="1600" spc="-1" strike="noStrike">
              <a:solidFill>
                <a:srgbClr val="000000"/>
              </a:solidFill>
              <a:latin typeface="Times New Roman"/>
            </a:endParaRPr>
          </a:p>
        </p:txBody>
      </p:sp>
      <p:sp>
        <p:nvSpPr>
          <p:cNvPr id="211" name=""/>
          <p:cNvSpPr/>
          <p:nvPr/>
        </p:nvSpPr>
        <p:spPr>
          <a:xfrm>
            <a:off x="5581800" y="4522680"/>
            <a:ext cx="3236760" cy="1407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Primary vector:  </a:t>
            </a:r>
            <a:r>
              <a:rPr b="1" lang="en-US" sz="1600" spc="-1" strike="noStrike">
                <a:solidFill>
                  <a:srgbClr val="000000"/>
                </a:solidFill>
                <a:latin typeface="Arial"/>
              </a:rPr>
              <a:t>spacecraft  velocity relative to center of motion in J2000 frame. Associated with view frame's +Z axis in frame kernel.</a:t>
            </a:r>
            <a:r>
              <a:rPr b="1" lang="en-US" sz="1200" spc="-1" strike="noStrike">
                <a:solidFill>
                  <a:srgbClr val="000000"/>
                </a:solidFill>
                <a:latin typeface="Arial"/>
              </a:rPr>
              <a:t> </a:t>
            </a:r>
            <a:r>
              <a:rPr b="1" lang="en-US" sz="1600" spc="-1" strike="noStrike">
                <a:solidFill>
                  <a:srgbClr val="000000"/>
                </a:solidFill>
                <a:latin typeface="Arial"/>
              </a:rPr>
              <a:t> ("Down track" direction)</a:t>
            </a:r>
            <a:endParaRPr b="0" lang="en-US" sz="1600" spc="-1" strike="noStrike">
              <a:solidFill>
                <a:srgbClr val="000000"/>
              </a:solidFill>
              <a:latin typeface="Times New Roman"/>
            </a:endParaRPr>
          </a:p>
        </p:txBody>
      </p:sp>
      <p:sp>
        <p:nvSpPr>
          <p:cNvPr id="212" name=""/>
          <p:cNvSpPr/>
          <p:nvPr/>
        </p:nvSpPr>
        <p:spPr>
          <a:xfrm>
            <a:off x="2135880" y="1393920"/>
            <a:ext cx="44100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acecraft "View Frame"</a:t>
            </a:r>
            <a:endParaRPr b="0" lang="en-US" sz="2800" spc="-1" strike="noStrike">
              <a:solidFill>
                <a:srgbClr val="000000"/>
              </a:solidFill>
              <a:latin typeface="Times New Roman"/>
            </a:endParaRPr>
          </a:p>
        </p:txBody>
      </p:sp>
      <p:sp>
        <p:nvSpPr>
          <p:cNvPr id="213" name=""/>
          <p:cNvSpPr/>
          <p:nvPr/>
        </p:nvSpPr>
        <p:spPr>
          <a:xfrm>
            <a:off x="839880" y="5072040"/>
            <a:ext cx="3852720" cy="1188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rmalized component of secondary</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ctor orthogonal to primary vector.</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vector is aligned with the view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s +Y axis. ("In plane" direction)                        </a:t>
            </a:r>
            <a:endParaRPr b="0" lang="en-US" sz="1600" spc="-1" strike="noStrike">
              <a:solidFill>
                <a:srgbClr val="000000"/>
              </a:solidFill>
              <a:latin typeface="Times New Roman"/>
            </a:endParaRPr>
          </a:p>
        </p:txBody>
      </p:sp>
      <p:sp>
        <p:nvSpPr>
          <p:cNvPr id="214" name=""/>
          <p:cNvSpPr/>
          <p:nvPr/>
        </p:nvSpPr>
        <p:spPr>
          <a:xfrm>
            <a:off x="4416480" y="4392720"/>
            <a:ext cx="438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 </a:t>
            </a:r>
            <a:endParaRPr b="0" lang="en-US" sz="1800" spc="-1" strike="noStrike">
              <a:solidFill>
                <a:srgbClr val="000000"/>
              </a:solidFill>
              <a:latin typeface="Times New Roman"/>
            </a:endParaRPr>
          </a:p>
        </p:txBody>
      </p:sp>
      <p:sp>
        <p:nvSpPr>
          <p:cNvPr id="215" name=""/>
          <p:cNvSpPr/>
          <p:nvPr/>
        </p:nvSpPr>
        <p:spPr>
          <a:xfrm>
            <a:off x="407160" y="2860560"/>
            <a:ext cx="2922480" cy="750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  =  Y  x  Z,  completing the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ht-handed fram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 of plane"  direction)</a:t>
            </a:r>
            <a:endParaRPr b="0" lang="en-US" sz="1600" spc="-1" strike="noStrike">
              <a:solidFill>
                <a:srgbClr val="000000"/>
              </a:solidFill>
              <a:latin typeface="Times New Roman"/>
            </a:endParaRPr>
          </a:p>
        </p:txBody>
      </p:sp>
      <p:sp>
        <p:nvSpPr>
          <p:cNvPr id="216" name=""/>
          <p:cNvSpPr/>
          <p:nvPr/>
        </p:nvSpPr>
        <p:spPr>
          <a:xfrm flipH="1">
            <a:off x="3328560" y="4248000"/>
            <a:ext cx="515880" cy="455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827520" y="4248000"/>
            <a:ext cx="873000" cy="51120"/>
          </a:xfrm>
          <a:prstGeom prst="line">
            <a:avLst/>
          </a:prstGeom>
          <a:ln w="57240">
            <a:solidFill>
              <a:srgbClr val="000000"/>
            </a:solidFill>
            <a:miter/>
            <a:tailEnd len="med" type="triangle" w="me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8" name=""/>
          <p:cNvSpPr/>
          <p:nvPr/>
        </p:nvSpPr>
        <p:spPr>
          <a:xfrm flipH="1" flipV="1">
            <a:off x="3664080" y="3414240"/>
            <a:ext cx="179280" cy="833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009960" y="4694400"/>
            <a:ext cx="438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20" name=""/>
          <p:cNvSpPr/>
          <p:nvPr/>
        </p:nvSpPr>
        <p:spPr>
          <a:xfrm>
            <a:off x="3467160" y="3089160"/>
            <a:ext cx="4381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Dynamic Frames</a:t>
            </a:r>
          </a:p>
        </p:txBody>
      </p:sp>
      <p:sp>
        <p:nvSpPr>
          <p:cNvPr id="4" name="PlaceHolder 3"/>
          <p:cNvSpPr>
            <a:spLocks noGrp="1"/>
          </p:cNvSpPr>
          <p:nvPr>
            <p:ph type="sldNum" idx="2"/>
          </p:nvPr>
        </p:nvSpPr>
        <p:spPr/>
        <p:txBody>
          <a:bodyPr/>
          <a:p>
            <a:fld id="{67AD9CF3-D28A-461C-B025-3116F262B7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30200" y="1422360"/>
            <a:ext cx="7120080" cy="5347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pacecraft "View Frame":  Frame kernel specificatio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he +Z axis is aligned with the J2000-referenced velocity of th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pacecraft relative to Mar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he component of the spacecraft position orthogonal to +Z is align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with the +Y axi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he +X axis is the cross product of the +Y axis and the +X axi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FRAME_&lt;frame_name&gt;              = &lt;frame_ID&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AME           = &lt;frame_name&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          = 5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_ID       = &lt;frame_ID&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ENTER         = &lt;orbiter_ID&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ELATIVE       = 'J2000'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DEF_STYLE      = 'PARAMETERIZED'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AMILY         = 'TWO-VECTOR'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AXIS       = 'Z'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VECTOR_DEF = 'OBSERVER_TARGET_VELOCITY'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OBSERVER   = 'MAR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TARGET     = </a:t>
            </a:r>
            <a:r>
              <a:rPr b="1" lang="en-US" sz="1200" spc="-1" strike="noStrike">
                <a:solidFill>
                  <a:srgbClr val="000000"/>
                </a:solidFill>
                <a:latin typeface="Arial"/>
              </a:rPr>
              <a:t>&lt;</a:t>
            </a:r>
            <a:r>
              <a:rPr b="1" lang="en-US" sz="1200" spc="-1" strike="noStrike">
                <a:solidFill>
                  <a:srgbClr val="000000"/>
                </a:solidFill>
                <a:latin typeface="Courier New"/>
              </a:rPr>
              <a:t>orbiter_ID/name</a:t>
            </a:r>
            <a:r>
              <a:rPr b="1" lang="en-US" sz="1200" spc="-1" strike="noStrike">
                <a:solidFill>
                  <a:srgbClr val="000000"/>
                </a:solidFill>
                <a:latin typeface="Arial"/>
              </a:rPr>
              <a:t>&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ABCORR     = 'NON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FRAME      = 'J2000'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AXIS       = 'Y'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VECTOR_DEF = 'OBSERVER_TARGET_POSITION'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OBSERVER   = 'MAR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TARGET     = &lt;orbiter_ID/name</a:t>
            </a:r>
            <a:r>
              <a:rPr b="1" lang="en-US" sz="1200" spc="-1" strike="noStrike">
                <a:solidFill>
                  <a:srgbClr val="000000"/>
                </a:solidFill>
                <a:latin typeface="Arial"/>
              </a:rPr>
              <a:t>&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ABCORR     = 'NON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3" name="PlaceHolder 2"/>
          <p:cNvSpPr>
            <a:spLocks noGrp="1"/>
          </p:cNvSpPr>
          <p:nvPr>
            <p:ph type="title"/>
          </p:nvPr>
        </p:nvSpPr>
        <p:spPr>
          <a:xfrm>
            <a:off x="2236320" y="380520"/>
            <a:ext cx="62629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Examples - 4</a:t>
            </a:r>
            <a:endParaRPr b="1" lang="en-US" sz="3200" spc="-1" strike="noStrike">
              <a:solidFill>
                <a:srgbClr val="081d58"/>
              </a:solidFill>
              <a:latin typeface="Arial"/>
            </a:endParaRPr>
          </a:p>
        </p:txBody>
      </p:sp>
      <p:sp>
        <p:nvSpPr>
          <p:cNvPr id="224" name=""/>
          <p:cNvSpPr/>
          <p:nvPr/>
        </p:nvSpPr>
        <p:spPr>
          <a:xfrm>
            <a:off x="5923800" y="3081240"/>
            <a:ext cx="3067200" cy="1571400"/>
          </a:xfrm>
          <a:prstGeom prst="rect">
            <a:avLst/>
          </a:prstGeom>
          <a:solidFill>
            <a:srgbClr val="24cac6"/>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name&gt;       =  user-specifi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ame n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ID&gt;             =  integer frame I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d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orbiter_ID&gt;           =  NAIF ID code of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acecraf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orbiter_ID/name&gt; = NAIF ID code o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ame of spacecraf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AD493217-DE37-4CE4-A4A0-7807B7FFC7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33080" y="380520"/>
            <a:ext cx="62629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Examples - 5</a:t>
            </a:r>
            <a:endParaRPr b="1" lang="en-US" sz="3200" spc="-1" strike="noStrike">
              <a:solidFill>
                <a:srgbClr val="081d58"/>
              </a:solidFill>
              <a:latin typeface="Arial"/>
            </a:endParaRPr>
          </a:p>
        </p:txBody>
      </p:sp>
      <p:sp>
        <p:nvSpPr>
          <p:cNvPr id="226" name=""/>
          <p:cNvSpPr/>
          <p:nvPr/>
        </p:nvSpPr>
        <p:spPr>
          <a:xfrm rot="268800">
            <a:off x="258840" y="3031920"/>
            <a:ext cx="6413400" cy="216216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flipH="1">
            <a:off x="6070680" y="4373640"/>
            <a:ext cx="620640" cy="1434960"/>
          </a:xfrm>
          <a:prstGeom prst="line">
            <a:avLst/>
          </a:prstGeom>
          <a:ln w="5724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863720" y="5524560"/>
            <a:ext cx="432108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Secondary vector:</a:t>
            </a:r>
            <a:r>
              <a:rPr b="1" lang="en-US" sz="1200" spc="-1" strike="noStrike">
                <a:solidFill>
                  <a:srgbClr val="000000"/>
                </a:solidFill>
                <a:latin typeface="Arial"/>
              </a:rPr>
              <a:t>  </a:t>
            </a:r>
            <a:r>
              <a:rPr b="1" lang="en-US" sz="1600" spc="-1" strike="noStrike">
                <a:solidFill>
                  <a:srgbClr val="000000"/>
                </a:solidFill>
                <a:latin typeface="Arial"/>
              </a:rPr>
              <a:t>velocity of sun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ve to earth in J2000 fram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ociated with GSE frame's +Y axis in frame kernel.</a:t>
            </a:r>
            <a:endParaRPr b="0" lang="en-US" sz="1600" spc="-1" strike="noStrike">
              <a:solidFill>
                <a:srgbClr val="000000"/>
              </a:solidFill>
              <a:latin typeface="Times New Roman"/>
            </a:endParaRPr>
          </a:p>
        </p:txBody>
      </p:sp>
      <p:sp>
        <p:nvSpPr>
          <p:cNvPr id="229" name=""/>
          <p:cNvSpPr/>
          <p:nvPr/>
        </p:nvSpPr>
        <p:spPr>
          <a:xfrm flipH="1">
            <a:off x="6496200" y="4411800"/>
            <a:ext cx="195120" cy="714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6691320" y="3298680"/>
            <a:ext cx="0" cy="1074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927520" y="3529080"/>
            <a:ext cx="1190520" cy="1074600"/>
          </a:xfrm>
          <a:prstGeom prst="ellipse">
            <a:avLst/>
          </a:prstGeom>
          <a:solidFill>
            <a:srgbClr val="eed65c"/>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flipH="1" flipV="1">
            <a:off x="3541320" y="4065480"/>
            <a:ext cx="3073320" cy="3477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575400" y="4297320"/>
            <a:ext cx="230040" cy="230400"/>
          </a:xfrm>
          <a:prstGeom prst="ellipse">
            <a:avLst/>
          </a:prstGeom>
          <a:gradFill rotWithShape="0">
            <a:gsLst>
              <a:gs pos="0">
                <a:srgbClr val="021c6a"/>
              </a:gs>
              <a:gs pos="100000">
                <a:srgbClr val="063de8"/>
              </a:gs>
            </a:gsLst>
            <a:lin ang="135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1196640" y="1476360"/>
            <a:ext cx="66409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ocentric Solar Ecliptic Frame (GSE)</a:t>
            </a:r>
            <a:endParaRPr b="0" lang="en-US" sz="2800" spc="-1" strike="noStrike">
              <a:solidFill>
                <a:srgbClr val="000000"/>
              </a:solidFill>
              <a:latin typeface="Times New Roman"/>
            </a:endParaRPr>
          </a:p>
        </p:txBody>
      </p:sp>
      <p:sp>
        <p:nvSpPr>
          <p:cNvPr id="235" name=""/>
          <p:cNvSpPr/>
          <p:nvPr/>
        </p:nvSpPr>
        <p:spPr>
          <a:xfrm flipH="1" flipV="1">
            <a:off x="5467320" y="4284720"/>
            <a:ext cx="1114560" cy="115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411880" y="3855960"/>
            <a:ext cx="322200" cy="559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237" name=""/>
          <p:cNvSpPr/>
          <p:nvPr/>
        </p:nvSpPr>
        <p:spPr>
          <a:xfrm>
            <a:off x="6882120" y="3106800"/>
            <a:ext cx="2024640" cy="7783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600" spc="-1" strike="noStrike">
                <a:solidFill>
                  <a:srgbClr val="000000"/>
                </a:solidFill>
                <a:latin typeface="Arial"/>
              </a:rPr>
              <a:t>  =  </a:t>
            </a:r>
            <a:r>
              <a:rPr b="1" lang="en-US" sz="1800" spc="-1" strike="noStrike">
                <a:solidFill>
                  <a:srgbClr val="000000"/>
                </a:solidFill>
                <a:latin typeface="Arial"/>
              </a:rPr>
              <a:t>X   x   Y,</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ing th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ht-handed frame</a:t>
            </a:r>
            <a:endParaRPr b="0" lang="en-US" sz="1600" spc="-1" strike="noStrike">
              <a:solidFill>
                <a:srgbClr val="000000"/>
              </a:solidFill>
              <a:latin typeface="Times New Roman"/>
            </a:endParaRPr>
          </a:p>
        </p:txBody>
      </p:sp>
      <p:sp>
        <p:nvSpPr>
          <p:cNvPr id="238" name=""/>
          <p:cNvSpPr/>
          <p:nvPr/>
        </p:nvSpPr>
        <p:spPr>
          <a:xfrm>
            <a:off x="6254640" y="5267160"/>
            <a:ext cx="290196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 = normalized component of secondary vector orthogonal to primary vector</a:t>
            </a:r>
            <a:endParaRPr b="0" lang="en-US" sz="1600" spc="-1" strike="noStrike">
              <a:solidFill>
                <a:srgbClr val="000000"/>
              </a:solidFill>
              <a:latin typeface="Times New Roman"/>
            </a:endParaRPr>
          </a:p>
        </p:txBody>
      </p:sp>
      <p:sp>
        <p:nvSpPr>
          <p:cNvPr id="239" name=""/>
          <p:cNvSpPr/>
          <p:nvPr/>
        </p:nvSpPr>
        <p:spPr>
          <a:xfrm>
            <a:off x="1438200" y="2320920"/>
            <a:ext cx="529236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Primary vector:</a:t>
            </a:r>
            <a:r>
              <a:rPr b="1" lang="en-US" sz="1600" spc="-1" strike="noStrike">
                <a:solidFill>
                  <a:srgbClr val="000000"/>
                </a:solidFill>
                <a:latin typeface="Arial"/>
              </a:rPr>
              <a:t> position of sun relative to earth</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ociated with GSE frame's +X axis in frame kernel.</a:t>
            </a:r>
            <a:endParaRPr b="0" lang="en-US" sz="1600" spc="-1" strike="noStrike">
              <a:solidFill>
                <a:srgbClr val="000000"/>
              </a:solidFill>
              <a:latin typeface="Times New Roman"/>
            </a:endParaRPr>
          </a:p>
        </p:txBody>
      </p:sp>
      <p:sp>
        <p:nvSpPr>
          <p:cNvPr id="240" name=""/>
          <p:cNvSpPr/>
          <p:nvPr/>
        </p:nvSpPr>
        <p:spPr>
          <a:xfrm>
            <a:off x="6694560" y="4881600"/>
            <a:ext cx="4809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Dynamic Frames</a:t>
            </a:r>
          </a:p>
        </p:txBody>
      </p:sp>
      <p:sp>
        <p:nvSpPr>
          <p:cNvPr id="4" name="PlaceHolder 3"/>
          <p:cNvSpPr>
            <a:spLocks noGrp="1"/>
          </p:cNvSpPr>
          <p:nvPr>
            <p:ph type="sldNum" idx="2"/>
          </p:nvPr>
        </p:nvSpPr>
        <p:spPr/>
        <p:txBody>
          <a:bodyPr/>
          <a:p>
            <a:fld id="{70EEBDC2-A102-4C43-BD67-C567681C9B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type="title"/>
          </p:nvPr>
        </p:nvSpPr>
        <p:spPr>
          <a:xfrm>
            <a:off x="2243160" y="380520"/>
            <a:ext cx="6262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Examples - 6</a:t>
            </a:r>
            <a:endParaRPr b="1" lang="en-US" sz="3200" spc="-1" strike="noStrike">
              <a:solidFill>
                <a:srgbClr val="081d58"/>
              </a:solidFill>
              <a:latin typeface="Arial"/>
            </a:endParaRPr>
          </a:p>
        </p:txBody>
      </p:sp>
      <p:sp>
        <p:nvSpPr>
          <p:cNvPr id="243" name=""/>
          <p:cNvSpPr/>
          <p:nvPr/>
        </p:nvSpPr>
        <p:spPr>
          <a:xfrm>
            <a:off x="469800" y="1130400"/>
            <a:ext cx="7488360" cy="5365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ocentric Solar Ecliptic (GSE)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X is parallel to the geometric earth-sun position vecto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Y axis is the normalized component of the geometric earth-sun velocity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vector orthogonal to the GSE +X axi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Z axis is parallel to the cross product of the GSE +X axi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nd the GSE +Y axi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GSE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AME           = 'GS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          =  5</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_ID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ENTER         =  399</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ELATIVE       = 'J2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DEF_STYLE      = 'PARAMETERIZ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AMILY         = 'TWO-VECTO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AXIS       = 'X'</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VECTOR_DEF = 'OBSERVER_TARGET_POSITIO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OBSERVER   = 'EARTH'</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TARGET     = 'SU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ABCORR     = 'NON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AXIS       = 'Y'</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VECTOR_DEF = 'OBSERVER_TARGET_VELOCITY'</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OBSERVER   = 'EARTH'</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TARGET     = 'SU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ABCORR     = 'NON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FRAME      = 'J2000'</a:t>
            </a:r>
            <a:endParaRPr b="0" lang="en-US" sz="1200" spc="-1" strike="noStrike">
              <a:solidFill>
                <a:srgbClr val="000000"/>
              </a:solidFill>
              <a:latin typeface="Times New Roman"/>
            </a:endParaRPr>
          </a:p>
        </p:txBody>
      </p:sp>
      <p:sp>
        <p:nvSpPr>
          <p:cNvPr id="244" name=""/>
          <p:cNvSpPr/>
          <p:nvPr/>
        </p:nvSpPr>
        <p:spPr>
          <a:xfrm>
            <a:off x="6335280" y="3489480"/>
            <a:ext cx="2323440" cy="586440"/>
          </a:xfrm>
          <a:prstGeom prst="rect">
            <a:avLst/>
          </a:prstGeom>
          <a:solidFill>
            <a:srgbClr val="24cac6"/>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ID&gt;   =  integer fram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D cod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A0B5FE77-5EDD-4825-A9AE-740424BB18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32000" y="380520"/>
            <a:ext cx="6262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Examples - 7</a:t>
            </a:r>
            <a:endParaRPr b="1" lang="en-US" sz="3200" spc="-1" strike="noStrike">
              <a:solidFill>
                <a:srgbClr val="081d58"/>
              </a:solidFill>
              <a:latin typeface="Arial"/>
            </a:endParaRPr>
          </a:p>
        </p:txBody>
      </p:sp>
      <p:sp>
        <p:nvSpPr>
          <p:cNvPr id="246" name=""/>
          <p:cNvSpPr/>
          <p:nvPr/>
        </p:nvSpPr>
        <p:spPr>
          <a:xfrm>
            <a:off x="201600" y="2511360"/>
            <a:ext cx="6413400" cy="3149640"/>
          </a:xfrm>
          <a:prstGeom prst="ellipse">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flipH="1" flipV="1">
            <a:off x="6038640" y="3395520"/>
            <a:ext cx="500040" cy="920880"/>
          </a:xfrm>
          <a:prstGeom prst="line">
            <a:avLst/>
          </a:prstGeom>
          <a:ln w="5724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922200" y="1852560"/>
            <a:ext cx="4806360" cy="750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Secondary vector:</a:t>
            </a:r>
            <a:r>
              <a:rPr b="1" lang="en-US" sz="1600" spc="-1" strike="noStrike">
                <a:solidFill>
                  <a:srgbClr val="000000"/>
                </a:solidFill>
                <a:latin typeface="Arial"/>
              </a:rPr>
              <a:t>  North geomagnetic centered</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pole in IAU_EARTH frame. Associated with</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SM frame's +Z axis in frame kernel.</a:t>
            </a:r>
            <a:endParaRPr b="0" lang="en-US" sz="1600" spc="-1" strike="noStrike">
              <a:solidFill>
                <a:srgbClr val="000000"/>
              </a:solidFill>
              <a:latin typeface="Times New Roman"/>
            </a:endParaRPr>
          </a:p>
        </p:txBody>
      </p:sp>
      <p:sp>
        <p:nvSpPr>
          <p:cNvPr id="249" name=""/>
          <p:cNvSpPr/>
          <p:nvPr/>
        </p:nvSpPr>
        <p:spPr>
          <a:xfrm>
            <a:off x="6573960" y="4370400"/>
            <a:ext cx="201600" cy="592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103160" y="3214800"/>
            <a:ext cx="1858680" cy="118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Z  = normalized</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 of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ary vector</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thogonal to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mary vector</a:t>
            </a:r>
            <a:endParaRPr b="0" lang="en-US" sz="1600" spc="-1" strike="noStrike">
              <a:solidFill>
                <a:srgbClr val="000000"/>
              </a:solidFill>
              <a:latin typeface="Times New Roman"/>
            </a:endParaRPr>
          </a:p>
        </p:txBody>
      </p:sp>
      <p:sp>
        <p:nvSpPr>
          <p:cNvPr id="251" name=""/>
          <p:cNvSpPr/>
          <p:nvPr/>
        </p:nvSpPr>
        <p:spPr>
          <a:xfrm flipV="1">
            <a:off x="6576840" y="3584160"/>
            <a:ext cx="444600" cy="731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813040" y="3471840"/>
            <a:ext cx="1190520" cy="1074600"/>
          </a:xfrm>
          <a:prstGeom prst="ellipse">
            <a:avLst/>
          </a:prstGeom>
          <a:solidFill>
            <a:srgbClr val="eed65c"/>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flipH="1" flipV="1">
            <a:off x="3427200" y="4010040"/>
            <a:ext cx="3073320" cy="3477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461280" y="4240080"/>
            <a:ext cx="230040" cy="230400"/>
          </a:xfrm>
          <a:prstGeom prst="ellipse">
            <a:avLst/>
          </a:prstGeom>
          <a:gradFill rotWithShape="0">
            <a:gsLst>
              <a:gs pos="0">
                <a:srgbClr val="021c6a"/>
              </a:gs>
              <a:gs pos="100000">
                <a:srgbClr val="063de8"/>
              </a:gs>
            </a:gsLst>
            <a:lin ang="135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511560" y="1338120"/>
            <a:ext cx="81604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ocentric Solar Magnetospheric Frame (GSM)</a:t>
            </a:r>
            <a:endParaRPr b="0" lang="en-US" sz="2800" spc="-1" strike="noStrike">
              <a:solidFill>
                <a:srgbClr val="000000"/>
              </a:solidFill>
              <a:latin typeface="Times New Roman"/>
            </a:endParaRPr>
          </a:p>
        </p:txBody>
      </p:sp>
      <p:sp>
        <p:nvSpPr>
          <p:cNvPr id="256" name=""/>
          <p:cNvSpPr/>
          <p:nvPr/>
        </p:nvSpPr>
        <p:spPr>
          <a:xfrm>
            <a:off x="1092960" y="4551480"/>
            <a:ext cx="532584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Primary vector:</a:t>
            </a:r>
            <a:r>
              <a:rPr b="1" lang="en-US" sz="1600" spc="-1" strike="noStrike">
                <a:solidFill>
                  <a:srgbClr val="000000"/>
                </a:solidFill>
                <a:latin typeface="Arial"/>
              </a:rPr>
              <a:t> position of sun relative to earth</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ociated with GSM frame's +X axis in frame kernel.</a:t>
            </a:r>
            <a:endParaRPr b="0" lang="en-US" sz="1600" spc="-1" strike="noStrike">
              <a:solidFill>
                <a:srgbClr val="000000"/>
              </a:solidFill>
              <a:latin typeface="Times New Roman"/>
            </a:endParaRPr>
          </a:p>
        </p:txBody>
      </p:sp>
      <p:sp>
        <p:nvSpPr>
          <p:cNvPr id="257" name=""/>
          <p:cNvSpPr/>
          <p:nvPr/>
        </p:nvSpPr>
        <p:spPr>
          <a:xfrm>
            <a:off x="6607440" y="5289480"/>
            <a:ext cx="2024640" cy="750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  =  Z   x   X,</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ing th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ht-handed frame</a:t>
            </a:r>
            <a:endParaRPr b="0" lang="en-US" sz="1600" spc="-1" strike="noStrike">
              <a:solidFill>
                <a:srgbClr val="000000"/>
              </a:solidFill>
              <a:latin typeface="Times New Roman"/>
            </a:endParaRPr>
          </a:p>
        </p:txBody>
      </p:sp>
      <p:sp>
        <p:nvSpPr>
          <p:cNvPr id="258" name=""/>
          <p:cNvSpPr/>
          <p:nvPr/>
        </p:nvSpPr>
        <p:spPr>
          <a:xfrm flipH="1" flipV="1">
            <a:off x="5194080" y="4208040"/>
            <a:ext cx="1268280" cy="142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Dynamic Frames</a:t>
            </a:r>
          </a:p>
        </p:txBody>
      </p:sp>
      <p:sp>
        <p:nvSpPr>
          <p:cNvPr id="4" name="PlaceHolder 3"/>
          <p:cNvSpPr>
            <a:spLocks noGrp="1"/>
          </p:cNvSpPr>
          <p:nvPr>
            <p:ph type="sldNum" idx="2"/>
          </p:nvPr>
        </p:nvSpPr>
        <p:spPr/>
        <p:txBody>
          <a:bodyPr/>
          <a:p>
            <a:fld id="{DD7205EE-6D5A-4A49-9B8E-86A26F61AC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728280" y="1279080"/>
            <a:ext cx="8064360" cy="528156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ynamic Reference Frames subsystem is an extension to the SPICE Frames system.</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introduced in the N0058 SPICE Toolkit, released in January 2005.</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dynamic reference frames"?</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reference frames ("dynamic frames" for short) have time-dependent orienta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ames are specified via a frame kernel (FK).  </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K and PCK frames are not considered to be dynamic frames (although they are time-varying).</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ynamic Frames capability enables the SPICE system to conveniently use a wide variety of frames that are not "built in" to SPICE.  Examples include:</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ir-oriented frame for planetary orbiter</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centric Solar Ecliptic (GSE)</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ar Magnetic (SM)</a:t>
            </a:r>
            <a:endParaRPr b="1" lang="en-US" sz="2000" spc="-1" strike="noStrike">
              <a:solidFill>
                <a:srgbClr val="000000"/>
              </a:solidFill>
              <a:latin typeface="Arial"/>
            </a:endParaRPr>
          </a:p>
        </p:txBody>
      </p:sp>
      <p:sp>
        <p:nvSpPr>
          <p:cNvPr id="117" name="PlaceHolder 2"/>
          <p:cNvSpPr>
            <a:spLocks noGrp="1"/>
          </p:cNvSpPr>
          <p:nvPr>
            <p:ph type="title"/>
          </p:nvPr>
        </p:nvSpPr>
        <p:spPr>
          <a:xfrm>
            <a:off x="1966680" y="380520"/>
            <a:ext cx="70484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troduction to Dynamic Frames - 1 </a:t>
            </a:r>
            <a:endParaRPr b="1" lang="en-US" sz="3200" spc="-1" strike="noStrike">
              <a:solidFill>
                <a:srgbClr val="081d58"/>
              </a:solidFill>
              <a:latin typeface="Arial"/>
            </a:endParaRPr>
          </a:p>
        </p:txBody>
      </p:sp>
      <p:sp>
        <p:nvSpPr>
          <p:cNvPr id="118" name=""/>
          <p:cNvSpPr/>
          <p:nvPr/>
        </p:nvSpPr>
        <p:spPr>
          <a:xfrm>
            <a:off x="2491200" y="6477120"/>
            <a:ext cx="19944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inued on next page)</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A5074AE9-D20E-4E46-BA49-6AEC5ABAA3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0" name="PlaceHolder 2"/>
          <p:cNvSpPr>
            <a:spLocks noGrp="1"/>
          </p:cNvSpPr>
          <p:nvPr>
            <p:ph type="title"/>
          </p:nvPr>
        </p:nvSpPr>
        <p:spPr>
          <a:xfrm>
            <a:off x="2243160" y="380520"/>
            <a:ext cx="6262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Examples - 8</a:t>
            </a:r>
            <a:endParaRPr b="1" lang="en-US" sz="3200" spc="-1" strike="noStrike">
              <a:solidFill>
                <a:srgbClr val="081d58"/>
              </a:solidFill>
              <a:latin typeface="Arial"/>
            </a:endParaRPr>
          </a:p>
        </p:txBody>
      </p:sp>
      <p:sp>
        <p:nvSpPr>
          <p:cNvPr id="261" name=""/>
          <p:cNvSpPr/>
          <p:nvPr/>
        </p:nvSpPr>
        <p:spPr>
          <a:xfrm>
            <a:off x="469800" y="1130400"/>
            <a:ext cx="7488360" cy="5529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Geocentric Solar Magnetospheric (GSM)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X is parallel to the geometric earth-sun position vecto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Z axis is normalized component of north centered geomagnetic dipo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vector orthogonal to GSM +X axi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Y completes the right-handed fram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GSM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AME           = 'GSM'</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          =  5</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_ID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ENTER         =  399</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ELATIVE       = 'J2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DEF_STYLE      = 'PARAMETERIZ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AMILY         = 'TWO-VECTO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AXIS       = 'X'</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VECTOR_DEF = 'OBSERVER_TARGET_POSITIO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OBSERVER   = 'EARTH'</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TARGET     = 'SU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ABCORR     = 'NON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AXIS       = 'Z'</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VECTOR_DEF = 'CONSTAN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FRAME      = 'IAU_EARTH'</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SPEC       = 'LATITUDINA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UNITS      = 'DEGREE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LONGITUDE  =  288.43</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LATITUDE   =   79.54</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6335280" y="3489480"/>
            <a:ext cx="2323440" cy="586440"/>
          </a:xfrm>
          <a:prstGeom prst="rect">
            <a:avLst/>
          </a:prstGeom>
          <a:solidFill>
            <a:srgbClr val="24cac6"/>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ID&gt;   =  integer fram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D cod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F668E416-7226-45F0-B9E2-0EC5F4DDD0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32000" y="380520"/>
            <a:ext cx="6262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Examples - 9</a:t>
            </a:r>
            <a:endParaRPr b="1" lang="en-US" sz="3200" spc="-1" strike="noStrike">
              <a:solidFill>
                <a:srgbClr val="081d58"/>
              </a:solidFill>
              <a:latin typeface="Arial"/>
            </a:endParaRPr>
          </a:p>
        </p:txBody>
      </p:sp>
      <p:sp>
        <p:nvSpPr>
          <p:cNvPr id="264" name=""/>
          <p:cNvSpPr/>
          <p:nvPr/>
        </p:nvSpPr>
        <p:spPr>
          <a:xfrm flipH="1" flipV="1">
            <a:off x="5000400" y="3543120"/>
            <a:ext cx="1344600" cy="1842840"/>
          </a:xfrm>
          <a:prstGeom prst="line">
            <a:avLst/>
          </a:prstGeom>
          <a:ln w="5724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135160" y="2247840"/>
            <a:ext cx="657216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Secondary vector:</a:t>
            </a:r>
            <a:r>
              <a:rPr b="1" lang="en-US" sz="1600" spc="-1" strike="noStrike">
                <a:solidFill>
                  <a:srgbClr val="000000"/>
                </a:solidFill>
                <a:latin typeface="Arial"/>
              </a:rPr>
              <a:t> Lock star direction in J2000 frame, corrected for stellar aberration due to spacecraft motion. Associated with Roll-Celestial frame's +X axis in frame kernel.</a:t>
            </a:r>
            <a:endParaRPr b="0" lang="en-US" sz="1600" spc="-1" strike="noStrike">
              <a:solidFill>
                <a:srgbClr val="000000"/>
              </a:solidFill>
              <a:latin typeface="Times New Roman"/>
            </a:endParaRPr>
          </a:p>
        </p:txBody>
      </p:sp>
      <p:sp>
        <p:nvSpPr>
          <p:cNvPr id="266" name=""/>
          <p:cNvSpPr/>
          <p:nvPr/>
        </p:nvSpPr>
        <p:spPr>
          <a:xfrm flipV="1">
            <a:off x="6345360" y="4694400"/>
            <a:ext cx="390240" cy="698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345360" y="5386320"/>
            <a:ext cx="0" cy="1082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14320" y="3619440"/>
            <a:ext cx="1190520" cy="1074960"/>
          </a:xfrm>
          <a:prstGeom prst="ellipse">
            <a:avLst/>
          </a:prstGeom>
          <a:gradFill rotWithShape="0">
            <a:gsLst>
              <a:gs pos="0">
                <a:srgbClr val="242673"/>
              </a:gs>
              <a:gs pos="100000">
                <a:srgbClr val="5054fa"/>
              </a:gs>
            </a:gsLst>
            <a:lin ang="135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flipH="1" flipV="1">
            <a:off x="1390320" y="4195800"/>
            <a:ext cx="4954680" cy="11923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088280" y="1438200"/>
            <a:ext cx="71787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acecraft-Centered Roll-Celestial Frame</a:t>
            </a:r>
            <a:endParaRPr b="0" lang="en-US" sz="2800" spc="-1" strike="noStrike">
              <a:solidFill>
                <a:srgbClr val="000000"/>
              </a:solidFill>
              <a:latin typeface="Times New Roman"/>
            </a:endParaRPr>
          </a:p>
        </p:txBody>
      </p:sp>
      <p:sp>
        <p:nvSpPr>
          <p:cNvPr id="271" name=""/>
          <p:cNvSpPr/>
          <p:nvPr/>
        </p:nvSpPr>
        <p:spPr>
          <a:xfrm>
            <a:off x="4692600" y="3159000"/>
            <a:ext cx="422280" cy="576360"/>
          </a:xfrm>
          <a:custGeom>
            <a:avLst/>
            <a:gdLst>
              <a:gd name="textAreaLeft" fmla="*/ 173880 w 422280"/>
              <a:gd name="textAreaRight" fmla="*/ 248400 w 422280"/>
              <a:gd name="textAreaTop" fmla="*/ 237600 h 576360"/>
              <a:gd name="textAreaBottom" fmla="*/ 338760 h 576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flipH="1" flipV="1">
            <a:off x="5100480" y="5103720"/>
            <a:ext cx="1252800" cy="292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82680" y="5413320"/>
            <a:ext cx="5562000" cy="750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Primary vector:   </a:t>
            </a:r>
            <a:r>
              <a:rPr b="1" lang="en-US" sz="1600" spc="-1" strike="noStrike">
                <a:solidFill>
                  <a:srgbClr val="000000"/>
                </a:solidFill>
                <a:latin typeface="Arial"/>
              </a:rPr>
              <a:t>position of earth relative to spacecraf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ociated with Roll-Celestial frame's +Z axi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frame kernel.</a:t>
            </a:r>
            <a:endParaRPr b="0" lang="en-US" sz="1600" spc="-1" strike="noStrike">
              <a:solidFill>
                <a:srgbClr val="000000"/>
              </a:solidFill>
              <a:latin typeface="Times New Roman"/>
            </a:endParaRPr>
          </a:p>
        </p:txBody>
      </p:sp>
      <p:sp>
        <p:nvSpPr>
          <p:cNvPr id="274" name=""/>
          <p:cNvSpPr/>
          <p:nvPr/>
        </p:nvSpPr>
        <p:spPr>
          <a:xfrm>
            <a:off x="6768360" y="3984480"/>
            <a:ext cx="1858680" cy="118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 normalized</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nent of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ary vector</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thogonal to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mary vector</a:t>
            </a:r>
            <a:endParaRPr b="0" lang="en-US" sz="1600" spc="-1" strike="noStrike">
              <a:solidFill>
                <a:srgbClr val="000000"/>
              </a:solidFill>
              <a:latin typeface="Times New Roman"/>
            </a:endParaRPr>
          </a:p>
        </p:txBody>
      </p:sp>
      <p:sp>
        <p:nvSpPr>
          <p:cNvPr id="275" name=""/>
          <p:cNvSpPr/>
          <p:nvPr/>
        </p:nvSpPr>
        <p:spPr>
          <a:xfrm>
            <a:off x="6405840" y="5783400"/>
            <a:ext cx="2024640" cy="750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  =  Z   x   X,</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ing th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ght-handed fram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Dynamic Frames</a:t>
            </a:r>
          </a:p>
        </p:txBody>
      </p:sp>
      <p:sp>
        <p:nvSpPr>
          <p:cNvPr id="4" name="PlaceHolder 3"/>
          <p:cNvSpPr>
            <a:spLocks noGrp="1"/>
          </p:cNvSpPr>
          <p:nvPr>
            <p:ph type="sldNum" idx="2"/>
          </p:nvPr>
        </p:nvSpPr>
        <p:spPr/>
        <p:txBody>
          <a:bodyPr/>
          <a:p>
            <a:fld id="{B65B26B9-093A-4DE8-A315-25494C3E51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7" name="PlaceHolder 2"/>
          <p:cNvSpPr>
            <a:spLocks noGrp="1"/>
          </p:cNvSpPr>
          <p:nvPr>
            <p:ph type="title"/>
          </p:nvPr>
        </p:nvSpPr>
        <p:spPr>
          <a:xfrm>
            <a:off x="2130480" y="380520"/>
            <a:ext cx="64879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wo-Vector Frame Examples - 10</a:t>
            </a:r>
            <a:endParaRPr b="1" lang="en-US" sz="3200" spc="-1" strike="noStrike">
              <a:solidFill>
                <a:srgbClr val="081d58"/>
              </a:solidFill>
              <a:latin typeface="Arial"/>
            </a:endParaRPr>
          </a:p>
        </p:txBody>
      </p:sp>
      <p:sp>
        <p:nvSpPr>
          <p:cNvPr id="278" name=""/>
          <p:cNvSpPr/>
          <p:nvPr/>
        </p:nvSpPr>
        <p:spPr>
          <a:xfrm>
            <a:off x="469800" y="1116000"/>
            <a:ext cx="8185320" cy="569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pacecraft-centered roll-celestial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Z is parallel to the geometric earth-sun position vecto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X axis is normalized component of star direction orthogonal to Z axis. The star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irection is corrected for stellar aberration due to motion of the spacecraf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Y completes the right-handed fram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name&gt;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AME           =  &lt;frame_name&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          =  5</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_ID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ENTER         =  &lt;spacecraft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ELATIVE       = 'J2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DEF_STYLE      = 'PARAMETERIZ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AMILY         = 'TWO-VECTO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AXIS       = 'Z'</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VECTOR_DEF = 'OBSERVER_TARGET_POSITIO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OBSERVER   = &lt;spacecraft_ID/name&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TARGET     = 'EARTH'</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I_ABCORR     = 'NON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AXIS       = 'X'</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VECTOR_DEF = 'CONSTAN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FRAME      = 'J2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SPEC       = 'RA/DEC'</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UNITS      = 'DEGREE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RA         = &lt;star right ascension in degrees&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DEC        = &lt;star declination in degrees&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OBSERVER   = &lt;spacecraft_ID/name&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SEC_ABCORR     = '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
          <p:cNvSpPr/>
          <p:nvPr/>
        </p:nvSpPr>
        <p:spPr>
          <a:xfrm>
            <a:off x="5719680" y="2587680"/>
            <a:ext cx="3323160" cy="1571400"/>
          </a:xfrm>
          <a:prstGeom prst="rect">
            <a:avLst/>
          </a:prstGeom>
          <a:solidFill>
            <a:srgbClr val="24cac6"/>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name&gt;             =  user-specifi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ame n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ID&gt;                   =  integer frame I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d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spacecraft_ID&gt;           =  NAIF ID code of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acecraf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spacecraft_ID/name&gt; = NAIF ID code or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ame of spacecraf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3D4DF08D-498B-4718-B096-EE1A7C34F2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66560" y="1499760"/>
            <a:ext cx="7934400" cy="4584600"/>
          </a:xfrm>
          <a:prstGeom prst="rect">
            <a:avLst/>
          </a:prstGeom>
          <a:noFill/>
          <a:ln w="0">
            <a:noFill/>
          </a:ln>
        </p:spPr>
        <p:txBody>
          <a:bodyPr lIns="90360" rIns="90360" tIns="44280" bIns="44280" anchor="t">
            <a:normAutofit fontScale="99000"/>
          </a:bodyPr>
          <a:p>
            <a:pPr marL="282960" indent="-2829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date frames are associated with user-specified bodies and are based on user-selected dynamical models. </a:t>
            </a:r>
            <a:endParaRPr b="1" lang="en-US" sz="2800" spc="-1" strike="noStrike">
              <a:solidFill>
                <a:srgbClr val="000000"/>
              </a:solidFill>
              <a:latin typeface="Arial"/>
            </a:endParaRPr>
          </a:p>
          <a:p>
            <a:pPr lvl="1" marL="678600" indent="-226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s of models are built into SPICE.</a:t>
            </a:r>
            <a:endParaRPr b="1" lang="en-US" sz="2400" spc="-1" strike="noStrike">
              <a:solidFill>
                <a:srgbClr val="000000"/>
              </a:solidFill>
              <a:latin typeface="Arial"/>
            </a:endParaRPr>
          </a:p>
          <a:p>
            <a:pPr marL="282960" indent="-2829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urrently supported "of-date" frame families are</a:t>
            </a:r>
            <a:endParaRPr b="1" lang="en-US" sz="28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 Equator and Equinox of Date</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ue Equator and Equinox of Date</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 Ecliptic and Equinox of Date</a:t>
            </a:r>
            <a:endParaRPr b="1" lang="en-US" sz="2000" spc="-1" strike="noStrike">
              <a:solidFill>
                <a:srgbClr val="000000"/>
              </a:solidFill>
              <a:latin typeface="Arial"/>
            </a:endParaRPr>
          </a:p>
          <a:p>
            <a:pPr marL="282960" indent="-2829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arth is the only currently supported body.</a:t>
            </a:r>
            <a:endParaRPr b="1" lang="en-US" sz="2800" spc="-1" strike="noStrike">
              <a:solidFill>
                <a:srgbClr val="000000"/>
              </a:solidFill>
              <a:latin typeface="Arial"/>
            </a:endParaRPr>
          </a:p>
          <a:p>
            <a:pPr marL="28296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1" name="PlaceHolder 2"/>
          <p:cNvSpPr>
            <a:spLocks noGrp="1"/>
          </p:cNvSpPr>
          <p:nvPr>
            <p:ph type="title"/>
          </p:nvPr>
        </p:nvSpPr>
        <p:spPr>
          <a:xfrm>
            <a:off x="3309840" y="380520"/>
            <a:ext cx="4119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f-Date" Frames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5C14AA3F-3595-48C1-8842-084C2F0F91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700200" y="1321920"/>
            <a:ext cx="7989840" cy="510876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urrently supported types of models are</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cess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ta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 obliquity </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f-date frame implementation is intended to be flexible:</a:t>
            </a:r>
            <a:endParaRPr b="1" lang="en-US" sz="2800" spc="-1" strike="noStrike">
              <a:solidFill>
                <a:srgbClr val="000000"/>
              </a:solidFill>
              <a:latin typeface="Arial"/>
            </a:endParaRPr>
          </a:p>
          <a:p>
            <a:pPr lvl="1" marL="685800" indent="-2286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t of supported bodies can grow over time.</a:t>
            </a:r>
            <a:endParaRPr b="1" lang="en-US" sz="2400" spc="-1" strike="noStrike">
              <a:solidFill>
                <a:srgbClr val="000000"/>
              </a:solidFill>
              <a:latin typeface="Arial"/>
            </a:endParaRPr>
          </a:p>
          <a:p>
            <a:pPr lvl="1" marL="685800" indent="-2286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t of supported models can grow over time.</a:t>
            </a:r>
            <a:endParaRPr b="1" lang="en-US" sz="2400" spc="-1" strike="noStrike">
              <a:solidFill>
                <a:srgbClr val="000000"/>
              </a:solidFill>
              <a:latin typeface="Arial"/>
            </a:endParaRPr>
          </a:p>
          <a:p>
            <a:pPr lvl="2" marL="1143000" indent="-228600">
              <a:lnSpc>
                <a:spcPct val="8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CE is not forever locked into using a single hard-coded implementation, such as the 1976 IAU precession model</a:t>
            </a:r>
            <a:endParaRPr b="1" lang="en-US" sz="2400" spc="-1" strike="noStrike">
              <a:solidFill>
                <a:srgbClr val="000000"/>
              </a:solidFill>
              <a:latin typeface="Arial"/>
            </a:endParaRPr>
          </a:p>
          <a:p>
            <a:pPr lvl="1" marL="685800" indent="-2286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t of supported frame families can grow, if necessary.</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3" name="PlaceHolder 2"/>
          <p:cNvSpPr>
            <a:spLocks noGrp="1"/>
          </p:cNvSpPr>
          <p:nvPr>
            <p:ph type="title"/>
          </p:nvPr>
        </p:nvSpPr>
        <p:spPr>
          <a:xfrm>
            <a:off x="3309840" y="380520"/>
            <a:ext cx="4119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f-Date" Frames -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BB3E4FDC-8242-4BEB-8142-C3A7B6231B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692280" y="1321920"/>
            <a:ext cx="7772400" cy="52246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 Equator and Equinox of Date Family</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ll reference frames in this family:</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rame's relationship to the J2000 frame is given by a precession mod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rame kernel creator selects a precession model from those built into the SPICE software.</a:t>
            </a:r>
            <a:endParaRPr b="1" lang="en-US" sz="2400" spc="-1" strike="noStrike">
              <a:solidFill>
                <a:srgbClr val="000000"/>
              </a:solidFill>
              <a:latin typeface="Arial"/>
            </a:endParaRPr>
          </a:p>
          <a:p>
            <a:pPr lvl="3" marL="1542960" indent="-17136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ly supported only for the earth</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76 IAU precession model (aka Lieske model)</a:t>
            </a:r>
            <a:endParaRPr b="1" lang="en-US" sz="20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rame kernel creator must either specify the frame's rotation state or must designate the frame "frozen" at a specified "freeze epoch."</a:t>
            </a:r>
            <a:endParaRPr b="1" lang="en-US" sz="2400" spc="-1" strike="noStrike">
              <a:solidFill>
                <a:srgbClr val="000000"/>
              </a:solidFill>
              <a:latin typeface="Arial"/>
            </a:endParaRPr>
          </a:p>
          <a:p>
            <a:pPr lvl="3" marL="154296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2"/>
          <p:cNvSpPr>
            <a:spLocks noGrp="1"/>
          </p:cNvSpPr>
          <p:nvPr>
            <p:ph type="title"/>
          </p:nvPr>
        </p:nvSpPr>
        <p:spPr>
          <a:xfrm>
            <a:off x="3309840" y="380520"/>
            <a:ext cx="4119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f-Date" Frames - 3</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165AE0ED-548D-4CCD-B62E-08017BA7E63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7" name="PlaceHolder 2"/>
          <p:cNvSpPr>
            <a:spLocks noGrp="1"/>
          </p:cNvSpPr>
          <p:nvPr>
            <p:ph type="title"/>
          </p:nvPr>
        </p:nvSpPr>
        <p:spPr>
          <a:xfrm>
            <a:off x="3300120" y="380520"/>
            <a:ext cx="41194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f-Date" Frames - 4</a:t>
            </a:r>
            <a:endParaRPr b="1" lang="en-US" sz="3200" spc="-1" strike="noStrike">
              <a:solidFill>
                <a:srgbClr val="081d58"/>
              </a:solidFill>
              <a:latin typeface="Arial"/>
            </a:endParaRPr>
          </a:p>
        </p:txBody>
      </p:sp>
      <p:sp>
        <p:nvSpPr>
          <p:cNvPr id="288" name=""/>
          <p:cNvSpPr/>
          <p:nvPr/>
        </p:nvSpPr>
        <p:spPr>
          <a:xfrm>
            <a:off x="430200" y="1773360"/>
            <a:ext cx="7758000" cy="370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Earth mean equator and equinox of date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Z axis is perpendicular to mean equator of date and points north.</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X axis is parallel to the cross product of the +Z axis an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he north-pointing vector normal to the mean ecliptic of 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Y axis completes the right-handed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name&gt;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AME              =  &lt;frame_name&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             =  5</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_ID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ENTER            =  399</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ELATIVE          = 'J2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DEF_STYLE         = 'PARAMETERIZ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AMILY            = 'MEAN_EQUATOR_AND_EQUINOX_OF_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EC_MODEL        = 'EARTH_IAU_197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OTATION_STATE    = 'ROTAT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
          <p:cNvSpPr/>
          <p:nvPr/>
        </p:nvSpPr>
        <p:spPr>
          <a:xfrm>
            <a:off x="5956200" y="3429000"/>
            <a:ext cx="2902680" cy="750600"/>
          </a:xfrm>
          <a:prstGeom prst="rect">
            <a:avLst/>
          </a:prstGeom>
          <a:solidFill>
            <a:srgbClr val="24cac6"/>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name&gt;       =  user-specifi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ame n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ID&gt;             =  integer frame I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de</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F0A5AC59-302D-4547-BE1F-64A5E34BD50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692280" y="1321920"/>
            <a:ext cx="7772400" cy="52246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 Equator and Equinox of Date Family</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ll reference frames in this family:</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rame's relationship to the J2000 frame is given by a precession model and a nutation mod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rame kernel creator selects models from those built into the SPICE software.</a:t>
            </a:r>
            <a:endParaRPr b="1" lang="en-US" sz="2400" spc="-1" strike="noStrike">
              <a:solidFill>
                <a:srgbClr val="000000"/>
              </a:solidFill>
              <a:latin typeface="Arial"/>
            </a:endParaRPr>
          </a:p>
          <a:p>
            <a:pPr lvl="3" marL="1542960" indent="-1713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ly supported only for the earth</a:t>
            </a:r>
            <a:endParaRPr b="1" lang="en-US" sz="1800" spc="-1" strike="noStrike">
              <a:solidFill>
                <a:srgbClr val="000000"/>
              </a:solidFill>
              <a:latin typeface="Arial"/>
            </a:endParaRPr>
          </a:p>
          <a:p>
            <a:pPr lvl="3" marL="1542960" indent="-1713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76 IAU precession model (aka Lieske model)</a:t>
            </a:r>
            <a:endParaRPr b="1" lang="en-US" sz="1800" spc="-1" strike="noStrike">
              <a:solidFill>
                <a:srgbClr val="000000"/>
              </a:solidFill>
              <a:latin typeface="Arial"/>
            </a:endParaRPr>
          </a:p>
          <a:p>
            <a:pPr lvl="3" marL="1542960" indent="-1713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0 IAU nutation model</a:t>
            </a:r>
            <a:endParaRPr b="1" lang="en-US" sz="18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rame kernel creator must either specify the frame's rotation state or must designate the frame "frozen" at a specified "freeze epoch."</a:t>
            </a:r>
            <a:endParaRPr b="1" lang="en-US" sz="2400" spc="-1" strike="noStrike">
              <a:solidFill>
                <a:srgbClr val="000000"/>
              </a:solidFill>
              <a:latin typeface="Arial"/>
            </a:endParaRPr>
          </a:p>
        </p:txBody>
      </p:sp>
      <p:sp>
        <p:nvSpPr>
          <p:cNvPr id="291" name="PlaceHolder 2"/>
          <p:cNvSpPr>
            <a:spLocks noGrp="1"/>
          </p:cNvSpPr>
          <p:nvPr>
            <p:ph type="title"/>
          </p:nvPr>
        </p:nvSpPr>
        <p:spPr>
          <a:xfrm>
            <a:off x="3309840" y="380520"/>
            <a:ext cx="4119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f-Date" Frames - 5</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BFE48864-22CB-48A6-89E2-BF551E848C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3" name="PlaceHolder 2"/>
          <p:cNvSpPr>
            <a:spLocks noGrp="1"/>
          </p:cNvSpPr>
          <p:nvPr>
            <p:ph type="title"/>
          </p:nvPr>
        </p:nvSpPr>
        <p:spPr>
          <a:xfrm>
            <a:off x="3312720" y="380520"/>
            <a:ext cx="4095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a:t>
            </a:r>
            <a:r>
              <a:rPr b="1" lang="en-US" sz="3200" spc="-1" strike="noStrike">
                <a:solidFill>
                  <a:srgbClr val="081d58"/>
                </a:solidFill>
                <a:latin typeface="Arial"/>
              </a:rPr>
              <a:t>Of-Date" Frames - 6</a:t>
            </a:r>
            <a:endParaRPr b="1" lang="en-US" sz="3200" spc="-1" strike="noStrike">
              <a:solidFill>
                <a:srgbClr val="081d58"/>
              </a:solidFill>
              <a:latin typeface="Arial"/>
            </a:endParaRPr>
          </a:p>
        </p:txBody>
      </p:sp>
      <p:sp>
        <p:nvSpPr>
          <p:cNvPr id="294" name=""/>
          <p:cNvSpPr/>
          <p:nvPr/>
        </p:nvSpPr>
        <p:spPr>
          <a:xfrm>
            <a:off x="430200" y="1773360"/>
            <a:ext cx="7758000" cy="3869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Earth true equator and equinox of date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Z axis is perpendicular to true equator of date and points north.</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X axis is parallel to the cross product of the +Z axis an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he north-pointing vector normal to mean ecliptic of 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Y axis completes the right-handed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name&gt;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AME              =  &lt;frame_name&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             =  5</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_ID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ENTER            =  399</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ELATIVE          = 'J2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DEF_STYLE         = 'PARAMETERIZ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AMILY            = 'TRUE_EQUATOR_AND_EQUINOX_OF_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EC_MODEL        = 'EARTH_IAU_197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UT_MODEL         = 'EARTH_IAU_198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OTATION_STATE    = 'ROTAT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
          <p:cNvSpPr/>
          <p:nvPr/>
        </p:nvSpPr>
        <p:spPr>
          <a:xfrm>
            <a:off x="5956200" y="3429000"/>
            <a:ext cx="2902680" cy="750600"/>
          </a:xfrm>
          <a:prstGeom prst="rect">
            <a:avLst/>
          </a:prstGeom>
          <a:solidFill>
            <a:srgbClr val="24cac6"/>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name&gt;       =  user-specifi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ame n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ID&gt;             =  integer frame I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de</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D33D5EB8-7818-4425-9C06-DC95996682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692280" y="1321920"/>
            <a:ext cx="7772400" cy="522468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 Ecliptic and Equinox of Date Family</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ll reference frames in this family:</a:t>
            </a:r>
            <a:r>
              <a:rPr b="1" lang="en-US" sz="2000" spc="-1" strike="noStrike">
                <a:solidFill>
                  <a:srgbClr val="000000"/>
                </a:solidFill>
                <a:latin typeface="Arial"/>
              </a:rPr>
              <a:t> </a:t>
            </a:r>
            <a:endParaRPr b="1" lang="en-US" sz="2000" spc="-1" strike="noStrike">
              <a:solidFill>
                <a:srgbClr val="000000"/>
              </a:solidFill>
              <a:latin typeface="Arial"/>
            </a:endParaRPr>
          </a:p>
          <a:p>
            <a:pPr lvl="2" marL="1143000" indent="-228600">
              <a:lnSpc>
                <a:spcPct val="8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rame's relationship to the J2000 frame is given by a precession model and an obliquity model.</a:t>
            </a:r>
            <a:endParaRPr b="1" lang="en-US" sz="2400" spc="-1" strike="noStrike">
              <a:solidFill>
                <a:srgbClr val="000000"/>
              </a:solidFill>
              <a:latin typeface="Arial"/>
            </a:endParaRPr>
          </a:p>
          <a:p>
            <a:pPr lvl="2" marL="1143000" indent="-228600">
              <a:lnSpc>
                <a:spcPct val="8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rame kernel creator selects models from those built into the SPICE software.</a:t>
            </a:r>
            <a:endParaRPr b="1" lang="en-US" sz="2400" spc="-1" strike="noStrike">
              <a:solidFill>
                <a:srgbClr val="000000"/>
              </a:solidFill>
              <a:latin typeface="Arial"/>
            </a:endParaRPr>
          </a:p>
          <a:p>
            <a:pPr lvl="2" marL="1143000" indent="-228600">
              <a:lnSpc>
                <a:spcPct val="8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ly supported only for the earth</a:t>
            </a:r>
            <a:endParaRPr b="1" lang="en-US" sz="2400" spc="-1" strike="noStrike">
              <a:solidFill>
                <a:srgbClr val="000000"/>
              </a:solidFill>
              <a:latin typeface="Arial"/>
            </a:endParaRPr>
          </a:p>
          <a:p>
            <a:pPr lvl="3" marL="1542960" indent="-17136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76 IAU precession model (aka Lieske model)</a:t>
            </a:r>
            <a:endParaRPr b="1" lang="en-US" sz="1800" spc="-1" strike="noStrike">
              <a:solidFill>
                <a:srgbClr val="000000"/>
              </a:solidFill>
              <a:latin typeface="Arial"/>
            </a:endParaRPr>
          </a:p>
          <a:p>
            <a:pPr lvl="3" marL="1542960" indent="-17136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0 IAU mean obliquity model</a:t>
            </a:r>
            <a:endParaRPr b="1" lang="en-US" sz="1800" spc="-1" strike="noStrike">
              <a:solidFill>
                <a:srgbClr val="000000"/>
              </a:solidFill>
              <a:latin typeface="Arial"/>
            </a:endParaRPr>
          </a:p>
          <a:p>
            <a:pPr lvl="2" marL="1143000" indent="-228600">
              <a:lnSpc>
                <a:spcPct val="8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rame kernel creator must either specify the frame's rotation state or must designate the frame "frozen" at a specified "freeze epoch."</a:t>
            </a:r>
            <a:endParaRPr b="1" lang="en-US" sz="2400" spc="-1" strike="noStrike">
              <a:solidFill>
                <a:srgbClr val="000000"/>
              </a:solidFill>
              <a:latin typeface="Arial"/>
            </a:endParaRPr>
          </a:p>
          <a:p>
            <a:pPr lvl="3" marL="1542960" indent="0">
              <a:lnSpc>
                <a:spcPct val="8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lnSpc>
                <a:spcPct val="8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PlaceHolder 2"/>
          <p:cNvSpPr>
            <a:spLocks noGrp="1"/>
          </p:cNvSpPr>
          <p:nvPr>
            <p:ph type="title"/>
          </p:nvPr>
        </p:nvSpPr>
        <p:spPr>
          <a:xfrm>
            <a:off x="3309840" y="380520"/>
            <a:ext cx="4119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f-Date" Frames - 7</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01229B68-244A-4746-9362-2531B40AD1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728280" y="1279440"/>
            <a:ext cx="8064360" cy="526752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craft-centered roll-celestial frame</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centric Solar Magnetospheric (GSM)</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magnetic (MAG)</a:t>
            </a:r>
            <a:endParaRPr b="1" lang="en-US" sz="20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constant north centered geomagnetic dipol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dipole direction defined by time-dependent Euler angles</a:t>
            </a:r>
            <a:endParaRPr b="1" lang="en-US" sz="1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centric Solar Equatorial (GSEQ)</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ar Equatorial frame for any ephemeris objec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bital frame for any ephemeris objec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th mean equator and equinox of date</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th true equator and equinox of date</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th mean ecliptic and equinox of date</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TN ("radial, tangential, normal") frame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many more…</a:t>
            </a:r>
            <a:endParaRPr b="1" lang="en-US" sz="2000" spc="-1" strike="noStrike">
              <a:solidFill>
                <a:srgbClr val="000000"/>
              </a:solidFill>
              <a:latin typeface="Arial"/>
            </a:endParaRPr>
          </a:p>
        </p:txBody>
      </p:sp>
      <p:sp>
        <p:nvSpPr>
          <p:cNvPr id="120" name="PlaceHolder 2"/>
          <p:cNvSpPr>
            <a:spLocks noGrp="1"/>
          </p:cNvSpPr>
          <p:nvPr>
            <p:ph type="title"/>
          </p:nvPr>
        </p:nvSpPr>
        <p:spPr>
          <a:xfrm>
            <a:off x="1966680" y="380520"/>
            <a:ext cx="70484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troduction to Dynamic Frames - 2 </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267CB24A-BB8A-4EB1-B3D9-6BD4E4E217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9" name="PlaceHolder 2"/>
          <p:cNvSpPr>
            <a:spLocks noGrp="1"/>
          </p:cNvSpPr>
          <p:nvPr>
            <p:ph type="title"/>
          </p:nvPr>
        </p:nvSpPr>
        <p:spPr>
          <a:xfrm>
            <a:off x="3312720" y="380520"/>
            <a:ext cx="4095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a:t>
            </a:r>
            <a:r>
              <a:rPr b="1" lang="en-US" sz="3200" spc="-1" strike="noStrike">
                <a:solidFill>
                  <a:srgbClr val="081d58"/>
                </a:solidFill>
                <a:latin typeface="Arial"/>
              </a:rPr>
              <a:t>Of-Date" Frames - 8</a:t>
            </a:r>
            <a:endParaRPr b="1" lang="en-US" sz="3200" spc="-1" strike="noStrike">
              <a:solidFill>
                <a:srgbClr val="081d58"/>
              </a:solidFill>
              <a:latin typeface="Arial"/>
            </a:endParaRPr>
          </a:p>
        </p:txBody>
      </p:sp>
      <p:sp>
        <p:nvSpPr>
          <p:cNvPr id="300" name=""/>
          <p:cNvSpPr/>
          <p:nvPr/>
        </p:nvSpPr>
        <p:spPr>
          <a:xfrm>
            <a:off x="430200" y="1773360"/>
            <a:ext cx="7758000" cy="4033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Earth mean ecliptic and equinox of date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Z axis is perpendicular to mean ecliptic of date and points towar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ecliptic north.</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X axis is parallel to the cross product of +Z axis an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he north-pointing vector normal to mean ecliptic of 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Y axis completes the right-handed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name&gt;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AME              =  &lt;frame_name&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             =  5</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_ID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ENTER            =  399</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ELATIVE          = 'J2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DEF_STYLE         = 'PARAMETERIZ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AMILY            = 'MEAN_ECLIPTIC_AND_EQUINOX_OF_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EC_MODEL        = 'EARTH_IAU_197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OBLIQ_MODEL       = 'EARTH_IAU_198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OTATION_STATE    = 'ROTAT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
          <p:cNvSpPr/>
          <p:nvPr/>
        </p:nvSpPr>
        <p:spPr>
          <a:xfrm>
            <a:off x="5956200" y="3429000"/>
            <a:ext cx="2902680" cy="750600"/>
          </a:xfrm>
          <a:prstGeom prst="rect">
            <a:avLst/>
          </a:prstGeom>
          <a:solidFill>
            <a:srgbClr val="24cac6"/>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name&gt;       =  user-specifi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ame n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ID&gt;             =  integer frame I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de</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93AE09FC-1BD9-4054-B395-DE160F5FB9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555120" y="1214280"/>
            <a:ext cx="8178840" cy="562608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uler frames are defined by a time-dependent rotation relative to a base frame.</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otation from an Euler frame to its base frame is given by three Euler angle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ngle is given by a separate polynomial.</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olynomials may have different degrees.</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dependent variable is a time offset, in TDB seconds, from an epoch specified by the frame kernel creator.</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nits associated with the angles are specified by the frame kernel creator.  Angles are converted to radians internally by SPICE.</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equence of rotation axes is specified by the frame kernel creator.</a:t>
            </a:r>
            <a:endParaRPr b="1" lang="en-US" sz="2000" spc="-1" strike="noStrike">
              <a:solidFill>
                <a:srgbClr val="000000"/>
              </a:solidFill>
              <a:latin typeface="Arial"/>
            </a:endParaRPr>
          </a:p>
          <a:p>
            <a:pPr lvl="3" marL="1542960" indent="-17136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entral axis must differ from the other two.</a:t>
            </a:r>
            <a:endParaRPr b="1" lang="en-US" sz="1800" spc="-1" strike="noStrike">
              <a:solidFill>
                <a:srgbClr val="000000"/>
              </a:solidFill>
              <a:latin typeface="Arial"/>
            </a:endParaRPr>
          </a:p>
          <a:p>
            <a:pPr lvl="3" marL="1542960" indent="-17136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otation from the Euler frame to the base frame is</a:t>
            </a:r>
            <a:endParaRPr b="1" lang="en-US" sz="1800" spc="-1" strike="noStrike">
              <a:solidFill>
                <a:srgbClr val="000000"/>
              </a:solidFill>
              <a:latin typeface="Arial"/>
            </a:endParaRPr>
          </a:p>
          <a:p>
            <a:pPr lvl="3" marL="15429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gle_1]</a:t>
            </a:r>
            <a:r>
              <a:rPr b="1" lang="en-US" sz="1800" spc="-1" strike="noStrike" baseline="-25000">
                <a:solidFill>
                  <a:srgbClr val="000000"/>
                </a:solidFill>
                <a:latin typeface="Arial"/>
              </a:rPr>
              <a:t>axis_1</a:t>
            </a:r>
            <a:r>
              <a:rPr b="1" lang="en-US" sz="1800" spc="-1" strike="noStrike">
                <a:solidFill>
                  <a:srgbClr val="000000"/>
                </a:solidFill>
                <a:latin typeface="Arial"/>
              </a:rPr>
              <a:t> [angle_2]</a:t>
            </a:r>
            <a:r>
              <a:rPr b="1" lang="en-US" sz="1800" spc="-1" strike="noStrike" baseline="-25000">
                <a:solidFill>
                  <a:srgbClr val="000000"/>
                </a:solidFill>
                <a:latin typeface="Arial"/>
              </a:rPr>
              <a:t>axis_2</a:t>
            </a:r>
            <a:r>
              <a:rPr b="1" lang="en-US" sz="1800" spc="-1" strike="noStrike">
                <a:solidFill>
                  <a:srgbClr val="000000"/>
                </a:solidFill>
                <a:latin typeface="Arial"/>
              </a:rPr>
              <a:t> [angle_3]</a:t>
            </a:r>
            <a:r>
              <a:rPr b="1" lang="en-US" sz="1800" spc="-1" strike="noStrike" baseline="-25000">
                <a:solidFill>
                  <a:srgbClr val="000000"/>
                </a:solidFill>
                <a:latin typeface="Arial"/>
              </a:rPr>
              <a:t>axis_3</a:t>
            </a:r>
            <a:r>
              <a:rPr b="1" lang="en-US" sz="1800" spc="-1" strike="noStrike">
                <a:solidFill>
                  <a:srgbClr val="000000"/>
                </a:solidFill>
                <a:latin typeface="Arial"/>
              </a:rPr>
              <a:t>   (</a:t>
            </a:r>
            <a:r>
              <a:rPr b="1" lang="en-US" sz="1600" spc="-1" strike="noStrike">
                <a:solidFill>
                  <a:srgbClr val="000000"/>
                </a:solidFill>
                <a:latin typeface="Arial"/>
              </a:rPr>
              <a:t>units are radians)</a:t>
            </a:r>
            <a:endParaRPr b="1" lang="en-US" sz="16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3" name="PlaceHolder 2"/>
          <p:cNvSpPr>
            <a:spLocks noGrp="1"/>
          </p:cNvSpPr>
          <p:nvPr>
            <p:ph type="title"/>
          </p:nvPr>
        </p:nvSpPr>
        <p:spPr>
          <a:xfrm>
            <a:off x="3728520" y="380520"/>
            <a:ext cx="32864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uler Frames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D90A8851-6E65-4634-9494-72B34E64E7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507600" y="1322280"/>
            <a:ext cx="8294760" cy="53006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applications:</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version of earth magnetospheric frame (MAG)</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titude and longitude of the north centered geomagnetic dipole are given by polynomial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nning spacecraft frame</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ase frame could be a:</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ilt-in inertial frame</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kernel frame</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l-celestial frame (using lock star)</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ir frame</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ocentric frames for tracking stations for which plate motion is modeled</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rame rotation keeps the frame orientation consistent with the changing station location.</a:t>
            </a:r>
            <a:endParaRPr b="1" lang="en-US" sz="2000" spc="-1" strike="noStrike">
              <a:solidFill>
                <a:srgbClr val="000000"/>
              </a:solidFill>
              <a:latin typeface="Arial"/>
            </a:endParaRPr>
          </a:p>
        </p:txBody>
      </p:sp>
      <p:sp>
        <p:nvSpPr>
          <p:cNvPr id="305" name="PlaceHolder 2"/>
          <p:cNvSpPr>
            <a:spLocks noGrp="1"/>
          </p:cNvSpPr>
          <p:nvPr>
            <p:ph type="title"/>
          </p:nvPr>
        </p:nvSpPr>
        <p:spPr>
          <a:xfrm>
            <a:off x="3728520" y="380520"/>
            <a:ext cx="32864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uler Frames -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80252B29-F037-4816-9618-2321C1F934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700200" y="1321920"/>
            <a:ext cx="7772400" cy="504036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 or true body equator and earth equinox of date frame, where the body is a planet or satellite other than the earth</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ase frame is an IAU_&lt;body&gt; frame.</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uler frame "removes" the body's rotation about the spin axi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ation on supported "of date" frame</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isting supported "of date" frame is used as the base frame.</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turbations to the "of date" frame are expressed using Euler angles.</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7" name="PlaceHolder 2"/>
          <p:cNvSpPr>
            <a:spLocks noGrp="1"/>
          </p:cNvSpPr>
          <p:nvPr>
            <p:ph type="title"/>
          </p:nvPr>
        </p:nvSpPr>
        <p:spPr>
          <a:xfrm>
            <a:off x="3728520" y="380520"/>
            <a:ext cx="32864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uler Frames - 3</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5215DDB6-B3AB-401E-BFAD-E53B4D1BCB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9" name="PlaceHolder 2"/>
          <p:cNvSpPr>
            <a:spLocks noGrp="1"/>
          </p:cNvSpPr>
          <p:nvPr>
            <p:ph type="title"/>
          </p:nvPr>
        </p:nvSpPr>
        <p:spPr>
          <a:xfrm>
            <a:off x="3738600" y="380520"/>
            <a:ext cx="32860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uler Frames - 4</a:t>
            </a:r>
            <a:endParaRPr b="1" lang="en-US" sz="3200" spc="-1" strike="noStrike">
              <a:solidFill>
                <a:srgbClr val="081d58"/>
              </a:solidFill>
              <a:latin typeface="Arial"/>
            </a:endParaRPr>
          </a:p>
        </p:txBody>
      </p:sp>
      <p:sp>
        <p:nvSpPr>
          <p:cNvPr id="310" name=""/>
          <p:cNvSpPr/>
          <p:nvPr/>
        </p:nvSpPr>
        <p:spPr>
          <a:xfrm>
            <a:off x="430200" y="1293840"/>
            <a:ext cx="7758000" cy="5182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s an example, we construct an Euler frame called IAU_MARS_EULER. Fram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IAU_MARS_EULER is mathematically identical to the PCK frame named IAU_MAR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he PCK data defining the underlying IAU_MARS frame ar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BODY499_POLE_RA  = ( 317.68143  -0.1061 0.     )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BODY499_POLE_DEC = (  52.88650  -0.0609 0.     )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BODY499_PM       = ( 176.630   350.89198226 0. )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Relative to the angles used to define the IAU_MARS frame, the angles for our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Euler frame definition are reversed and the signs negated. Angular units are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degrees. Rate units are degrees/second, unlike the PCK units of degrees/day.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ngle_3 is  90 + RA                      angle_1 is -90 - R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CK:  angle_2 is  90 - Dec       Euler Frame:  angle_2 is -90 + Dec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ngle_1 is       PM                      angle_3 is     - PM</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IAU_MARS_EULER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AME           = 'IAU_MARS_EULER'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          = 5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_ID       = &lt;frame_ID&g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ENTER         = 499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ELATIVE       = 'J2000'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DEF_STYLE      = 'PARAMETERIZED'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AMILY         = 'EULER'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EPOCH          = @2000-JAN-1/12:00:00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AXES           = ( 3 1 3 )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UNITS          = 'DEGREES'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ANGLE_1_COEFFS = ( -47.68143 0.33621061170684714E-10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ANGLE_2_COEFFS = ( -37.1135 -0.19298045478743630E-10 )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ANGLE_3_COEFFS = ( -176.630 -0.40612497946759260E-02 ) </a:t>
            </a:r>
            <a:endParaRPr b="0" lang="en-US" sz="1200" spc="-1" strike="noStrike">
              <a:solidFill>
                <a:srgbClr val="000000"/>
              </a:solidFill>
              <a:latin typeface="Times New Roman"/>
            </a:endParaRPr>
          </a:p>
        </p:txBody>
      </p:sp>
      <p:sp>
        <p:nvSpPr>
          <p:cNvPr id="311" name=""/>
          <p:cNvSpPr/>
          <p:nvPr/>
        </p:nvSpPr>
        <p:spPr>
          <a:xfrm>
            <a:off x="5999040" y="4435560"/>
            <a:ext cx="2902680" cy="422280"/>
          </a:xfrm>
          <a:prstGeom prst="rect">
            <a:avLst/>
          </a:prstGeom>
          <a:solidFill>
            <a:srgbClr val="24cac6"/>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ID&gt;             =  integer frame I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de</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BAC2A1A0-2A4D-4382-A2A9-7E05E73EA9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569880" y="1368000"/>
            <a:ext cx="8059680" cy="51404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frozen dynamic frame is a "Snapshot" of a dynamic frame at a specified epoch.</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rame is frozen relative to the base frame specified by the frame kernel creator in the frame kernel definition.</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otation from the frozen frame to the base frame is constan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otation is not frozen with respect to inertial frames unless the base frame is inertial.</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frame is designated frozen by the presence of a "freeze epoch" specification in the frame definition, for example:</a:t>
            </a:r>
            <a:endParaRPr b="1" lang="en-US" sz="2000" spc="-1" strike="noStrike">
              <a:solidFill>
                <a:srgbClr val="000000"/>
              </a:solidFill>
              <a:latin typeface="Arial"/>
            </a:endParaRPr>
          </a:p>
          <a:p>
            <a:pPr lvl="1" marL="685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RAME_&lt;FRAME_ID&gt;_FREEZE_EPOCH = @1949-DEC-31/22:09:46.861901</a:t>
            </a:r>
            <a:endParaRPr b="1" lang="en-US" sz="1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reeze epoch is given in SPICE text kernel format, as is used in a leapseconds kernel.</a:t>
            </a:r>
            <a:endParaRPr b="1" lang="en-US" sz="2000" spc="-1" strike="noStrike">
              <a:solidFill>
                <a:srgbClr val="000000"/>
              </a:solidFill>
              <a:latin typeface="Arial"/>
            </a:endParaRPr>
          </a:p>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3" name="PlaceHolder 2"/>
          <p:cNvSpPr>
            <a:spLocks noGrp="1"/>
          </p:cNvSpPr>
          <p:nvPr>
            <p:ph type="title"/>
          </p:nvPr>
        </p:nvSpPr>
        <p:spPr>
          <a:xfrm>
            <a:off x="2663640" y="380520"/>
            <a:ext cx="5405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ozen Dynamic Frames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8FBCA107-1147-42C8-B131-0F336B337EF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5" name="PlaceHolder 2"/>
          <p:cNvSpPr>
            <a:spLocks noGrp="1"/>
          </p:cNvSpPr>
          <p:nvPr>
            <p:ph type="title"/>
          </p:nvPr>
        </p:nvSpPr>
        <p:spPr>
          <a:xfrm>
            <a:off x="2676240" y="380520"/>
            <a:ext cx="5405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ozen Dynamic Frames - 2</a:t>
            </a:r>
            <a:endParaRPr b="1" lang="en-US" sz="3200" spc="-1" strike="noStrike">
              <a:solidFill>
                <a:srgbClr val="081d58"/>
              </a:solidFill>
              <a:latin typeface="Arial"/>
            </a:endParaRPr>
          </a:p>
        </p:txBody>
      </p:sp>
      <p:sp>
        <p:nvSpPr>
          <p:cNvPr id="316" name=""/>
          <p:cNvSpPr/>
          <p:nvPr/>
        </p:nvSpPr>
        <p:spPr>
          <a:xfrm>
            <a:off x="430200" y="1773360"/>
            <a:ext cx="7758000" cy="370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ozen version of Earth mean equator and equinox of date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Z axis is perpendicular to mean equator of 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X axis is parallel to cross product of +Z axis an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vector normal to mean ecliptic of 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Y axis completes the right-handed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name&gt;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AME              =  &lt;frame_name&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             =  5</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_ID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ENTER            =  399</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ELATIVE          = 'J2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DEF_STYLE         = 'PARAMETERIZ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AMILY            = 'MEAN_EQUATOR_AND_EQUINOX_OF_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EC_MODEL        = 'EARTH_IAU_197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REEZE_EPOCH      = @1949-DEC-31/22:09:46.861901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
          <p:cNvSpPr/>
          <p:nvPr/>
        </p:nvSpPr>
        <p:spPr>
          <a:xfrm>
            <a:off x="5956200" y="3429000"/>
            <a:ext cx="2902680" cy="750600"/>
          </a:xfrm>
          <a:prstGeom prst="rect">
            <a:avLst/>
          </a:prstGeom>
          <a:solidFill>
            <a:srgbClr val="24cac6"/>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name&gt;       =  user-specifi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ame n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ID&gt;             =  integer frame I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de</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348EEB60-0FCA-4D6F-A61D-5FAD3FFA16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692280" y="1247400"/>
            <a:ext cx="7772400" cy="5164200"/>
          </a:xfrm>
          <a:prstGeom prst="rect">
            <a:avLst/>
          </a:prstGeom>
          <a:noFill/>
          <a:ln w="0">
            <a:noFill/>
          </a:ln>
        </p:spPr>
        <p:txBody>
          <a:bodyPr lIns="90360" rIns="90360" tIns="44280" bIns="442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ertial dynamic frames are specified by setting the rotation state to 'INERTIAL' in the rotation state assignment:</a:t>
            </a:r>
            <a:endParaRPr b="1" lang="en-US" sz="2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RAME_&lt;FRAME_ID&gt;_ROTATION_STATE = 'INERTIAL'</a:t>
            </a:r>
            <a:endParaRPr b="1" lang="en-US" sz="1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ERTIAL' state implies the frame is treated as inertial for the purpose of velocity transformation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tate transformation between any inertial frame and "inertial dynamic frame" has zero derivative block:  the state transformation matrix has the form</a:t>
            </a:r>
            <a:endParaRPr b="1" lang="en-US" sz="20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Courier New"/>
              </a:rPr>
              <a:t>R(t)  |   0    </a:t>
            </a:r>
            <a:endParaRPr b="1" lang="en-US" sz="24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1" lang="en-US" sz="24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0    |  R(t) </a:t>
            </a:r>
            <a:endParaRPr b="1" lang="en-US" sz="24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here R(t) is a time-dependent rotation.</a:t>
            </a:r>
            <a:endParaRPr b="1" lang="en-US" sz="2000" spc="-1" strike="noStrike">
              <a:solidFill>
                <a:srgbClr val="000000"/>
              </a:solidFill>
              <a:latin typeface="Arial"/>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9" name="PlaceHolder 2"/>
          <p:cNvSpPr>
            <a:spLocks noGrp="1"/>
          </p:cNvSpPr>
          <p:nvPr>
            <p:ph type="title"/>
          </p:nvPr>
        </p:nvSpPr>
        <p:spPr>
          <a:xfrm>
            <a:off x="2661840" y="380520"/>
            <a:ext cx="5405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ertial Dynamic Frames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AD84EC52-42A9-44C2-9D70-12CE807665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92280" y="1370160"/>
            <a:ext cx="7772400" cy="504648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contrast, for any rotating frame R(t), the state transformation between any inertial frame and R(t) has a corresponding matrix of the form</a:t>
            </a:r>
            <a:endParaRPr b="1" lang="en-US" sz="20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Courier New"/>
              </a:rPr>
              <a:t>R(t)   |   0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R(t)/dt|  R(t)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ertial rotation state</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ifies velocity transformations:  velocities are transformed by a rotation.</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 be useful for maintaining consistency with other dynamic frame implementation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makes sense if the "inertial" dynamic frame actually rotates very slowly!</a:t>
            </a:r>
            <a:endParaRPr b="1" lang="en-US" sz="2000" spc="-1" strike="noStrike">
              <a:solidFill>
                <a:srgbClr val="000000"/>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 name="PlaceHolder 2"/>
          <p:cNvSpPr>
            <a:spLocks noGrp="1"/>
          </p:cNvSpPr>
          <p:nvPr>
            <p:ph type="title"/>
          </p:nvPr>
        </p:nvSpPr>
        <p:spPr>
          <a:xfrm>
            <a:off x="2661840" y="380520"/>
            <a:ext cx="5405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ertial Dynamic Frames -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77AD51B5-6C6A-42AA-B5C5-A77F32E364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3" name="PlaceHolder 2"/>
          <p:cNvSpPr>
            <a:spLocks noGrp="1"/>
          </p:cNvSpPr>
          <p:nvPr>
            <p:ph type="title"/>
          </p:nvPr>
        </p:nvSpPr>
        <p:spPr>
          <a:xfrm>
            <a:off x="2676240" y="380520"/>
            <a:ext cx="5405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ertial Dynamic Frames - 3</a:t>
            </a:r>
            <a:endParaRPr b="1" lang="en-US" sz="3200" spc="-1" strike="noStrike">
              <a:solidFill>
                <a:srgbClr val="081d58"/>
              </a:solidFill>
              <a:latin typeface="Arial"/>
            </a:endParaRPr>
          </a:p>
        </p:txBody>
      </p:sp>
      <p:sp>
        <p:nvSpPr>
          <p:cNvPr id="324" name=""/>
          <p:cNvSpPr/>
          <p:nvPr/>
        </p:nvSpPr>
        <p:spPr>
          <a:xfrm>
            <a:off x="430200" y="1773360"/>
            <a:ext cx="7758000" cy="3869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Inertial version of Earth true equator and equinox of date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Z axis is perpendicular to true equator of 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X axis is parallel to cross product of +Z axis an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vector normal to mean ecliptic of 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Y axis completes the right-handed fr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egindat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name&gt;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AME              =  &lt;frame_name&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             =  5</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LASS_ID          =  &lt;frame_ID&g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CENTER            =  399</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ELATIVE          = 'J2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DEF_STYLE         = 'PARAMETERIZ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FAMILY            = 'TRUE_EQUATOR_AND_EQUINOX_OF_DAT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PREC_MODEL        = 'EARTH_IAU_197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NUT_MODEL         = 'EARTH_IAU_198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RAME_&lt;frame_ID&gt;_ROTATION_STATE    = 'INERTIA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
          <p:cNvSpPr/>
          <p:nvPr/>
        </p:nvSpPr>
        <p:spPr>
          <a:xfrm>
            <a:off x="5956200" y="3429000"/>
            <a:ext cx="2902680" cy="750600"/>
          </a:xfrm>
          <a:prstGeom prst="rect">
            <a:avLst/>
          </a:prstGeom>
          <a:solidFill>
            <a:srgbClr val="24cac6"/>
          </a:solid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name&gt;       =  user-specifie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ame n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rame_ID&gt;             =  integer frame I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de</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8F1A9980-9F01-45FF-AFE4-68CE6B3481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728280" y="1337760"/>
            <a:ext cx="8064360" cy="52088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Using</a:t>
            </a:r>
            <a:r>
              <a:rPr b="1" lang="en-US" sz="2400" spc="-1" strike="noStrike">
                <a:solidFill>
                  <a:srgbClr val="000000"/>
                </a:solidFill>
                <a:latin typeface="Arial"/>
              </a:rPr>
              <a:t> already defined dynamic frames in a SPICE-based program is straightforward.</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program initialization:</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one or more dynamic frame kernels to make frame definitions known to SPICE.</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any kernels on which the dynamic frames depend.</a:t>
            </a:r>
            <a:endParaRPr b="1" lang="en-US" sz="2000" spc="-1" strike="noStrike">
              <a:solidFill>
                <a:srgbClr val="000000"/>
              </a:solidFill>
              <a:latin typeface="Arial"/>
            </a:endParaRPr>
          </a:p>
          <a:p>
            <a:pPr lvl="3" marL="1542960" indent="-1713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dynamic frames are defined using data from SPK, FK, PCK, CK or other SPICE kernels.</a:t>
            </a:r>
            <a:endParaRPr b="1" lang="en-US" sz="1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n, refer to the dynamic frame or frames by name in calls to SPICE routine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as you would do with built-in frames such as "J2000."</a:t>
            </a:r>
            <a:endParaRPr b="1" lang="en-US" sz="2000" spc="-1" strike="noStrike">
              <a:solidFill>
                <a:srgbClr val="000000"/>
              </a:solidFill>
              <a:latin typeface="Arial"/>
            </a:endParaRPr>
          </a:p>
          <a:p>
            <a:pPr lvl="2" marL="114300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endParaRPr b="1" lang="en-US" sz="2400" spc="-1" strike="noStrike">
              <a:solidFill>
                <a:srgbClr val="000000"/>
              </a:solidFill>
              <a:latin typeface="Arial"/>
            </a:endParaRPr>
          </a:p>
        </p:txBody>
      </p:sp>
      <p:sp>
        <p:nvSpPr>
          <p:cNvPr id="122" name="PlaceHolder 2"/>
          <p:cNvSpPr>
            <a:spLocks noGrp="1"/>
          </p:cNvSpPr>
          <p:nvPr>
            <p:ph type="title"/>
          </p:nvPr>
        </p:nvSpPr>
        <p:spPr>
          <a:xfrm>
            <a:off x="1966680" y="380520"/>
            <a:ext cx="70484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troduction to Dynamic Frames - 3 </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C51D174C-74CB-4819-9D53-AA661252D5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92280" y="1600200"/>
            <a:ext cx="7772400" cy="450216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IF is developing a "generic" dynamic frames kernel.</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contain widely applicable dynamic frame definition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ogous to generic PCK file.</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included frames:</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SE, GSM, MAG</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th mean equator and equinox of date, 1976 version</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th true equator and equinox of date, 1980 version</a:t>
            </a:r>
            <a:endParaRPr b="1" lang="en-US" sz="2000" spc="-1" strike="noStrike">
              <a:solidFill>
                <a:srgbClr val="000000"/>
              </a:solidFill>
              <a:latin typeface="Arial"/>
            </a:endParaRPr>
          </a:p>
          <a:p>
            <a:pPr lvl="2" marL="114300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7" name="PlaceHolder 2"/>
          <p:cNvSpPr>
            <a:spLocks noGrp="1"/>
          </p:cNvSpPr>
          <p:nvPr>
            <p:ph type="title"/>
          </p:nvPr>
        </p:nvSpPr>
        <p:spPr>
          <a:xfrm>
            <a:off x="2176560" y="380520"/>
            <a:ext cx="6377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Generic Dynamic Frames Kernel</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FD040F94-F294-4E04-94F8-FE927C343D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54360" y="380520"/>
            <a:ext cx="15955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ackup</a:t>
            </a:r>
            <a:endParaRPr b="1" lang="en-US" sz="3200" spc="-1" strike="noStrike">
              <a:solidFill>
                <a:srgbClr val="081d58"/>
              </a:solidFill>
              <a:latin typeface="Arial"/>
            </a:endParaRPr>
          </a:p>
        </p:txBody>
      </p:sp>
      <p:sp>
        <p:nvSpPr>
          <p:cNvPr id="32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ional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erical Issu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ations</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E5DA996B-5D27-4435-8DA1-9A4775B3F7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699840" y="1283760"/>
            <a:ext cx="8064360" cy="523116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provide dynamic frames?</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ould build C-kernel for *any* frame.</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 could provide a limited number of "built-in" dynamic frames which wouldn't require a frame kernel.</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s can (and do) create their own routines to implement dynamic frames.</a:t>
            </a:r>
            <a:endParaRPr b="1" lang="en-US" sz="20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efits</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nience:  using a formula rather than a C-kernel avoids C-kernel creation, dissemination, storage, and consistency issue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ility:  the dynamic frame mechanism enables creation of a vast variety of reference frame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once defined, and once supporting kernels are loaded, dynamic frames may be referenced in SPICE API calls.</a:t>
            </a:r>
            <a:endParaRPr b="1" lang="en-US" sz="2000" spc="-1" strike="noStrike">
              <a:solidFill>
                <a:srgbClr val="000000"/>
              </a:solidFill>
              <a:latin typeface="Arial"/>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 name="PlaceHolder 2"/>
          <p:cNvSpPr>
            <a:spLocks noGrp="1"/>
          </p:cNvSpPr>
          <p:nvPr>
            <p:ph type="title"/>
          </p:nvPr>
        </p:nvSpPr>
        <p:spPr>
          <a:xfrm>
            <a:off x="4376880" y="380520"/>
            <a:ext cx="19555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Rational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1B356169-D74F-483C-8C69-C88FD083B4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99840" y="1283760"/>
            <a:ext cx="8064360" cy="5231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vector frame derivatives may be inaccurate.  Let R(t) represent a time-dependent rot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R(t) depends on CK data, dR(t)/dt may be inaccurate because CK rates frequently have low accura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R(t) depends on velocity vectors, then dR(t)/dt depends on acceleration determined via numerical differentiation.  Typically such derivatives suffer loss of accuracy.</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f velocities are "well-behaved," numerically derived acceleration can be quite good.  Example:  GSE fram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R(t) depends on position vectors, the velocities associated with those vectors by the SPK system may not be mathematically consistent with the positions.  This can happen for SPK types with separate polynomials for position and velocity, such as types 3, 8, 9, and 14.</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R(t) depends on aberration-corrected vectors, the associated velocities may be inaccurate due to accuracy limitations of the aberration corrections applied to velocities by the SPK system.</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PlaceHolder 2"/>
          <p:cNvSpPr>
            <a:spLocks noGrp="1"/>
          </p:cNvSpPr>
          <p:nvPr>
            <p:ph type="title"/>
          </p:nvPr>
        </p:nvSpPr>
        <p:spPr>
          <a:xfrm>
            <a:off x="3333600" y="380520"/>
            <a:ext cx="40514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umerical Issues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341C694E-6726-4FE8-8115-AEF916296E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699840" y="1283760"/>
            <a:ext cx="8064360" cy="523116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 using aberration corrections in two-vector frame definitions, if accurate velocity transformations are requir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aware of  the accuracy of the data on which two-vector frames are based. </a:t>
            </a:r>
            <a:endParaRPr b="1" lang="en-US" sz="1800" spc="-1" strike="noStrike">
              <a:solidFill>
                <a:srgbClr val="000000"/>
              </a:solidFill>
              <a:latin typeface="Arial"/>
            </a:endParaRPr>
          </a:p>
        </p:txBody>
      </p:sp>
      <p:sp>
        <p:nvSpPr>
          <p:cNvPr id="335" name="PlaceHolder 2"/>
          <p:cNvSpPr>
            <a:spLocks noGrp="1"/>
          </p:cNvSpPr>
          <p:nvPr>
            <p:ph type="title"/>
          </p:nvPr>
        </p:nvSpPr>
        <p:spPr>
          <a:xfrm>
            <a:off x="3333600" y="380520"/>
            <a:ext cx="40514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umerical Issues -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BD0EC014-6376-4E36-B937-A82C7044E8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699840" y="1283760"/>
            <a:ext cx="8064360" cy="5231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ed recurs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I Fortran 77 doesn't support recursion, so the SPICE dynamic frame system implements limited, simulated recursion.</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ally, two levels of recursion are supported for selected SPK and Frame System routin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must avoid requesting "deeper" recursion than the SPICE dynamic frame system can support.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defining dynamic frames:</a:t>
            </a:r>
            <a:endParaRPr b="1" lang="en-US" sz="1800" spc="-1" strike="noStrike">
              <a:solidFill>
                <a:srgbClr val="000000"/>
              </a:solidFill>
              <a:latin typeface="Arial"/>
            </a:endParaRPr>
          </a:p>
          <a:p>
            <a:pPr lvl="3" marL="1542960" indent="-1713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e J2000 as the base frame for two-vector frames.</a:t>
            </a:r>
            <a:endParaRPr b="1" lang="en-US" sz="1600" spc="-1" strike="noStrike">
              <a:solidFill>
                <a:srgbClr val="000000"/>
              </a:solidFill>
              <a:latin typeface="Arial"/>
            </a:endParaRPr>
          </a:p>
          <a:p>
            <a:pPr lvl="3" marL="1542960" indent="-1713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cept for Euler frames, avoid using dynamic frames as base frames.</a:t>
            </a:r>
            <a:endParaRPr b="1" lang="en-US" sz="1600" spc="-1" strike="noStrike">
              <a:solidFill>
                <a:srgbClr val="000000"/>
              </a:solidFill>
              <a:latin typeface="Arial"/>
            </a:endParaRPr>
          </a:p>
          <a:p>
            <a:pPr lvl="3" marL="1542960" indent="-1713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y to avoid choosing a dynamic frame as the frame associated with a velocity or constant vector.</a:t>
            </a:r>
            <a:endParaRPr b="1" lang="en-US" sz="16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PK, CK, or PCK kernels, don't use two-vector frames as the base frame relative to which ephemeris or attitude data are specified.</a:t>
            </a:r>
            <a:endParaRPr b="1" lang="en-US" sz="1800" spc="-1" strike="noStrike">
              <a:solidFill>
                <a:srgbClr val="000000"/>
              </a:solidFill>
              <a:latin typeface="Arial"/>
            </a:endParaRPr>
          </a:p>
          <a:p>
            <a:pPr lvl="3" marL="1542960" indent="-1713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ate" or Euler frames are OK for this purpose.</a:t>
            </a:r>
            <a:endParaRPr b="1" lang="en-US" sz="1600" spc="-1" strike="noStrike">
              <a:solidFill>
                <a:srgbClr val="000000"/>
              </a:solidFill>
              <a:latin typeface="Arial"/>
            </a:endParaRPr>
          </a:p>
        </p:txBody>
      </p:sp>
      <p:sp>
        <p:nvSpPr>
          <p:cNvPr id="337" name="PlaceHolder 2"/>
          <p:cNvSpPr>
            <a:spLocks noGrp="1"/>
          </p:cNvSpPr>
          <p:nvPr>
            <p:ph type="title"/>
          </p:nvPr>
        </p:nvSpPr>
        <p:spPr>
          <a:xfrm>
            <a:off x="3927600" y="380520"/>
            <a:ext cx="2876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Limitations -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F4C4D6F3-D3B1-4DDC-805D-316E0AEA96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699840" y="1283760"/>
            <a:ext cx="8064360" cy="5231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time efficienc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frame evaluation typically requires more computation than is needed for CK or PCK fram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evaluation of a two-vector frame may involve several SPK call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ler frames are an exception:  these are fairly efficient as long as they don't have a base frame that requires a lot of computation to evalua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minimize the performance penalty:</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J2000 as the base frame for two-vector fram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simplest frames possible for association with velocity or constant vectors in two-vector frame definitions.</a:t>
            </a:r>
            <a:endParaRPr b="1" lang="en-US" sz="1800" spc="-1" strike="noStrike">
              <a:solidFill>
                <a:srgbClr val="000000"/>
              </a:solidFill>
              <a:latin typeface="Arial"/>
            </a:endParaRPr>
          </a:p>
          <a:p>
            <a:pPr lvl="3" marL="1542960" indent="-1713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fer non-dynamic frames to dynamic frames and inertial frames to non-inertial frames where there is a choice.</a:t>
            </a:r>
            <a:endParaRPr b="1" lang="en-US" sz="16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9" name="PlaceHolder 2"/>
          <p:cNvSpPr>
            <a:spLocks noGrp="1"/>
          </p:cNvSpPr>
          <p:nvPr>
            <p:ph type="title"/>
          </p:nvPr>
        </p:nvSpPr>
        <p:spPr>
          <a:xfrm>
            <a:off x="3927600" y="380520"/>
            <a:ext cx="2876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Limitations -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C21AAFF9-3B3A-43D4-847B-639C8B857142}"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66200" y="1352520"/>
            <a:ext cx="8326440" cy="5324400"/>
          </a:xfrm>
          <a:prstGeom prst="rect">
            <a:avLst/>
          </a:prstGeom>
          <a:noFill/>
          <a:ln w="0">
            <a:noFill/>
          </a:ln>
        </p:spPr>
        <p:txBody>
          <a:bodyPr lIns="90360" rIns="90360" tIns="44280" bIns="44280" anchor="t">
            <a:normAutofit/>
          </a:bodyPr>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example, find the 6x6 matrix to transform states from the J2000 frame to the Geocentric Solar Ecliptic (GSE) frame at the TDB epoch given by ET.</a:t>
            </a:r>
            <a:endParaRPr b="1" lang="en-US" sz="2000" spc="-1" strike="noStrike">
              <a:solidFill>
                <a:srgbClr val="000000"/>
              </a:solidFill>
              <a:latin typeface="Arial"/>
            </a:endParaRPr>
          </a:p>
          <a:p>
            <a:pPr lvl="3" marL="154296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LL SXFORM( 'J2000', 'GSE', ET, XFORM )</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 look up the state of Jupiter relative to the earth in the GSE frame:</a:t>
            </a:r>
            <a:endParaRPr b="1" lang="en-US" sz="2000" spc="-1" strike="noStrike">
              <a:solidFill>
                <a:srgbClr val="000000"/>
              </a:solidFill>
              <a:latin typeface="Arial"/>
            </a:endParaRPr>
          </a:p>
          <a:p>
            <a:pPr lvl="2" marL="1143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ALL SPKEZR( 'JUPITER', ET,      'GSE',  </a:t>
            </a:r>
            <a:endParaRPr b="1" lang="en-US" sz="2000" spc="-1" strike="noStrike">
              <a:solidFill>
                <a:srgbClr val="000000"/>
              </a:solidFill>
              <a:latin typeface="Arial"/>
            </a:endParaRPr>
          </a:p>
          <a:p>
            <a:pPr lvl="2" marL="11430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NONE',    'EARTH', STATE, LT )</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refer to dynamic frames in SPK or CK files, for example:</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you create an SPK file, you can have an SPK segment reference its ephemeris data to the true earth equator and equinox of date reference frame.</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some restrictions apply to use of dynamic frames in SPICE kernels (see Backup slides).</a:t>
            </a:r>
            <a:endParaRPr b="1" lang="en-US" sz="2000" spc="-1" strike="noStrike">
              <a:solidFill>
                <a:srgbClr val="000000"/>
              </a:solidFill>
              <a:latin typeface="Arial"/>
            </a:endParaRPr>
          </a:p>
        </p:txBody>
      </p:sp>
      <p:sp>
        <p:nvSpPr>
          <p:cNvPr id="124" name="PlaceHolder 2"/>
          <p:cNvSpPr>
            <a:spLocks noGrp="1"/>
          </p:cNvSpPr>
          <p:nvPr>
            <p:ph type="title"/>
          </p:nvPr>
        </p:nvSpPr>
        <p:spPr>
          <a:xfrm>
            <a:off x="1966680" y="380520"/>
            <a:ext cx="70484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troduction to Dynamic Frames - 4 </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2AAABC71-E765-44A3-B81E-58F53058EF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728280" y="1279440"/>
            <a:ext cx="8064360" cy="5267520"/>
          </a:xfrm>
          <a:prstGeom prst="rect">
            <a:avLst/>
          </a:prstGeom>
          <a:noFill/>
          <a:ln w="0">
            <a:noFill/>
          </a:ln>
        </p:spPr>
        <p:txBody>
          <a:bodyPr lIns="90360" rIns="90360" tIns="44280" bIns="44280" anchor="t">
            <a:normAutofit/>
          </a:bodyPr>
          <a:p>
            <a:pPr marL="285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fine dynamic frames via a frame kernel, a fairly detailed understanding of the SPICE dynamic frame capability is requir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ood understanding of the basic SPICE system (in particular, the SPK and Frame systems) is also a prerequisite for defining dynamic frame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e the Frames Required Reading for the most detailed documentation availabl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st of this tutorial is concerned with: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aining the SPICE dynamic frames capabil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wing how to create dynamic frame kernel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present many frame definition examples.</a:t>
            </a:r>
            <a:endParaRPr b="1" lang="en-US" sz="1800" spc="-1" strike="noStrike">
              <a:solidFill>
                <a:srgbClr val="000000"/>
              </a:solidFill>
              <a:latin typeface="Arial"/>
            </a:endParaRPr>
          </a:p>
        </p:txBody>
      </p:sp>
      <p:sp>
        <p:nvSpPr>
          <p:cNvPr id="126" name="PlaceHolder 2"/>
          <p:cNvSpPr>
            <a:spLocks noGrp="1"/>
          </p:cNvSpPr>
          <p:nvPr>
            <p:ph type="title"/>
          </p:nvPr>
        </p:nvSpPr>
        <p:spPr>
          <a:xfrm>
            <a:off x="1966680" y="380520"/>
            <a:ext cx="70484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troduction to Dynamic Frames - 5 </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DFEC1DD1-BFC8-424F-81CF-A4508F4816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717480" y="1496520"/>
            <a:ext cx="8064720" cy="524196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involving reference frames and vectors:</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 is short for "reference frame."</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rame can be thought of as a set of three mutually orthogonal, unit-length vectors.  </a:t>
            </a:r>
            <a:endParaRPr b="1" lang="en-US" sz="2000" spc="-1" strike="noStrike">
              <a:solidFill>
                <a:srgbClr val="000000"/>
              </a:solidFill>
              <a:latin typeface="Arial"/>
            </a:endParaRPr>
          </a:p>
          <a:p>
            <a:pPr lvl="2" marL="1131480" indent="-2260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vectors are called "basis vectors."  The lines containing the basis vectors are the "axes" of the frame.  </a:t>
            </a:r>
            <a:endParaRPr b="1" lang="en-US" sz="2000" spc="-1" strike="noStrike">
              <a:solidFill>
                <a:srgbClr val="000000"/>
              </a:solidFill>
              <a:latin typeface="Arial"/>
            </a:endParaRPr>
          </a:p>
          <a:p>
            <a:pPr lvl="2" marL="1131480" indent="-2260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asis vectors indicate the "positive" axis directions; we label these vectors +X, +Y, and +Z.  The negatives of these vectors are labeled -X, -Y, and -Z.</a:t>
            </a:r>
            <a:endParaRPr b="1" lang="en-US" sz="2000" spc="-1" strike="noStrike">
              <a:solidFill>
                <a:srgbClr val="000000"/>
              </a:solidFill>
              <a:latin typeface="Arial"/>
            </a:endParaRPr>
          </a:p>
          <a:p>
            <a:pPr lvl="2" marL="1131480" indent="-226080">
              <a:lnSpc>
                <a:spcPct val="9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number the axes as follows:</a:t>
            </a:r>
            <a:endParaRPr b="1" lang="en-US" sz="2000" spc="-1" strike="noStrike">
              <a:solidFill>
                <a:srgbClr val="000000"/>
              </a:solidFill>
              <a:latin typeface="Arial"/>
            </a:endParaRPr>
          </a:p>
          <a:p>
            <a:pPr lvl="3" marL="1527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 axis 1;   Y = axis 2;   Z = axis 3</a:t>
            </a:r>
            <a:endParaRPr b="1" lang="en-US" sz="18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of the frames we'll deal with are "right-handed": this means +Z is the cross product +X  x  +Y.</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eference frame's orientation is always defined relative to another specified frame:  the "base frame."</a:t>
            </a:r>
            <a:endParaRPr b="1" lang="en-US" sz="2000" spc="-1" strike="noStrike">
              <a:solidFill>
                <a:srgbClr val="000000"/>
              </a:solidFill>
              <a:latin typeface="Arial"/>
            </a:endParaRPr>
          </a:p>
        </p:txBody>
      </p:sp>
      <p:sp>
        <p:nvSpPr>
          <p:cNvPr id="128" name="PlaceHolder 2"/>
          <p:cNvSpPr>
            <a:spLocks noGrp="1"/>
          </p:cNvSpPr>
          <p:nvPr>
            <p:ph type="title"/>
          </p:nvPr>
        </p:nvSpPr>
        <p:spPr>
          <a:xfrm>
            <a:off x="3778200" y="380520"/>
            <a:ext cx="31528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erminology - 1</a:t>
            </a:r>
            <a:endParaRPr b="1" lang="en-US" sz="3200" spc="-1" strike="noStrike">
              <a:solidFill>
                <a:srgbClr val="081d58"/>
              </a:solidFill>
              <a:latin typeface="Arial"/>
            </a:endParaRPr>
          </a:p>
        </p:txBody>
      </p:sp>
      <p:sp>
        <p:nvSpPr>
          <p:cNvPr id="129" name=""/>
          <p:cNvSpPr/>
          <p:nvPr/>
        </p:nvSpPr>
        <p:spPr>
          <a:xfrm>
            <a:off x="8137440" y="414360"/>
            <a:ext cx="184320" cy="25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28EB4B75-A3F8-45E2-97B1-CE4818E1B2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28280" y="1269720"/>
            <a:ext cx="8064360" cy="5267160"/>
          </a:xfrm>
          <a:prstGeom prst="rect">
            <a:avLst/>
          </a:prstGeom>
          <a:noFill/>
          <a:ln w="0">
            <a:noFill/>
          </a:ln>
        </p:spPr>
        <p:txBody>
          <a:bodyPr lIns="90360" rIns="90360" tIns="44280" bIns="44280" anchor="t">
            <a:normAutofit/>
          </a:bodyPr>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we say that a frame is "time-dependent" or "time-varying," we mean:</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orientation of the frame is time-dependent.</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valently, the rotation between the frame and its base frame is time-dependent.</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evaluating" a frame or "evaluating the orientation of a frame," we mean computing the rotation between the frame and its base frame.  </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epoch is required in order to evaluate a dynamic frame.</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SPICE system, frames are considered to have "centers."  </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enter of a frame is always an ephemeris object, something whose location can be specified with an SPK file.  </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centers come into play when light time corrections are used:  the apparent orientation of a time-dependent frame as seen by an observer is affected by the one-way light time between the frame's center and the observer.</a:t>
            </a:r>
            <a:endParaRPr b="1" lang="en-US" sz="1800" spc="-1" strike="noStrike">
              <a:solidFill>
                <a:srgbClr val="000000"/>
              </a:solidFill>
              <a:latin typeface="Arial"/>
            </a:endParaRPr>
          </a:p>
        </p:txBody>
      </p:sp>
      <p:sp>
        <p:nvSpPr>
          <p:cNvPr id="131" name="PlaceHolder 2"/>
          <p:cNvSpPr>
            <a:spLocks noGrp="1"/>
          </p:cNvSpPr>
          <p:nvPr>
            <p:ph type="title"/>
          </p:nvPr>
        </p:nvSpPr>
        <p:spPr>
          <a:xfrm>
            <a:off x="3785760" y="380520"/>
            <a:ext cx="31482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erminology -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Dynamic Frames</a:t>
            </a:r>
          </a:p>
        </p:txBody>
      </p:sp>
      <p:sp>
        <p:nvSpPr>
          <p:cNvPr id="5" name="PlaceHolder 4"/>
          <p:cNvSpPr>
            <a:spLocks noGrp="1"/>
          </p:cNvSpPr>
          <p:nvPr>
            <p:ph type="sldNum" idx="2"/>
          </p:nvPr>
        </p:nvSpPr>
        <p:spPr/>
        <p:txBody>
          <a:bodyPr/>
          <a:p>
            <a:fld id="{02F6B6DE-8C6D-44B6-9EFA-937BC6B3C9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10T14:50:09Z</dcterms:created>
  <dc:creator>Chuck Acton</dc:creator>
  <dc:description/>
  <cp:keywords/>
  <dc:language>en-US</dc:language>
  <cp:lastModifiedBy>Charles Acton</cp:lastModifiedBy>
  <cp:lastPrinted>1999-09-20T21:11:41Z</cp:lastPrinted>
  <dcterms:modified xsi:type="dcterms:W3CDTF">2007-10-12T23:52:46Z</dcterms:modified>
  <cp:revision>815</cp:revision>
  <dc:subject/>
  <dc:title>No Slide Title</dc:title>
</cp:coreProperties>
</file>