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75040" y="-12600"/>
            <a:ext cx="29829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75040" y="8704440"/>
            <a:ext cx="2982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704440"/>
            <a:ext cx="298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-1260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1D5E-AB16-49E9-B1AF-80CBBF52A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40900-7E30-432E-95FB-B9B56E534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3960-5D53-402D-A300-F30D3B8E2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0309-1AEC-4C42-8A39-E69E99197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BA4F-6181-45B9-A487-A684CB1B6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68B8-CABA-4A6E-A94B-049A971F5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5408-E507-4438-9DF9-3348968F9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106F-C3AC-467E-A24F-08EAD584B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30832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86EFF-81AB-4B86-BC19-766E5E8C5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733F-5407-40E9-BEC2-319F51EC0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F7B2B-2CD3-4C22-A097-38921F466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A788F-C5E4-429E-874B-45C2C7EDE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832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FFC9-23E0-4B85-8438-B1B41A1ED63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590920" y="3048120"/>
            <a:ext cx="3975120" cy="2781360"/>
            <a:chOff x="2590920" y="3048120"/>
            <a:chExt cx="3975120" cy="2781360"/>
          </a:xfrm>
        </p:grpSpPr>
        <p:graphicFrame>
          <p:nvGraphicFramePr>
            <p:cNvPr id="116" name=""/>
            <p:cNvGraphicFramePr/>
            <p:nvPr/>
          </p:nvGraphicFramePr>
          <p:xfrm>
            <a:off x="2590920" y="4660920"/>
            <a:ext cx="1104840" cy="10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90920" y="4660920"/>
                      <a:ext cx="110484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479760" y="3048120"/>
            <a:ext cx="3086280" cy="278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79760" y="3048120"/>
                      <a:ext cx="3086280" cy="27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09320" y="1828800"/>
            <a:ext cx="480060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tting and Installing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the SPICE Toolkit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60958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84280" y="380520"/>
            <a:ext cx="1979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ances of the SPICE Toolkit are available 24x7 from the NAIF anonymous ftp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RAN, C, IDL, MATL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supported platform/OS/compiler combin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assword or identification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may select a complete “package” or individual application/utility 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select both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elect a packag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get and read the READM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e installation script provided by NAIF (if there is o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and read the Toolkit description document (dscriptn.tx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5DA0-E8D1-42D1-B4F3-F71F6A819A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87720" y="380520"/>
            <a:ext cx="4186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on’t Port It Yourself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package for one of the environments supported by NAIF that has been built and tested for yo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ighly recommend you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y to port any instance of the Toolkit to some other environment without consulting with NAIF fir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both portability issues and compiler optimization issues that must be carefully dealt wit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1D6E-185C-4F2C-8CBF-51BE7476EC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93840" y="1460520"/>
            <a:ext cx="8501040" cy="4782960"/>
            <a:chOff x="393840" y="1460520"/>
            <a:chExt cx="8501040" cy="4782960"/>
          </a:xfrm>
        </p:grpSpPr>
        <p:grpSp>
          <p:nvGrpSpPr>
            <p:cNvPr id="127" name=""/>
            <p:cNvGrpSpPr/>
            <p:nvPr/>
          </p:nvGrpSpPr>
          <p:grpSpPr>
            <a:xfrm>
              <a:off x="393840" y="1460520"/>
              <a:ext cx="8501040" cy="4782960"/>
              <a:chOff x="393840" y="1460520"/>
              <a:chExt cx="8501040" cy="47829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93840" y="1460520"/>
                <a:ext cx="8501040" cy="4782960"/>
                <a:chOff x="393840" y="1460520"/>
                <a:chExt cx="8501040" cy="478296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393840" y="1460520"/>
                  <a:ext cx="8501040" cy="4782960"/>
                  <a:chOff x="393840" y="1460520"/>
                  <a:chExt cx="8501040" cy="47829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93840" y="17510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79400" y="16462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93840" y="14605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93840" y="61610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79400" y="61596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23720" y="14907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>
                  <a:off x="3803040" y="14907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17600" y="3176640"/>
                <a:ext cx="299880" cy="2143080"/>
                <a:chOff x="417600" y="3176640"/>
                <a:chExt cx="299880" cy="21430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417600" y="3176640"/>
                  <a:ext cx="299880" cy="2143080"/>
                  <a:chOff x="417600" y="3176640"/>
                  <a:chExt cx="299880" cy="214308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430200" y="31845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17600" y="3176640"/>
                    <a:ext cx="299880" cy="2143080"/>
                    <a:chOff x="417600" y="3176640"/>
                    <a:chExt cx="299880" cy="21430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17600" y="31766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19040" y="53197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560520" y="4226040"/>
                  <a:ext cx="46080" cy="42840"/>
                  <a:chOff x="560520" y="4226040"/>
                  <a:chExt cx="46080" cy="428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560520" y="42260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61960" y="42274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"/>
              <p:cNvGrpSpPr/>
              <p:nvPr/>
            </p:nvGrpSpPr>
            <p:grpSpPr>
              <a:xfrm>
                <a:off x="417600" y="5516640"/>
                <a:ext cx="301680" cy="601560"/>
                <a:chOff x="417600" y="5516640"/>
                <a:chExt cx="301680" cy="601560"/>
              </a:xfrm>
            </p:grpSpPr>
            <p:grpSp>
              <p:nvGrpSpPr>
                <p:cNvPr id="147" name=""/>
                <p:cNvGrpSpPr/>
                <p:nvPr/>
              </p:nvGrpSpPr>
              <p:grpSpPr>
                <a:xfrm>
                  <a:off x="417600" y="5838840"/>
                  <a:ext cx="301680" cy="279360"/>
                  <a:chOff x="417600" y="5838840"/>
                  <a:chExt cx="301680" cy="27936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430200" y="58420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417600" y="5838840"/>
                    <a:ext cx="301680" cy="279360"/>
                    <a:chOff x="417600" y="5838840"/>
                    <a:chExt cx="301680" cy="27936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417600" y="58388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420840" y="61182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417600" y="5516640"/>
                  <a:ext cx="301680" cy="280800"/>
                  <a:chOff x="417600" y="5516640"/>
                  <a:chExt cx="301680" cy="2808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430200" y="55213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4" name=""/>
                  <p:cNvGrpSpPr/>
                  <p:nvPr/>
                </p:nvGrpSpPr>
                <p:grpSpPr>
                  <a:xfrm>
                    <a:off x="417600" y="5516640"/>
                    <a:ext cx="301680" cy="280800"/>
                    <a:chOff x="417600" y="5516640"/>
                    <a:chExt cx="301680" cy="280800"/>
                  </a:xfrm>
                </p:grpSpPr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417600" y="55166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420840" y="57974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7" name=""/>
                <p:cNvSpPr/>
                <p:nvPr/>
              </p:nvSpPr>
              <p:spPr>
                <a:xfrm>
                  <a:off x="527040" y="59119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25600" y="55911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447840" y="1506600"/>
              <a:ext cx="191880" cy="179280"/>
              <a:chOff x="447840" y="1506600"/>
              <a:chExt cx="191880" cy="179280"/>
            </a:xfrm>
          </p:grpSpPr>
          <p:sp>
            <p:nvSpPr>
              <p:cNvPr id="160" name=""/>
              <p:cNvSpPr/>
              <p:nvPr/>
            </p:nvSpPr>
            <p:spPr>
              <a:xfrm>
                <a:off x="453960" y="15066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447840" y="1511280"/>
                <a:ext cx="187200" cy="174600"/>
                <a:chOff x="447840" y="1511280"/>
                <a:chExt cx="187200" cy="1746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447840" y="15112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52520" y="16858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360" y="1546200"/>
                <a:ext cx="102960" cy="98280"/>
                <a:chOff x="495360" y="1546200"/>
                <a:chExt cx="102960" cy="982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5360" y="15462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360" y="15462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"/>
            <p:cNvGrpSpPr/>
            <p:nvPr/>
          </p:nvGrpSpPr>
          <p:grpSpPr>
            <a:xfrm>
              <a:off x="8626320" y="1515960"/>
              <a:ext cx="193680" cy="177840"/>
              <a:chOff x="8626320" y="1515960"/>
              <a:chExt cx="193680" cy="1778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8626320" y="1515960"/>
                <a:ext cx="193680" cy="177840"/>
                <a:chOff x="8626320" y="1515960"/>
                <a:chExt cx="193680" cy="1778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8632800" y="15159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"/>
                <p:cNvGrpSpPr/>
                <p:nvPr/>
              </p:nvGrpSpPr>
              <p:grpSpPr>
                <a:xfrm>
                  <a:off x="8626320" y="1517760"/>
                  <a:ext cx="193680" cy="176040"/>
                  <a:chOff x="8626320" y="1517760"/>
                  <a:chExt cx="193680" cy="1760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8626320" y="15177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634240" y="16938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8656560" y="1523880"/>
                <a:ext cx="138240" cy="152640"/>
                <a:chOff x="8656560" y="1523880"/>
                <a:chExt cx="138240" cy="1526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8658360" y="15382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8656560" y="15238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"/>
          <p:cNvSpPr/>
          <p:nvPr/>
        </p:nvSpPr>
        <p:spPr>
          <a:xfrm>
            <a:off x="830160" y="1874880"/>
            <a:ext cx="71308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ftp naif.jpl.nas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ed to naif.jpl.nas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0  Welcome to the NAIF FTP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ame (your.sight:your_name):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anonym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331 Please specify the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ssword: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your@e.mail.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===========================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   Jet Propulsion Laboratory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* * *    W A R N I N G   * * *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        Property of the     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|                      UNITED STATES GOVERNMENT       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  =============================================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30 Login successful. Have f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mote system type is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ing binary mode to transfer fi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d pub/naif/toolkit/&lt;FORTRAN or C or IDL or MATLA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50 CWD command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6160" y="380520"/>
            <a:ext cx="1233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tp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7D406-23BC-4505-8676-6F06F9B0D4F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179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9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212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8" name=""/>
          <p:cNvSpPr/>
          <p:nvPr/>
        </p:nvSpPr>
        <p:spPr>
          <a:xfrm>
            <a:off x="830160" y="1819440"/>
            <a:ext cx="183672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b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g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Cyg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I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La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1828800"/>
            <a:ext cx="0" cy="419112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0960" y="487692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FORT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0748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6160" y="380520"/>
            <a:ext cx="12333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tp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1828800"/>
            <a:ext cx="2133720" cy="23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pple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nte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Cygwin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_64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Visua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GCC_64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1828800"/>
            <a:ext cx="0" cy="419112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1828800"/>
            <a:ext cx="2057400" cy="15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pple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nte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Visua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_Solaris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4520" y="4876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71840" y="6278400"/>
            <a:ext cx="444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The environments available at the time you downlo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the Toolkit may differ from those shown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828800"/>
            <a:ext cx="0" cy="419112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1828800"/>
            <a:ext cx="1981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Apple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ac_OSX_Inte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Linux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C_Windows_Visual_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5440" y="48769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CF723-EE36-4E04-A505-E21876F4D6D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393840" y="1460520"/>
            <a:ext cx="8501040" cy="4782960"/>
            <a:chOff x="393840" y="1460520"/>
            <a:chExt cx="8501040" cy="4782960"/>
          </a:xfrm>
        </p:grpSpPr>
        <p:grpSp>
          <p:nvGrpSpPr>
            <p:cNvPr id="242" name=""/>
            <p:cNvGrpSpPr/>
            <p:nvPr/>
          </p:nvGrpSpPr>
          <p:grpSpPr>
            <a:xfrm>
              <a:off x="393840" y="1460520"/>
              <a:ext cx="8501040" cy="4782960"/>
              <a:chOff x="393840" y="1460520"/>
              <a:chExt cx="8501040" cy="478296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393840" y="1460520"/>
                <a:ext cx="8501040" cy="4782960"/>
                <a:chOff x="393840" y="1460520"/>
                <a:chExt cx="8501040" cy="4782960"/>
              </a:xfrm>
            </p:grpSpPr>
            <p:grpSp>
              <p:nvGrpSpPr>
                <p:cNvPr id="244" name=""/>
                <p:cNvGrpSpPr/>
                <p:nvPr/>
              </p:nvGrpSpPr>
              <p:grpSpPr>
                <a:xfrm>
                  <a:off x="393840" y="1460520"/>
                  <a:ext cx="8501040" cy="4782960"/>
                  <a:chOff x="393840" y="1460520"/>
                  <a:chExt cx="8501040" cy="478296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393840" y="17510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79400" y="16462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93840" y="14605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93840" y="61610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79400" y="61596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23720" y="14907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3803040" y="14907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17600" y="3176640"/>
                <a:ext cx="299880" cy="2143080"/>
                <a:chOff x="417600" y="3176640"/>
                <a:chExt cx="299880" cy="214308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417600" y="3176640"/>
                  <a:ext cx="299880" cy="2143080"/>
                  <a:chOff x="417600" y="3176640"/>
                  <a:chExt cx="299880" cy="214308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30200" y="31845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417600" y="3176640"/>
                    <a:ext cx="299880" cy="2143080"/>
                    <a:chOff x="417600" y="3176640"/>
                    <a:chExt cx="299880" cy="214308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17600" y="31766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19040" y="53197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560520" y="4226040"/>
                  <a:ext cx="46080" cy="42840"/>
                  <a:chOff x="560520" y="4226040"/>
                  <a:chExt cx="46080" cy="428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60520" y="42260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61960" y="42274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1" name=""/>
              <p:cNvGrpSpPr/>
              <p:nvPr/>
            </p:nvGrpSpPr>
            <p:grpSpPr>
              <a:xfrm>
                <a:off x="417600" y="5516640"/>
                <a:ext cx="301680" cy="601560"/>
                <a:chOff x="417600" y="5516640"/>
                <a:chExt cx="301680" cy="60156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417600" y="5838840"/>
                  <a:ext cx="301680" cy="279360"/>
                  <a:chOff x="417600" y="5838840"/>
                  <a:chExt cx="301680" cy="2793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30200" y="58420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417600" y="5838840"/>
                    <a:ext cx="301680" cy="279360"/>
                    <a:chOff x="417600" y="5838840"/>
                    <a:chExt cx="301680" cy="27936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17600" y="58388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20840" y="61182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417600" y="5516640"/>
                  <a:ext cx="301680" cy="280800"/>
                  <a:chOff x="417600" y="5516640"/>
                  <a:chExt cx="301680" cy="280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430200" y="55213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17600" y="5516640"/>
                    <a:ext cx="301680" cy="280800"/>
                    <a:chOff x="417600" y="5516640"/>
                    <a:chExt cx="301680" cy="280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17600" y="55166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20840" y="57974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2" name=""/>
                <p:cNvSpPr/>
                <p:nvPr/>
              </p:nvSpPr>
              <p:spPr>
                <a:xfrm>
                  <a:off x="527040" y="59119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25600" y="55911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447840" y="1506600"/>
              <a:ext cx="191880" cy="179280"/>
              <a:chOff x="447840" y="1506600"/>
              <a:chExt cx="191880" cy="17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453960" y="15066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447840" y="1511280"/>
                <a:ext cx="187200" cy="174600"/>
                <a:chOff x="447840" y="1511280"/>
                <a:chExt cx="187200" cy="1746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47840" y="15112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2520" y="16858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95360" y="1546200"/>
                <a:ext cx="102960" cy="98280"/>
                <a:chOff x="495360" y="1546200"/>
                <a:chExt cx="102960" cy="98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95360" y="15462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5360" y="15462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"/>
            <p:cNvGrpSpPr/>
            <p:nvPr/>
          </p:nvGrpSpPr>
          <p:grpSpPr>
            <a:xfrm>
              <a:off x="8626320" y="1515960"/>
              <a:ext cx="193680" cy="177840"/>
              <a:chOff x="8626320" y="1515960"/>
              <a:chExt cx="193680" cy="177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8626320" y="1515960"/>
                <a:ext cx="193680" cy="177840"/>
                <a:chOff x="8626320" y="1515960"/>
                <a:chExt cx="193680" cy="1778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632800" y="15159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"/>
                <p:cNvGrpSpPr/>
                <p:nvPr/>
              </p:nvGrpSpPr>
              <p:grpSpPr>
                <a:xfrm>
                  <a:off x="8626320" y="1517760"/>
                  <a:ext cx="193680" cy="176040"/>
                  <a:chOff x="8626320" y="1517760"/>
                  <a:chExt cx="193680" cy="17604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8626320" y="15177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8634240" y="16938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8" name=""/>
              <p:cNvGrpSpPr/>
              <p:nvPr/>
            </p:nvGrpSpPr>
            <p:grpSpPr>
              <a:xfrm>
                <a:off x="8656560" y="1523880"/>
                <a:ext cx="138240" cy="152640"/>
                <a:chOff x="8656560" y="1523880"/>
                <a:chExt cx="138240" cy="152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8658360" y="15382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8656560" y="15238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1" name=""/>
          <p:cNvSpPr/>
          <p:nvPr/>
        </p:nvSpPr>
        <p:spPr>
          <a:xfrm>
            <a:off x="830160" y="1792440"/>
            <a:ext cx="4570560" cy="40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d &lt;environment&gt;/pack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 Type set to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toolkit.tar.Z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oolkit.ex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spice.tar.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spice.ex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cy.tar.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cy.ex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mice.tar.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mice.ex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asc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 Type set to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importSpice.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not availabe for Windows environmen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READ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dscriptn.tx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get whats.n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tp&gt;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 q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29840" y="380520"/>
            <a:ext cx="7691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pying the Toolkit and Install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CD82-0C17-40F0-A933-BD2BFF3DF0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294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4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3" name=""/>
          <p:cNvSpPr/>
          <p:nvPr/>
        </p:nvSpPr>
        <p:spPr>
          <a:xfrm>
            <a:off x="848880" y="1832040"/>
            <a:ext cx="68364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low the directions given in the README. Normally this consis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following (n/a for PC Window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30160" y="2631960"/>
            <a:ext cx="31989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chmod u+x importSpice.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./importSpice.c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 rm toolkit.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65240" y="3557520"/>
            <a:ext cx="268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70160" y="348156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49240" y="4118040"/>
            <a:ext cx="731016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PC Windows, execute the toolkit.exe application (or cspice or icy 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e) to expand the arch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7720" y="4738680"/>
            <a:ext cx="10044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ool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49960" y="3432240"/>
            <a:ext cx="7691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ow have the expanded toolkit (or cspice or icy or mice) root direc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29840" y="380520"/>
            <a:ext cx="7691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pying the Toolkit and Installa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516F-9BD2-4397-A640-23B8494E53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2440" y="380520"/>
            <a:ext cx="55008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nfiguring Your Computer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me programming environments there are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qu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itional steps to prepare for programming using SP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some programming environments there are 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comm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ditional steps to make program development easi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the “Setting Up Computer” tutorial and the “README” file found in the Toolkit download directory for more informa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3E38-5085-4D38-A7B8-DDA43FAFA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the 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b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onvert the SPICE transfer format SPK and CK files supplied with the Toolkit to local bina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_01.tsp, cook_02.tsp, cook_01.tc, and cook_02.tc are found in the ../data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i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kbrie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spac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summarize the converted kern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s may occur if operating systems or compiler versions are out of sy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build the Toolkit using the script “makeall.csh” (or “makeall.bat”) located in the “top level” directory (toolkit or cspice or icy or mice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rare circumstance that things still don’t work, contact your System Administrator or NAI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3914280" y="380520"/>
            <a:ext cx="252108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heck It Ou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stalling the SPICE Toolk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024F-2BD1-4E84-9948-28036E98F05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4T22:20:55Z</cp:lastPrinted>
  <dcterms:modified xsi:type="dcterms:W3CDTF">2007-10-12T23:46:13Z</dcterms:modified>
  <cp:revision>55</cp:revision>
  <dc:subject/>
  <dc:title>No Slide Title</dc:title>
</cp:coreProperties>
</file>