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23CA6-80F3-4ACD-B4A2-090D44ECB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46AB-4DE3-4307-A265-3D3A162E0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D9C9-01E0-425D-BFE4-CEF03934A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3234-EDF0-45E5-AEA0-174FA724D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37C4-840F-46C0-800D-62955F88B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9F43-3095-4EB7-B4B1-E091E91B1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2704F-D06E-4DF3-9E5F-933223B6F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D98AD-9878-4ED4-9941-7E1922031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616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5BBDC-8EAF-4727-BBBD-D51BE99D7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F376-02F0-4E26-ABEA-259C4D442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6294-A5EC-4749-BC4F-E20942BF2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2BF2-48F2-4C6E-88B1-F9F1BD80E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616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3FCC-B102-4EED-882C-B4770C34BB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6960" y="2364840"/>
            <a:ext cx="723888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Motivation for Developing SPICE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980720"/>
            <a:ext cx="7772400" cy="388008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24840" bIns="24840" anchor="t">
            <a:normAutofit/>
          </a:bodyPr>
          <a:p>
            <a:pPr marL="228600" indent="-228600">
              <a:lnSpc>
                <a:spcPct val="107000"/>
              </a:lnSpc>
              <a:spcBef>
                <a:spcPts val="28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said they would like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107000"/>
              </a:lnSpc>
              <a:spcBef>
                <a:spcPts val="21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common tools and methods throughout a project’s lifecycle, and for all proj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107000"/>
              </a:lnSpc>
              <a:spcBef>
                <a:spcPts val="21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the calculations and transformations used to produce observation geomet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107000"/>
              </a:lnSpc>
              <a:spcBef>
                <a:spcPts val="21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 the ability to revise the fundamental data and software tools used to produce their own observation geometry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107000"/>
              </a:lnSpc>
              <a:spcBef>
                <a:spcPts val="214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able to produce geometry calculations themselves, whenever and however they w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589120" y="380520"/>
            <a:ext cx="55231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y Did NAIF Build SPICE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CB53-7533-46EB-A947-75130EA2DF3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8920" y="1523880"/>
            <a:ext cx="1206360" cy="838440"/>
          </a:xfrm>
          <a:prstGeom prst="flowChartMagneticDisk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5040" y="1819440"/>
            <a:ext cx="1160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80" y="2521080"/>
            <a:ext cx="1252800" cy="1145880"/>
          </a:xfrm>
          <a:prstGeom prst="flowChartMagneticDisk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1160" y="2876400"/>
            <a:ext cx="125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360" y="3833640"/>
            <a:ext cx="1252800" cy="1146240"/>
          </a:xfrm>
          <a:prstGeom prst="flowChartMagneticDisk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720" y="4189320"/>
            <a:ext cx="12855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1760" y="5226120"/>
            <a:ext cx="1219320" cy="685800"/>
          </a:xfrm>
          <a:prstGeom prst="flowChartPunchedCard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299200"/>
            <a:ext cx="1455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048120"/>
            <a:ext cx="1295280" cy="2514600"/>
          </a:xfrm>
          <a:prstGeom prst="flowChartProcess">
            <a:avLst/>
          </a:prstGeom>
          <a:solidFill>
            <a:srgbClr val="f5fe4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800" y="3200400"/>
            <a:ext cx="1447920" cy="1066680"/>
            <a:chOff x="1828800" y="3200400"/>
            <a:chExt cx="1447920" cy="1066680"/>
          </a:xfrm>
        </p:grpSpPr>
        <p:sp>
          <p:nvSpPr>
            <p:cNvPr id="129" name=""/>
            <p:cNvSpPr/>
            <p:nvPr/>
          </p:nvSpPr>
          <p:spPr>
            <a:xfrm>
              <a:off x="1828800" y="3200400"/>
              <a:ext cx="1447920" cy="1066680"/>
            </a:xfrm>
            <a:prstGeom prst="flowChartProcess">
              <a:avLst/>
            </a:prstGeom>
            <a:solidFill>
              <a:srgbClr val="7db8e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55440" y="3505320"/>
              <a:ext cx="1387800" cy="587160"/>
            </a:xfrm>
            <a:prstGeom prst="rect">
              <a:avLst/>
            </a:prstGeom>
            <a:solidFill>
              <a:srgbClr val="7db8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62520" y="3429000"/>
            <a:ext cx="838080" cy="838080"/>
          </a:xfrm>
          <a:prstGeom prst="flowChartMagneticTape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12200" y="365436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962520" y="4419720"/>
            <a:ext cx="838080" cy="838080"/>
            <a:chOff x="3962520" y="4419720"/>
            <a:chExt cx="838080" cy="838080"/>
          </a:xfrm>
        </p:grpSpPr>
        <p:sp>
          <p:nvSpPr>
            <p:cNvPr id="134" name=""/>
            <p:cNvSpPr/>
            <p:nvPr/>
          </p:nvSpPr>
          <p:spPr>
            <a:xfrm>
              <a:off x="3962520" y="4419720"/>
              <a:ext cx="838080" cy="838080"/>
            </a:xfrm>
            <a:prstGeom prst="flowChartMagneticTap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66200" y="4662360"/>
              <a:ext cx="662400" cy="34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334120" y="4460760"/>
            <a:ext cx="838080" cy="838080"/>
            <a:chOff x="5334120" y="4460760"/>
            <a:chExt cx="838080" cy="838080"/>
          </a:xfrm>
        </p:grpSpPr>
        <p:sp>
          <p:nvSpPr>
            <p:cNvPr id="137" name=""/>
            <p:cNvSpPr/>
            <p:nvPr/>
          </p:nvSpPr>
          <p:spPr>
            <a:xfrm>
              <a:off x="5334120" y="4460760"/>
              <a:ext cx="838080" cy="83808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37800" y="4703400"/>
              <a:ext cx="662400" cy="34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313240" y="3456000"/>
            <a:ext cx="838440" cy="838080"/>
          </a:xfrm>
          <a:prstGeom prst="flowChartMagneticTape">
            <a:avLst/>
          </a:prstGeom>
          <a:solidFill>
            <a:srgbClr val="f5fe4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63280" y="368136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81000" y="3962520"/>
            <a:ext cx="1043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31200" y="3657600"/>
            <a:ext cx="132372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st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5562720"/>
            <a:ext cx="1447920" cy="10666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81000" y="5842080"/>
            <a:ext cx="1387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R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095880"/>
            <a:ext cx="152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14600" y="48765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4876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11560" y="1752480"/>
            <a:ext cx="0" cy="4572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20040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3716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981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98800" y="1981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057400" y="4343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3809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3809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75440" y="4267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0080" y="1216080"/>
            <a:ext cx="6919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DR - Supplemental Experiment Data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8800" y="1749600"/>
            <a:ext cx="738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J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0080" y="1749600"/>
            <a:ext cx="3267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cientist’s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23680" y="6531120"/>
            <a:ext cx="3345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R = Experiment Data 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83920" y="380520"/>
            <a:ext cx="59310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Existed Prior to SPICE 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6248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C861-573B-4EC4-9FD3-A84A86FCC7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2280" y="164772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DR Generation program was built and operated at JP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st’s requirements on SEDR had to be provided long before lau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 or post-launch updates were hard/expensive to accommo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icult to change WHAT gets compu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icult to change HOW items are computed (algorithms, paramete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icult to change TIMEs at which items get compu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ly only one SEDR file produced for each period of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:  the scientist can’t get better ancillary data if/when better inputs (e.g. spacecraft trajectory or orientation) are determ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DR generation was done “in the blind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were not familiar with processes used to make the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ors were not familiar with scientist’s processing sche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:  SEDR may not optimally meet science team’s expec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417760" y="380520"/>
            <a:ext cx="5864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EDR System Characterist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E5BA-8C27-49E1-B49D-AFCAD91477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376880" y="1447920"/>
            <a:ext cx="0" cy="45720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981080"/>
            <a:ext cx="1447920" cy="2743200"/>
          </a:xfrm>
          <a:prstGeom prst="flowChartMagneticDisk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2687760"/>
            <a:ext cx="2666880" cy="1778040"/>
          </a:xfrm>
          <a:prstGeom prst="rect">
            <a:avLst/>
          </a:prstGeom>
          <a:solidFill>
            <a:srgbClr val="fdf55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1680" y="3048120"/>
            <a:ext cx="11556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6440" y="3200400"/>
            <a:ext cx="11196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18400" y="3297240"/>
            <a:ext cx="132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ientist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16880" y="2103480"/>
            <a:ext cx="21726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ientist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560" y="3112920"/>
            <a:ext cx="1287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5812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3048120"/>
            <a:ext cx="16131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ward-winning 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8120" y="1353960"/>
            <a:ext cx="284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perations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6680" y="1363680"/>
            <a:ext cx="3753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cientist’s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59160" y="380520"/>
            <a:ext cx="31082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he SPICE Ide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6720" y="5334120"/>
            <a:ext cx="838080" cy="838080"/>
            <a:chOff x="3276720" y="5334120"/>
            <a:chExt cx="838080" cy="838080"/>
          </a:xfrm>
        </p:grpSpPr>
        <p:sp>
          <p:nvSpPr>
            <p:cNvPr id="184" name=""/>
            <p:cNvSpPr/>
            <p:nvPr/>
          </p:nvSpPr>
          <p:spPr>
            <a:xfrm>
              <a:off x="3276720" y="5334120"/>
              <a:ext cx="838080" cy="838080"/>
            </a:xfrm>
            <a:prstGeom prst="flowChartMagneticTap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80400" y="5576760"/>
              <a:ext cx="662400" cy="34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48320" y="5375160"/>
            <a:ext cx="838080" cy="838080"/>
            <a:chOff x="4648320" y="5375160"/>
            <a:chExt cx="838080" cy="838080"/>
          </a:xfrm>
        </p:grpSpPr>
        <p:sp>
          <p:nvSpPr>
            <p:cNvPr id="187" name=""/>
            <p:cNvSpPr/>
            <p:nvPr/>
          </p:nvSpPr>
          <p:spPr>
            <a:xfrm>
              <a:off x="4648320" y="5375160"/>
              <a:ext cx="838080" cy="83808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52000" y="5617800"/>
              <a:ext cx="662400" cy="34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44440" y="5238720"/>
            <a:ext cx="1447920" cy="1066680"/>
            <a:chOff x="244440" y="5238720"/>
            <a:chExt cx="1447920" cy="1066680"/>
          </a:xfrm>
        </p:grpSpPr>
        <p:sp>
          <p:nvSpPr>
            <p:cNvPr id="190" name=""/>
            <p:cNvSpPr/>
            <p:nvPr/>
          </p:nvSpPr>
          <p:spPr>
            <a:xfrm>
              <a:off x="244440" y="5238720"/>
              <a:ext cx="1447920" cy="1066680"/>
            </a:xfrm>
            <a:prstGeom prst="flowChartProcess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1080" y="5543280"/>
              <a:ext cx="13878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DR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752480" y="5791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5791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02920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62120" y="6505560"/>
            <a:ext cx="5817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EDR = Experiment Data Record = raw scien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7040" y="3691080"/>
            <a:ext cx="7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l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2560" y="4648320"/>
            <a:ext cx="7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2057400"/>
            <a:ext cx="1371600" cy="838080"/>
          </a:xfrm>
          <a:prstGeom prst="rect">
            <a:avLst/>
          </a:prstGeom>
          <a:solidFill>
            <a:srgbClr val="7db8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2514600"/>
            <a:ext cx="10670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6738-DB76-456F-B53B-F94C38290B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stomer has great flexibility in deci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observation geometry parameters are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what times or frequency these parameters are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what time span these parameters are comp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ing if/when to re-do parameter computations using new (better) or otherwise different kernels or other data as inpu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stomer also h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tools and methods that can be reused on many tas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visibility into algorithms and data used in geometry calcul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ight project operations center c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ntrate on producing better kernel data, rather than on producing lots of SEDRs and frequently updating the SEDR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2859120" y="380520"/>
            <a:ext cx="49845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Benefits vs. SEDR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084E2-7CE0-4C90-B009-E9AC514543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99920" y="380520"/>
            <a:ext cx="5504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Detriments vs. SEDR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91920" y="1676520"/>
            <a:ext cx="7918200" cy="44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use SPICE you must do some programm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stomer must make the time to learn enough about SPICE to find and use the components needed for whatever job is at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 is rather “big,” so finding one’s way through it may appear daun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me areas of SPICE the offering of choices to allow correct handling of different situations may present complexity that is unwarranted for a particula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tivation for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9EF0-25E5-4FFE-8117-4ABD252A93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1T04:16:29Z</dcterms:created>
  <dc:creator>Charles Acton</dc:creator>
  <dc:description/>
  <dc:language>en-US</dc:language>
  <cp:lastModifiedBy>Charles Acton</cp:lastModifiedBy>
  <dcterms:modified xsi:type="dcterms:W3CDTF">2007-10-12T23:45:36Z</dcterms:modified>
  <cp:revision>34</cp:revision>
  <dc:subject/>
  <dc:title>Motivation for Developing SPICE</dc:title>
</cp:coreProperties>
</file>