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3511-B1B2-4349-B0C5-05A53A5E3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C43B5-E8F8-46A2-9394-8C9446586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6AB1-9D1B-47D9-BCA3-EF2B97E88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D824-E44C-4521-85D0-1D8C71C1E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8F23-D74E-4130-83FC-672B55BC9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524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000" y="198432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048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524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000" y="4129560"/>
            <a:ext cx="24994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01A7-FF5E-4074-B62C-08FEA1D27D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8B78-5F60-47AD-95AE-1F4203CC6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3492-1753-4EA6-8741-45CDCA28E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79680" y="380520"/>
            <a:ext cx="572760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DF2A-AB13-4E54-9F75-E3FBC8A94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1A89-9542-4A01-ACE8-D7CC504D3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2956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8FC11-3235-4435-821B-5F5350490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0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8828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0480" y="4129560"/>
            <a:ext cx="7763040" cy="19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26E59-E447-4DD2-B87A-487BD3CFC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79680" y="3805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992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69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692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0" y="6616800"/>
            <a:ext cx="28908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41760" y="6616800"/>
            <a:ext cx="19018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D36971-14CB-4A63-B5E5-BE12FB8810D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8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024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072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3520" y="2281320"/>
            <a:ext cx="572760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4160" y="919080"/>
            <a:ext cx="6575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969840"/>
            <a:ext cx="3903840" cy="2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18160"/>
            <a:ext cx="209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7520" y="182520"/>
            <a:ext cx="2226240" cy="894960"/>
            <a:chOff x="-227520" y="182520"/>
            <a:chExt cx="2226240" cy="894960"/>
          </a:xfrm>
        </p:grpSpPr>
        <p:sp>
          <p:nvSpPr>
            <p:cNvPr id="62" name=""/>
            <p:cNvSpPr/>
            <p:nvPr/>
          </p:nvSpPr>
          <p:spPr>
            <a:xfrm flipH="1">
              <a:off x="1005480" y="326520"/>
              <a:ext cx="124920" cy="12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2960"/>
              <a:ext cx="1820880" cy="61452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1520" y="559440"/>
              <a:ext cx="310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6680" y="5115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880" y="638640"/>
              <a:ext cx="731880" cy="246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160" y="367200"/>
              <a:ext cx="220464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2440" y="84960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6200" y="567360"/>
              <a:ext cx="74160" cy="7416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7200" bIns="72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69920" y="240480"/>
              <a:ext cx="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7400" y="370800"/>
              <a:ext cx="369360" cy="39744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69920" y="304200"/>
              <a:ext cx="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1320" y="182520"/>
              <a:ext cx="586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1440" y="182520"/>
              <a:ext cx="679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296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556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5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1680" y="2263320"/>
            <a:ext cx="7799400" cy="528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Writing an Icy (IDL) Based Program</a:t>
            </a:r>
            <a:endParaRPr b="1" lang="en-US" sz="36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295280" y="4723920"/>
            <a:ext cx="6391440" cy="174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318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October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6320" y="380520"/>
            <a:ext cx="715968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Compute Lat/Lon and Illumination Angles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1120" y="1353960"/>
            <a:ext cx="776268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planetocentr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c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s well as the planetodetic lat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longitude (</a:t>
            </a:r>
            <a:r>
              <a:rPr b="1" lang="en-US" sz="16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 the intersection point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( found ) then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reclat, point, r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clon, pc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03200" y="3160800"/>
            <a:ext cx="77630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; Let re, rp, and f be the satellite's longer equa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;; radius, polar radius, and flattening f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  =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p  =  </a:t>
            </a:r>
            <a:r>
              <a:rPr b="1" lang="en-US" sz="1200" spc="-1" strike="noStrike">
                <a:solidFill>
                  <a:srgbClr val="fc0128"/>
                </a:solidFill>
                <a:latin typeface="Courier New"/>
              </a:rPr>
              <a:t>radii[2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   =  ( re – rp ) / 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spice_recgeo, point, re, f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, 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9440" y="5235480"/>
            <a:ext cx="776268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llumination angles we want are the outputs of cspice_illum.  Units are radi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illum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6842-AE48-4892-B4E9-CD664D62B6B3}" type="slidenum">
              <a:t>10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5410080"/>
            <a:ext cx="8055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illum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oint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if else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6280" y="1336680"/>
            <a:ext cx="786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target body. `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 and cspice_vnorm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3720" y="1874880"/>
            <a:ext cx="77835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rfxpt, ‘Ellipsoid’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dist, trgepc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bspos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,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4120" y="2411280"/>
            <a:ext cx="8142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If an intercept is found, compute planetocentric and planetodetic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latitude and longitude of the po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928960"/>
            <a:ext cx="830592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then begin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reclat, point, r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clon, pc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Let re, rp, and f be the satellite's longer equa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radius, polar radius, and flattening fact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 =  radii[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 =  radii[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 =  ( re – rp ) / r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recgeo, point, re, f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a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920" y="502920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Compute illumination angles at the surface po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16000" y="380520"/>
            <a:ext cx="66549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ometry Calculations: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17016-8F1E-434D-B481-C2203204C6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90480" y="1596600"/>
            <a:ext cx="7996320" cy="465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de above used quite a few inputs that we don't have ye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DB epoch of interest (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and s/c name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, 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ellite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ixed fram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boresight vector in the 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of these values are user inputs; others can be obtained via CSPICE call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the required kernels have been load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prompt for the satellite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spacecraft 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instrumen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ime of interest 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, PROMPT='Enter satellite name  &gt; 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, PROMPT='Enter spacecraft name &gt; 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PROMPT='Enter instrument name &gt; 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, PROMPT='Enter time            &gt; 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271A3-5209-4247-BAAE-7DA16BA95F3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81240" y="380520"/>
            <a:ext cx="2724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 Inputs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3720" y="2890800"/>
            <a:ext cx="802656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1346040"/>
            <a:ext cx="810252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n we can get the rest of the inputs from Icy cal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TDB epoch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from the user-supplied time string (which m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 to the UTC, TDB or TT time system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tr2et,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2660760"/>
            <a:ext cx="7834320" cy="7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satellite’s ellipsoid radii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vrd, satnm, "RADII", 3, rad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720" y="3313080"/>
            <a:ext cx="78343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et the instrument boresight direction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nd the name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rument frame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n which it is defin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n2c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NOT found ) then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"Unable to determine ID for instrument: ", instnm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getfov, instid, ROOM, shap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bund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4B0C8-D350-45CB-AF35-E08EE8B44667}" type="slidenum">
              <a:t>13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380520"/>
            <a:ext cx="50497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Getting inputs:  summa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0160" y="5029200"/>
            <a:ext cx="758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n2c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getfov, instid, ROOM, shap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bund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08000" y="1371600"/>
            <a:ext cx="70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Prompt for the user-supplied inputs for our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10520" y="1600200"/>
            <a:ext cx="551484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MPT='Enter setup file name &gt; 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furnsh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, PROMPT='Enter satellite name 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, PROMPT='Enter spacecraft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MPT='Enter instrument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, PROMPT='Enter time           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276720"/>
            <a:ext cx="762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epoch corresponding to the input ti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8120" y="373392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tr2et,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8840" y="403848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radii of the satelli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434340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vr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"RADII", 3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9200" y="4724280"/>
            <a:ext cx="55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instrument boresight and frame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BE350-33A4-4E61-8FF3-CE187D9489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38320" y="380520"/>
            <a:ext cx="30178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splay result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1295280"/>
            <a:ext cx="78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Display results. Convert angles from radians to degrees for outp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522440"/>
            <a:ext cx="73850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centric longitude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pc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centric latitude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pcl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detic longitude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pd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detic latitude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pd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Range from spacecraft to intercept point (km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Range from spacecraft to target center   (km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vnorm(obsp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hase angle          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solar incidence angle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s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emission angle       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dpr()*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638680"/>
            <a:ext cx="7545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if else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No intercept point found at ' +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70B8-C1B4-4A3A-9581-DEE0FBFA53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90480" y="198432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finish up the program we need to declare the variables we've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highlight techniques used by NAIF programme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remaining IDL code required to make a syntactically valid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3116160" y="380520"/>
            <a:ext cx="44625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3962520"/>
            <a:ext cx="3504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CORR = ’CN+S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OM   = 10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upf = '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nm  = '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cnm   = '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nm = '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   = '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    = cspice_dp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4280" y="35812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 PROG_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068D-311C-487E-9F4B-EE10603E83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67040" y="380520"/>
            <a:ext cx="49593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1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4648320"/>
            <a:ext cx="708660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n2c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instid,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NOT found ) then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"Unable to determine ID for instrument: ", instnm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getfov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id, ROOM, shape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, 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nd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371600"/>
            <a:ext cx="732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Prompt for the user-supplied inputs for our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1600200"/>
            <a:ext cx="7467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MPT='Enter setup file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furnsh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, PROMPT='Enter satellite name 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, PROMPT='Enter spacecraft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MPT='Enter instrument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ti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, PROMPT='Enter time           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3048120"/>
            <a:ext cx="60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epoch corresponding to the input ti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3276720"/>
            <a:ext cx="333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tr2et, time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6576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radii of the satelli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38862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bodvr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'RADII', 3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ad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4267080"/>
            <a:ext cx="58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Get the instrument boresight and frame na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130FE-7688-465F-9283-298CC48971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4876920"/>
            <a:ext cx="80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illum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CORR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oint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pha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sol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6280" y="1235160"/>
            <a:ext cx="786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Compute the boresight ray intersection with the surfac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target body. `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’ and cspice_vnorm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yield desired ran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676520"/>
            <a:ext cx="759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rfxpt, 'Ellipsoid'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BCORR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scnm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d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obsp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4120" y="2238480"/>
            <a:ext cx="795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If an intercept is found, compute planetocentric and planetodetic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latitude and longitude of the po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666880"/>
            <a:ext cx="7848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 found ) then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reclat,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int, r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pc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pc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Let re, rp, and f be the satellite's longer equato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radius, polar radius, and flattening facto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 = radii[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p = radii[2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  = ( re - rp ) / 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recgeo, point, re, f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dlo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pdla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960" y="464832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Compute illumination angles at the surface po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63800" y="380520"/>
            <a:ext cx="495936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5638680"/>
            <a:ext cx="752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centric longitude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pc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95280" y="5181480"/>
            <a:ext cx="752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Display results.  Convert angles from radians to degre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for outp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80446-8F51-46CF-9006-1151360C77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73520" y="380520"/>
            <a:ext cx="49514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lete source code -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1600200"/>
            <a:ext cx="7758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centric latitude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pcl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detic longitude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pdl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lanetodetic latitude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pdl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Range from spacecraft to intercept point (km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Range from spacecraft to target center   (km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vnorm(obsp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phase angle          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solar incidence angle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so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Intercept emission angle                (deg):  ', 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2D*emis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5029200"/>
            <a:ext cx="777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if else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, 'No intercept point found at ' +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; Unload the kernels and clear the kernel p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kcl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22FA6-AD9D-45EA-A218-0B9337E5BF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05120" y="26665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is coding example is an “animated” presentation that is best viewed using PowerPoint set to “Slide Show” m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defined variables are displayed in red; results are displayed in b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236760" y="380520"/>
            <a:ext cx="42134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ewing This Tutorial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9019F-9FF6-476F-982D-C9641159A0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63040" cy="325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ough IDL functions in a manner similar to interpreted languages, it does compile source files to a binary for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sure that both the Icy Toolkit, and an IDL installation are properly installed. IDL must load the Icy DLM, icy.dlm/icy.so(dll) to compile those scripts containing Icy calls. IDL loads DLMs from default locations and from the current directory when the user ran IDL. The user may also explicitly load a DLM with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lm_regis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w compile the cod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3233520" y="380520"/>
            <a:ext cx="42145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F36EF-E9A7-4C66-BA51-08C82E864C1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380880" y="1447920"/>
            <a:ext cx="8501040" cy="4782960"/>
            <a:chOff x="380880" y="1447920"/>
            <a:chExt cx="8501040" cy="4782960"/>
          </a:xfrm>
        </p:grpSpPr>
        <p:grpSp>
          <p:nvGrpSpPr>
            <p:cNvPr id="228" name=""/>
            <p:cNvGrpSpPr/>
            <p:nvPr/>
          </p:nvGrpSpPr>
          <p:grpSpPr>
            <a:xfrm>
              <a:off x="380880" y="1447920"/>
              <a:ext cx="8501040" cy="4782960"/>
              <a:chOff x="380880" y="1447920"/>
              <a:chExt cx="8501040" cy="478296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80880" y="1447920"/>
                <a:ext cx="8501040" cy="4782960"/>
                <a:chOff x="380880" y="1447920"/>
                <a:chExt cx="8501040" cy="4782960"/>
              </a:xfrm>
            </p:grpSpPr>
            <p:grpSp>
              <p:nvGrpSpPr>
                <p:cNvPr id="230" name=""/>
                <p:cNvGrpSpPr/>
                <p:nvPr/>
              </p:nvGrpSpPr>
              <p:grpSpPr>
                <a:xfrm>
                  <a:off x="380880" y="1447920"/>
                  <a:ext cx="8501040" cy="4782960"/>
                  <a:chOff x="380880" y="1447920"/>
                  <a:chExt cx="8501040" cy="47829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380880" y="17384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66440" y="16336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80880" y="14479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80880" y="61484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66440" y="61470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10760" y="14781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3790080" y="14781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404640" y="3164040"/>
                <a:ext cx="299880" cy="2143080"/>
                <a:chOff x="404640" y="3164040"/>
                <a:chExt cx="299880" cy="214308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404640" y="3164040"/>
                  <a:ext cx="299880" cy="2143080"/>
                  <a:chOff x="404640" y="3164040"/>
                  <a:chExt cx="299880" cy="214308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17240" y="31719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404640" y="3164040"/>
                    <a:ext cx="299880" cy="2143080"/>
                    <a:chOff x="404640" y="3164040"/>
                    <a:chExt cx="299880" cy="214308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04640" y="31640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406080" y="53071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4" name=""/>
                <p:cNvGrpSpPr/>
                <p:nvPr/>
              </p:nvGrpSpPr>
              <p:grpSpPr>
                <a:xfrm>
                  <a:off x="547560" y="4213440"/>
                  <a:ext cx="46080" cy="42840"/>
                  <a:chOff x="547560" y="4213440"/>
                  <a:chExt cx="46080" cy="42840"/>
                </a:xfrm>
              </p:grpSpPr>
              <p:sp>
                <p:nvSpPr>
                  <p:cNvPr id="245" name=""/>
                  <p:cNvSpPr/>
                  <p:nvPr/>
                </p:nvSpPr>
                <p:spPr>
                  <a:xfrm>
                    <a:off x="547560" y="42134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549000" y="42148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404640" y="5504040"/>
                <a:ext cx="301680" cy="601560"/>
                <a:chOff x="404640" y="5504040"/>
                <a:chExt cx="301680" cy="60156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404640" y="5826240"/>
                  <a:ext cx="301680" cy="279360"/>
                  <a:chOff x="404640" y="5826240"/>
                  <a:chExt cx="301680" cy="2793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417240" y="58294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404640" y="5826240"/>
                    <a:ext cx="301680" cy="279360"/>
                    <a:chOff x="404640" y="5826240"/>
                    <a:chExt cx="301680" cy="2793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04640" y="58262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407880" y="61056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404640" y="5504040"/>
                  <a:ext cx="301680" cy="280800"/>
                  <a:chOff x="404640" y="5504040"/>
                  <a:chExt cx="301680" cy="280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417240" y="55087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404640" y="5504040"/>
                    <a:ext cx="301680" cy="280800"/>
                    <a:chOff x="404640" y="5504040"/>
                    <a:chExt cx="301680" cy="28080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404640" y="55040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407880" y="57848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8" name=""/>
                <p:cNvSpPr/>
                <p:nvPr/>
              </p:nvSpPr>
              <p:spPr>
                <a:xfrm>
                  <a:off x="514080" y="58993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12640" y="55785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434880" y="1494000"/>
              <a:ext cx="191880" cy="179280"/>
              <a:chOff x="434880" y="1494000"/>
              <a:chExt cx="191880" cy="179280"/>
            </a:xfrm>
          </p:grpSpPr>
          <p:sp>
            <p:nvSpPr>
              <p:cNvPr id="261" name=""/>
              <p:cNvSpPr/>
              <p:nvPr/>
            </p:nvSpPr>
            <p:spPr>
              <a:xfrm>
                <a:off x="441000" y="14940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434880" y="1498680"/>
                <a:ext cx="187200" cy="174600"/>
                <a:chOff x="434880" y="1498680"/>
                <a:chExt cx="187200" cy="174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34880" y="14986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39560" y="16732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482400" y="1533600"/>
                <a:ext cx="102960" cy="98280"/>
                <a:chOff x="482400" y="1533600"/>
                <a:chExt cx="102960" cy="982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82400" y="15336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82400" y="15336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" name=""/>
            <p:cNvGrpSpPr/>
            <p:nvPr/>
          </p:nvGrpSpPr>
          <p:grpSpPr>
            <a:xfrm>
              <a:off x="8613360" y="1503360"/>
              <a:ext cx="193680" cy="177840"/>
              <a:chOff x="8613360" y="1503360"/>
              <a:chExt cx="193680" cy="17784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8613360" y="1503360"/>
                <a:ext cx="193680" cy="177840"/>
                <a:chOff x="8613360" y="1503360"/>
                <a:chExt cx="193680" cy="1778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8619840" y="15033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8613360" y="1505160"/>
                  <a:ext cx="193680" cy="176040"/>
                  <a:chOff x="8613360" y="1505160"/>
                  <a:chExt cx="193680" cy="1760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8613360" y="15051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8621280" y="16812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8643600" y="1511280"/>
                <a:ext cx="138240" cy="152640"/>
                <a:chOff x="8643600" y="1511280"/>
                <a:chExt cx="138240" cy="1526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645400" y="15256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8643600" y="15112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7" name=""/>
          <p:cNvSpPr/>
          <p:nvPr/>
        </p:nvSpPr>
        <p:spPr>
          <a:xfrm>
            <a:off x="1030320" y="1905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2286000"/>
            <a:ext cx="495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Compiled module: PROG_GEOMET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4280" y="190512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compile prog_geometry.p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120400" y="380520"/>
            <a:ext cx="6450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ile and link the program - 2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7C0A-284F-420C-B776-DDF6707198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75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690480" y="1598760"/>
            <a:ext cx="7763040" cy="41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looks like we have everything taken care o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all necessary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made a setup file (metakernel) pointing to th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wrote the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mpiled the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t's run i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3214440" y="380520"/>
            <a:ext cx="42591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8577-635B-4AA4-8C6C-7B806AE6CDC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14440" y="380520"/>
            <a:ext cx="425916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Running the program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80880" y="1447920"/>
            <a:ext cx="8501040" cy="4782960"/>
            <a:chOff x="380880" y="1447920"/>
            <a:chExt cx="8501040" cy="4782960"/>
          </a:xfrm>
        </p:grpSpPr>
        <p:grpSp>
          <p:nvGrpSpPr>
            <p:cNvPr id="285" name=""/>
            <p:cNvGrpSpPr/>
            <p:nvPr/>
          </p:nvGrpSpPr>
          <p:grpSpPr>
            <a:xfrm>
              <a:off x="380880" y="1447920"/>
              <a:ext cx="8501040" cy="4782960"/>
              <a:chOff x="380880" y="1447920"/>
              <a:chExt cx="8501040" cy="478296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80880" y="1447920"/>
                <a:ext cx="8501040" cy="4782960"/>
                <a:chOff x="380880" y="1447920"/>
                <a:chExt cx="8501040" cy="47829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380880" y="1447920"/>
                  <a:ext cx="8501040" cy="4782960"/>
                  <a:chOff x="380880" y="1447920"/>
                  <a:chExt cx="8501040" cy="478296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380880" y="1738440"/>
                    <a:ext cx="8501040" cy="4491000"/>
                  </a:xfrm>
                  <a:prstGeom prst="rect">
                    <a:avLst/>
                  </a:prstGeom>
                  <a:solidFill>
                    <a:srgbClr val="6f6f6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766440" y="1633680"/>
                    <a:ext cx="8115480" cy="4597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80880" y="1447920"/>
                    <a:ext cx="8501040" cy="293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80880" y="6148440"/>
                    <a:ext cx="8501040" cy="82440"/>
                  </a:xfrm>
                  <a:prstGeom prst="rect">
                    <a:avLst/>
                  </a:prstGeom>
                  <a:solidFill>
                    <a:srgbClr val="ababa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640" bIns="35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66440" y="6147000"/>
                    <a:ext cx="7766280" cy="8388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10760" y="1478160"/>
                    <a:ext cx="8437680" cy="231840"/>
                  </a:xfrm>
                  <a:prstGeom prst="rect">
                    <a:avLst/>
                  </a:prstGeom>
                  <a:noFill/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3790080" y="1478160"/>
                  <a:ext cx="155592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Terminal Wind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04640" y="3164040"/>
                <a:ext cx="299880" cy="2143080"/>
                <a:chOff x="404640" y="3164040"/>
                <a:chExt cx="299880" cy="214308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404640" y="3164040"/>
                  <a:ext cx="299880" cy="2143080"/>
                  <a:chOff x="404640" y="3164040"/>
                  <a:chExt cx="299880" cy="21430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417240" y="3171960"/>
                    <a:ext cx="287280" cy="212256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404640" y="3164040"/>
                    <a:ext cx="299880" cy="2143080"/>
                    <a:chOff x="404640" y="3164040"/>
                    <a:chExt cx="299880" cy="214308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404640" y="3164040"/>
                      <a:ext cx="0" cy="213840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406080" y="530712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547560" y="4213440"/>
                  <a:ext cx="46080" cy="42840"/>
                  <a:chOff x="547560" y="4213440"/>
                  <a:chExt cx="46080" cy="4284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547560" y="4213440"/>
                    <a:ext cx="46080" cy="42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49000" y="4214880"/>
                    <a:ext cx="31680" cy="30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" name=""/>
              <p:cNvGrpSpPr/>
              <p:nvPr/>
            </p:nvGrpSpPr>
            <p:grpSpPr>
              <a:xfrm>
                <a:off x="404640" y="5504040"/>
                <a:ext cx="301680" cy="601560"/>
                <a:chOff x="404640" y="5504040"/>
                <a:chExt cx="301680" cy="60156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404640" y="5826240"/>
                  <a:ext cx="301680" cy="279360"/>
                  <a:chOff x="404640" y="5826240"/>
                  <a:chExt cx="301680" cy="27936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417240" y="582948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04640" y="5826240"/>
                    <a:ext cx="301680" cy="279360"/>
                    <a:chOff x="404640" y="5826240"/>
                    <a:chExt cx="301680" cy="27936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404640" y="58262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407880" y="610560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404640" y="5504040"/>
                  <a:ext cx="301680" cy="280800"/>
                  <a:chOff x="404640" y="5504040"/>
                  <a:chExt cx="301680" cy="280800"/>
                </a:xfrm>
              </p:grpSpPr>
              <p:sp>
                <p:nvSpPr>
                  <p:cNvPr id="311" name=""/>
                  <p:cNvSpPr/>
                  <p:nvPr/>
                </p:nvSpPr>
                <p:spPr>
                  <a:xfrm>
                    <a:off x="417240" y="5508720"/>
                    <a:ext cx="287280" cy="263520"/>
                  </a:xfrm>
                  <a:prstGeom prst="rect">
                    <a:avLst/>
                  </a:prstGeom>
                  <a:solidFill>
                    <a:srgbClr val="919191"/>
                  </a:solidFill>
                  <a:ln w="25560">
                    <a:solidFill>
                      <a:srgbClr val="081d5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04640" y="5504040"/>
                    <a:ext cx="301680" cy="280800"/>
                    <a:chOff x="404640" y="5504040"/>
                    <a:chExt cx="301680" cy="28080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404640" y="5504040"/>
                      <a:ext cx="0" cy="2746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407880" y="5784840"/>
                      <a:ext cx="29844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5" name=""/>
                <p:cNvSpPr/>
                <p:nvPr/>
              </p:nvSpPr>
              <p:spPr>
                <a:xfrm>
                  <a:off x="514080" y="589932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4" y="0"/>
                      </a:moveTo>
                      <a:lnTo>
                        <a:pt x="0" y="79"/>
                      </a:lnTo>
                      <a:lnTo>
                        <a:pt x="72" y="79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12640" y="5578560"/>
                  <a:ext cx="115920" cy="127080"/>
                </a:xfrm>
                <a:custGeom>
                  <a:avLst/>
                  <a:gdLst/>
                  <a:ahLst/>
                  <a:rect l="l" t="t" r="r" b="b"/>
                  <a:pathLst>
                    <a:path w="73" h="80">
                      <a:moveTo>
                        <a:pt x="35" y="79"/>
                      </a:moveTo>
                      <a:lnTo>
                        <a:pt x="0" y="0"/>
                      </a:lnTo>
                      <a:lnTo>
                        <a:pt x="72" y="0"/>
                      </a:lnTo>
                      <a:lnTo>
                        <a:pt x="35" y="79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" name=""/>
            <p:cNvGrpSpPr/>
            <p:nvPr/>
          </p:nvGrpSpPr>
          <p:grpSpPr>
            <a:xfrm>
              <a:off x="434880" y="1494000"/>
              <a:ext cx="191880" cy="179280"/>
              <a:chOff x="434880" y="1494000"/>
              <a:chExt cx="191880" cy="179280"/>
            </a:xfrm>
          </p:grpSpPr>
          <p:sp>
            <p:nvSpPr>
              <p:cNvPr id="318" name=""/>
              <p:cNvSpPr/>
              <p:nvPr/>
            </p:nvSpPr>
            <p:spPr>
              <a:xfrm>
                <a:off x="441000" y="1494000"/>
                <a:ext cx="185760" cy="172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434880" y="1498680"/>
                <a:ext cx="187200" cy="174600"/>
                <a:chOff x="434880" y="1498680"/>
                <a:chExt cx="187200" cy="1746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34880" y="1498680"/>
                  <a:ext cx="0" cy="169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39560" y="1673280"/>
                  <a:ext cx="182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82400" y="1533600"/>
                <a:ext cx="102960" cy="98280"/>
                <a:chOff x="482400" y="1533600"/>
                <a:chExt cx="102960" cy="982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82400" y="1533600"/>
                  <a:ext cx="102960" cy="98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2400" y="1533600"/>
                  <a:ext cx="102960" cy="190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8613360" y="1503360"/>
              <a:ext cx="193680" cy="177840"/>
              <a:chOff x="8613360" y="1503360"/>
              <a:chExt cx="193680" cy="1778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8613360" y="1503360"/>
                <a:ext cx="193680" cy="177840"/>
                <a:chOff x="8613360" y="1503360"/>
                <a:chExt cx="193680" cy="1778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619840" y="1503360"/>
                  <a:ext cx="187200" cy="171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8" name=""/>
                <p:cNvGrpSpPr/>
                <p:nvPr/>
              </p:nvGrpSpPr>
              <p:grpSpPr>
                <a:xfrm>
                  <a:off x="8613360" y="1505160"/>
                  <a:ext cx="193680" cy="176040"/>
                  <a:chOff x="8613360" y="1505160"/>
                  <a:chExt cx="193680" cy="17604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613360" y="1505160"/>
                    <a:ext cx="0" cy="1699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8621280" y="1681200"/>
                    <a:ext cx="1857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1" name=""/>
              <p:cNvGrpSpPr/>
              <p:nvPr/>
            </p:nvGrpSpPr>
            <p:grpSpPr>
              <a:xfrm>
                <a:off x="8643600" y="1511280"/>
                <a:ext cx="138240" cy="152640"/>
                <a:chOff x="8643600" y="1511280"/>
                <a:chExt cx="138240" cy="15264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645400" y="1525680"/>
                  <a:ext cx="13644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8643600" y="1511280"/>
                  <a:ext cx="1364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4" name=""/>
          <p:cNvSpPr/>
          <p:nvPr/>
        </p:nvSpPr>
        <p:spPr>
          <a:xfrm>
            <a:off x="992160" y="1828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2095560"/>
            <a:ext cx="7772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etup file name &gt; setup.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atellite name  &gt; tit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spacecraft name &gt; cass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instrument name &gt; cassini_iss_n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time            &gt; 2005 feb 15 8:15 U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ongitude      (deg):    -156.44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centric latitude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ongitude        (deg):    -156.44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lanetodetic latitude         (deg):     18.7885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intercept point (km):     4810.9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ge from spacecraft to target center   (km):     7384.32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phase angle                   (deg):     43.2745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solar incidence angle         (deg):     41.0384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cept emission angle                (deg):     2.51461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30960" y="1828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g_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8C5C-A2CD-40A9-AB84-08E0EDBFCB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3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-231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itude defin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centric latitude of a point P:  angle between segment from origin to point and x-y plane (red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todetic latitude of a point P: angle between x-y plane and extension of ellipsoid normal vector N that connects x-y plane and P (blue arc in diagram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545000" y="380520"/>
            <a:ext cx="15955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Backup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12880" y="3621240"/>
            <a:ext cx="0" cy="24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-842760" y="4429080"/>
            <a:ext cx="6911280" cy="32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651040" y="3544920"/>
            <a:ext cx="2881440" cy="2457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303800" y="3544920"/>
            <a:ext cx="1228680" cy="249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17000" y="3181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16440" y="6002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08240" y="4964040"/>
            <a:ext cx="251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ence ellips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7748000">
            <a:off x="4957560" y="4616280"/>
            <a:ext cx="280800" cy="3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508200" y="5278320"/>
            <a:ext cx="184140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12880" y="6041880"/>
            <a:ext cx="4916520" cy="38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448160" y="61466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y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66000" y="45277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23240" y="397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56200" y="5227560"/>
            <a:ext cx="1840680" cy="159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55" y="412"/>
                </a:moveTo>
                <a:arcTo wR="10800" hR="10800" stAng="-4447321" swAng="4394163"/>
                <a:lnTo>
                  <a:pt x="10800" y="10800"/>
                </a:lnTo>
                <a:close/>
              </a:path>
              <a:path fill="none" w="21600" h="21600">
                <a:moveTo>
                  <a:pt x="13755" y="412"/>
                </a:moveTo>
                <a:arcTo wR="10800" hR="10800" stAng="-4447321" swAng="4394163"/>
              </a:path>
            </a:pathLst>
          </a:cu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11320" y="5554080"/>
            <a:ext cx="144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centr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76640" y="5626800"/>
            <a:ext cx="1343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etodetic latitu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DF4B-6FA1-4686-B450-DF73D1C4D88A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90120" y="1355760"/>
            <a:ext cx="8170920" cy="49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let's go over the important steps in the process of writing a Icy-based program and putting it to work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stand the geometry probl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set of SPICE kernels that contain the data needed to perform the comput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ulate an algorithm to compute the quantities of interest using SP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and compile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 actual kernel files and verify that they contain the data needed to support the computation for the time(s) of interes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the progra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llustrate these steps, let's write a program that computes the apparent intersection of the boresight ray of a given CASSINI science instrument with the  surface of a given Saturnian satellite.   The program will compute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tocentric and planetodetic (geodetic) latitudes and longitudes of the intercept point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nge from spacecraft to intercept point and from spacecraft to target cen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umination angles (phase, solar incidence, and emission) at the intercept poin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095360" y="380520"/>
            <a:ext cx="249732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0E24C-68F1-41F7-9F84-A7F395FF0C3C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11520" y="1393920"/>
            <a:ext cx="4730760" cy="5110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63520" y="534528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what mode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0760" y="1239840"/>
            <a:ext cx="3970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ant the bore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ept on the surface,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/c to intercept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, and illumination angles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rcept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3880" y="29718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9480" y="3548160"/>
            <a:ext cx="24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hat objec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6600" y="411012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ich instru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8680" y="4724280"/>
            <a:ext cx="31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spacecraf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3200" y="30160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IME (UTC, TDB or 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72640" y="358632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A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82920" y="4110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ST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04080" y="47242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C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81240" y="53355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TUP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24080" y="380520"/>
            <a:ext cx="444024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Observation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99640" y="431172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3535400">
            <a:off x="6702840" y="4039920"/>
            <a:ext cx="1126440" cy="108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4229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42293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6080" y="5656320"/>
            <a:ext cx="601560" cy="587160"/>
          </a:xfrm>
          <a:custGeom>
            <a:avLst/>
            <a:gdLst>
              <a:gd name="textAreaLeft" fmla="*/ 137160 w 601560"/>
              <a:gd name="textAreaRight" fmla="*/ 464400 w 601560"/>
              <a:gd name="textAreaTop" fmla="*/ 133920 h 587160"/>
              <a:gd name="textAreaBottom" fmla="*/ 453240 h 587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032440" y="4657680"/>
            <a:ext cx="2458800" cy="13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35520" y="389088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491240" y="3312720"/>
            <a:ext cx="844560" cy="13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51320" y="300672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29680" y="35082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618600">
            <a:off x="6406560" y="3690360"/>
            <a:ext cx="19047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43" y="14"/>
                </a:moveTo>
                <a:arcTo wR="10800" hR="10800" stAng="-5577502" swAng="5577502"/>
                <a:lnTo>
                  <a:pt x="10800" y="10800"/>
                </a:lnTo>
                <a:close/>
              </a:path>
              <a:path fill="none" w="21600" h="21600">
                <a:moveTo>
                  <a:pt x="10243" y="14"/>
                </a:moveTo>
                <a:arcTo wR="10800" hR="10800" stAng="-5577502" swAng="5577502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7091000">
            <a:off x="6918480" y="4196880"/>
            <a:ext cx="1380960" cy="127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981" y="698"/>
                </a:moveTo>
                <a:arcTo wR="10800" hR="10800" stAng="-6642670" swAng="6642670"/>
                <a:lnTo>
                  <a:pt x="10800" y="10800"/>
                </a:lnTo>
                <a:close/>
              </a:path>
              <a:path fill="none" w="21600" h="21600">
                <a:moveTo>
                  <a:pt x="6981" y="698"/>
                </a:moveTo>
                <a:arcTo wR="10800" hR="10800" stAng="-6642670" swAng="6642670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911480" y="2888280"/>
            <a:ext cx="2032560" cy="2208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1080" y="62456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A6FE-743A-40DE-A1FF-473A026BDD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52880" y="380520"/>
            <a:ext cx="258912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Needed Data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41760" y="1528920"/>
            <a:ext cx="3708360" cy="4281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6280" y="2322360"/>
            <a:ext cx="45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transformation ker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s of satellites,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hemerides for spacecraf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n barycenter and satell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40200" y="5079960"/>
            <a:ext cx="601920" cy="587520"/>
          </a:xfrm>
          <a:custGeom>
            <a:avLst/>
            <a:gdLst>
              <a:gd name="textAreaLeft" fmla="*/ 137160 w 601920"/>
              <a:gd name="textAreaRight" fmla="*/ 464760 w 601920"/>
              <a:gd name="textAreaTop" fmla="*/ 133920 h 587520"/>
              <a:gd name="textAreaBottom" fmla="*/ 453600 h 587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eaec5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10400" y="33904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97240" y="3160800"/>
            <a:ext cx="941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rface norm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148360" y="4235400"/>
            <a:ext cx="2457360" cy="115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35520" y="3505320"/>
            <a:ext cx="1264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cc33"/>
                </a:solidFill>
                <a:latin typeface="Arial"/>
              </a:rPr>
              <a:t>solar incidenc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618600">
            <a:off x="6549120" y="331668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23160" y="3160800"/>
            <a:ext cx="94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emission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535400">
            <a:off x="6779880" y="3642480"/>
            <a:ext cx="1123560" cy="108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74" y="6"/>
                </a:moveTo>
                <a:arcTo wR="10800" hR="10800" stAng="-5280924" swAng="5280924"/>
                <a:lnTo>
                  <a:pt x="10800" y="10800"/>
                </a:lnTo>
                <a:close/>
              </a:path>
              <a:path fill="none" w="21600" h="21600">
                <a:moveTo>
                  <a:pt x="11174" y="6"/>
                </a:moveTo>
                <a:arcTo wR="10800" hR="10800" stAng="-5280924" swAng="5280924"/>
              </a:path>
            </a:pathLst>
          </a:custGeom>
          <a:noFill/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75960" y="4043520"/>
            <a:ext cx="80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63de8"/>
                </a:solidFill>
                <a:latin typeface="Arial"/>
              </a:rPr>
              <a:t>phase ang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674000">
            <a:off x="7396200" y="3688200"/>
            <a:ext cx="8744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93" y="487"/>
                </a:moveTo>
                <a:arcTo wR="10800" hR="10800" stAng="-6436356" swAng="5907042"/>
                <a:lnTo>
                  <a:pt x="10800" y="10800"/>
                </a:lnTo>
                <a:close/>
              </a:path>
              <a:path fill="none" w="21600" h="21600">
                <a:moveTo>
                  <a:pt x="7593" y="487"/>
                </a:moveTo>
                <a:arcTo wR="10800" hR="10800" stAng="-6436356" swAng="5907042"/>
              </a:path>
            </a:pathLst>
          </a:custGeom>
          <a:noFill/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554800" y="2754720"/>
            <a:ext cx="1581120" cy="186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57720" y="56970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97F8-E9ED-42A5-A36F-47ABD94C26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55760"/>
            <a:ext cx="8534160" cy="473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quired to compute vectors, rotations and other parameters shown in the picture are stored in the SPICE kernels listed below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 these kernels have been selected to support this presentation; they should not be assumed to be appropriate for user application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rameter                   Kernel Type      File n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--------------     --------------   -----------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me conversions            generic LS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naif0008.t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SSINI SCLK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sini.ts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orientation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shape             generic PCK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pck00008.tp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lite position          planet/s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hemeris SP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020514_SE_SAT105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anet barycenter position  planet SP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981005_PLTEPH-DE405S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position         spacecraft SPK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tour9201.bs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acecraft orientation      spacecraft C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050215.b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alignment        CASSINI FK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v37.t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trument boresight        Instrument IK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cas_iss_v09.t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647720" y="380520"/>
            <a:ext cx="739944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Which kinds of kernels are needed?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4404-369D-48E6-AF30-70D6AA3D37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340760" y="6562800"/>
            <a:ext cx="1801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682640"/>
            <a:ext cx="845820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asiest and most flexible way to make these kernels available to the program is via cspice_furnsh. For this example we make a setup file (also called a “metakernel” or “furnsh kernel”) containing a list of kernels to be load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ERNELS_TO_LOAD = (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naif0008.tls',             'cassini.tsc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pck00008.tpc',             '020514_SE_SAT105.bsp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981005_PLTEPH-DE405S.bsp', 'tour9201.bsp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050215.bc',            'cas_v37.tf'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                       </a:t>
            </a:r>
            <a:r>
              <a:rPr b="1" lang="en-US" sz="1400" spc="-1" strike="noStrike">
                <a:solidFill>
                  <a:srgbClr val="919191"/>
                </a:solidFill>
                <a:latin typeface="Courier New"/>
              </a:rPr>
              <a:t>'cas_iss_v09.ti'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\begi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we make the program prompt for the name of this setup fi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MPT='Enter setup file name &gt; 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furnsh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etup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26240" y="378000"/>
            <a:ext cx="26330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Load ker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4520" y="2629080"/>
            <a:ext cx="7624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te:  these kernels have been selected to support this presentation; they should not be assumed to be appropriate for user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B503C-97EC-4084-8D18-9BFEDFAD41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90600" y="380520"/>
            <a:ext cx="4506840" cy="89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Soluti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3720" y="1355760"/>
            <a:ext cx="776304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setup file (“metakernel”) name; load kernels specified via setup file. (Done on previous char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pt for user inputs required to completely specify problem.  Obtain further inputs required by geometry routines via Icy cal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section of the boresight direction ray with the surface of the satellite, presented as a triaxial ellipsoi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re is an intersec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t Cartesian coordinates of the intersection point to planetocentric latitudinal and planetodetic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spacecraft-to-intercept point range and spacecraft-to-target cent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d the illumination angles (phase, solar incidence, and emission) at the intercept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play the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discuss the geometric portion of the problem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5F250-29A5-43B0-B9DA-83537DEB5637}" type="slidenum">
              <a:t>8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432080"/>
            <a:ext cx="807696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 the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f the instrument boresight vector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satellite’s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surface at the TDB time of interest (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  This cal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so returns the distance between the spacecraft and intercept point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ight-time corrected epoch at the intercept point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the targe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-to-spacecraft vector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, and a boolean flag indicating wheth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tercept was found (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ote: undefined variables are in red; results are in blu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spice_srfxpt, ‘Ellipsoid’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at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e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‘CN+S’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scn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fr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$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nsi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point, dist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gepc,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 obspos, fou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706480" y="380520"/>
            <a:ext cx="5275080" cy="474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200" bIns="2520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ompute surface intercep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0040" y="4311720"/>
            <a:ext cx="7750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anges we want are obtained from the outputs of cspice_srfxpt.  These outputs are defined only if a surface  intercept is found.  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fou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ecraft-to-surface intercept range is the output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dis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ecraft-to-target center range is the norm of the output argument </a:t>
            </a: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obspo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s are km.  We use the Icy function cspice_vnorm to obtain the nor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63de8"/>
                </a:solidFill>
                <a:latin typeface="Courier New"/>
              </a:rPr>
              <a:t>cspice_vnorm( obspos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'll write out the range data along with the other program resul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riting an Icy-based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A1D0-41D1-4F22-AF29-E13A3C9B6F40}" type="slidenum">
              <a:t>9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rles Acton</cp:lastModifiedBy>
  <cp:lastPrinted>2004-04-30T00:36:05Z</cp:lastPrinted>
  <dcterms:modified xsi:type="dcterms:W3CDTF">2007-10-12T23:45:10Z</dcterms:modified>
  <cp:revision>467</cp:revision>
  <dc:subject/>
  <dc:title>Writing a FORTRAN SPICE Based Program </dc:title>
</cp:coreProperties>
</file>