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2BFB-E660-4C1B-85AD-9BF6E8A14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C797-100D-417E-9C54-BED4E179D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96785-9964-4B6B-95F5-7CE80C37C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A0870-C680-45C6-817A-1EE35C143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7368-E586-4A9C-9B9B-9150BBA90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454F-E5D8-4698-8E5A-7FA5D599F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9FDF-E1B5-462E-9232-06D78516D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7FC7-F5A5-49AF-B412-1985AD247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B524-0322-46E5-AC10-13245D882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6B94-1BD0-4F28-B32A-FB5E0E299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A3E8-D9D6-42EC-815A-5FE13E2F9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58C1F-A97A-4164-9AAE-3382753F71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3BC7-092E-44F1-9128-CE67331ADA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24120" y="2491920"/>
            <a:ext cx="36576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aking a CK fil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38480" y="380520"/>
            <a:ext cx="62625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Setup File Keywor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K_FILE_NAME           = 'LSK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LK_FILE_NAME          = 'SCLK file’ (or MAKE_FAKE_SCLK=‘new SCLK file’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FRAMES_FILE_NAME        = 'FRAMES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COMMENTS_FILE_NAME      = 'file containing comment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DUCER_ID             = 'producer group/person nam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ERNAL_FILE_NAME      = 'internal file name str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_SEGMENT_ID           = 'segment ID str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_TYPE                 = 1, 2, or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STRUMENT_ID           = CK 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FERENCE_FRAME_NAME    = 'reference frame nam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XIMUM_VALID_INTERVAL  = interval length, seco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TIME_TYPE         = 'SCLK', 'UTC', 'TICKS’, ‘DPSCLK’, or ‘ET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TIME_CORRECTION         = bias to be applied to input times, seco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        = 'MSOP QUATERNIONS', 'SPICE QUATERNIONS'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ULER ANGLES', or 'MATRIC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QUATERNION_NORM_ERROR   = maximum normalization err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ANGLE_UNITS       = 'DEGREES' or 'RADIA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ROTATIONS_ORDER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EULER_ROTATIONS_TYPE    = 'BODY' or 'SPACE'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GULAR_RATE_PRESENT    = 'YES', 'NO', 'MAKE UP', 'MAKE UP/NO AVERAGING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ANGULAR_RATE_FRAME      = 'REFERENCE' or 'INSTRUMENT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ANGULAR_RATE_THRESHOLD  = ( max X rate, max Y rate, max Z rate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ANGLES  = (  angle3,  angle2,  angle1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AXES 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940e"/>
                </a:solidFill>
                <a:latin typeface="Courier New"/>
              </a:rPr>
              <a:t>OFFSET_ROTATION_UNITS   = 'DEGREES' or 'RADIA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219320"/>
            <a:ext cx="68580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133720"/>
            <a:ext cx="685800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3657600"/>
            <a:ext cx="6858000" cy="31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13716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219320"/>
            <a:ext cx="12952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uppo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Kernels/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Output 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p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Inpu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2"/>
                </a:solidFill>
                <a:latin typeface="Arial"/>
              </a:rPr>
              <a:t>Sp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-25560" y="5791320"/>
            <a:ext cx="2057400" cy="733320"/>
            <a:chOff x="-25560" y="5791320"/>
            <a:chExt cx="2057400" cy="733320"/>
          </a:xfrm>
        </p:grpSpPr>
        <p:sp>
          <p:nvSpPr>
            <p:cNvPr id="139" name=""/>
            <p:cNvSpPr/>
            <p:nvPr/>
          </p:nvSpPr>
          <p:spPr>
            <a:xfrm>
              <a:off x="50760" y="5791320"/>
              <a:ext cx="1882800" cy="730080"/>
            </a:xfrm>
            <a:prstGeom prst="roundRect">
              <a:avLst>
                <a:gd name="adj" fmla="val 16667"/>
              </a:avLst>
            </a:prstGeom>
            <a:solidFill>
              <a:srgbClr val="d7d7d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25560" y="579132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40e"/>
                  </a:solidFill>
                  <a:latin typeface="Courier New"/>
                </a:rPr>
                <a:t>Optional keywords are shown in gre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731D-1B16-4CB5-AEBB-3C0047AAB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1728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6887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SPICE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QCOS QSIN1 QSIN2 QSIN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....... .... ..... ..... .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QCOS QSIN1 QSIN2 QSIN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MSOP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-QSIN1 -QSIN2 -QSIN3 QCOS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.......  .....  .....  ..... 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-QSIN1 -QSIN2 -QSIN3 QCOS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EULER ANGL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 ...... .... .... .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_DATA_TYPE = 'MATRIC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file: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M11 M12 M13 M21 ... M3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..  ...... ... ... ... ... ... ...  ... ... 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1 [TIME2] M11 M12 M13 M21 ... M33 [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057400"/>
            <a:ext cx="4800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3282840"/>
            <a:ext cx="5085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5680" y="4481640"/>
            <a:ext cx="40384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46200" y="5705640"/>
            <a:ext cx="487692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06040" y="12193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85C1-3EEC-4696-98CB-3AD3ED4EED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1260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tern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_DATA_TYPE=‘SPICE QUATERNIONS’ indicates the quaternions being used follow the SPICE formation rules(*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PUT_DATA_TYPE=‘MSOP QUATERNIONS’ indicates the quaternions being used follow the traditional AACS formation rules(*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ly quaternions that come in telemetry are of this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TERNION_NORM_ERROR keyword may be used to identify and filter out input records with quaternions that are not unit v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t a tolerance for comparing the norm of the input quaternion with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ler 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three angles must be provi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e angles provided on the input 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1 [TIME2] ANG3 ANG2 ANG1 [ ARX ARY ARZ 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rotation axes specified in the setup 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ULER_ROTATIONS_ORDER   = ( ’axis3’, ’axis2’, ’axis1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matrix rotating vectors from base to the structure frame is computed a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st = [ANG3]axis3 * [ANG2]axis2 * [ANG1]axis1 * Vr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les can be provided in degrees or radia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477120"/>
            <a:ext cx="731520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*) NAIF prepared and provides on request a “white paper” explaining differences between various quaternion sty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4D7C-4B52-482D-A50B-54CB4D8DA3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14400" y="380520"/>
            <a:ext cx="5319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Input Details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gular rates are an optional input. Their presence or absence must be indicated using the ANGULAR_RATE_PRESENT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ngular rates are provided (ANGULAR_RATE_PRESENT=‘YES’), they must be in a form of 3d vector expressed either in the base frame (less common) or structure frame (more comm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NGULAR_RATE_FRAME keyword must be set to indicate which of the two is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angular rates are not provided, the program can either make a CK without rates (ANGULAR_RATE_PRESENT=‘NO’), or try to compute rates from the orientation data by using uniform rotation algorithm implemented in Type 3 CK, either with averaging (ANGULAR_RATE_PRESENT=‘MAKE UP’) or without averaging (ANGULAR_RATE_PRESENT=‘MAKE UP/NO AVERAGING’) of the rates computed for adjacent orientation data poi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_RATE_THRESHOLD may be used to identify and filter out input records with angular rate components that are too large to be re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ata can be tagged with UTC, SCLK, or SCLK ticks, specified using the INPUT_TIME_TYP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 tags must not have embedded sp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3764-4B97-44FE-8F44-A5ACA1E70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98760" y="380520"/>
            <a:ext cx="5772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Output Details (1)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generate Type 1, 2, or 3 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1 is rarely used - only in cases when the input contains very few data points that are far apart so that interpolation between them make no sen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2 is also rarely used, primarily to package orientation for spinn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ly the input for making Type 2 CKs should contain two times and the angular rate in each rec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 3 is the most commonly used output type because it provides interpolation between the orientation data points stored in the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olation intervals are determined based on the threshold value specified in the MAXIMUM_VALID_INTERVAL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hreshold interval is given in seco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put Type 3 CK will allow interpolation between all input points that are less than or equal to the thresho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dditional transformation to be combined with the input attitude may be specified using OFFSET_ROTATION_</a:t>
            </a:r>
            <a:r>
              <a:rPr b="1" lang="en-US" sz="3600" spc="-1" strike="noStrike" baseline="-17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keywo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ntion for specification of the offset rotation angles is the same as for the input Euler ang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vector defined in the base frame is first multiplied by the offset ro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inst = [ROTinput] * [ROToffset] * Vre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B3C4B-DB79-4BD0-BEDA-07AF7DC5BD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44840" y="380520"/>
            <a:ext cx="56592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Output Detail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times may be adjusted by a constant value specified in seconds using TIME_CORRECTION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utput CK file contains one or more CK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segments are generated if the input data volume is large and does not fit into the program’s internal buffer (100,000 pointing record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the output file has many segments, each segment’s start time is equal to the stop time of the previous segment, i.e. there are no gaps at the segment bound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ment area of the output CK contains the following inform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of the comment file, if it was specified using the COMMENT_FILE_NAME keyw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ents of the setup fi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y of coverage for each segment written to the file, including a table listing interpolation intervals for segments of Type 2 or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E51D-38EA-4D81-8032-B71779DE22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158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166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172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setup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setup for predict M'01 CK gener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ER_ID             = ’NAIF/JPL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SK_FILE_NAME           = 'naif0007.tl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CLK_FILE_NAME          = 'ORB1_SCLKSCET.00001.tsc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MENTS_FILE_NAME      = 'msopck_comments.examp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NAL_FILE_NAME      = 'sample M01 SC Orientation CK Fil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_SEGMENT_ID           = 'SAMPLE M01 SC BUS ATTITUD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STRUMENT_ID           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FERENCE_FRAME_NAME    = 'MARSIAU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_TYPE                 =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XIMUM_VALID_INTERVAL  =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_TIME_TYPE         = ’SCLK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_DATA_TYPE         = 'MSOP QUATERNION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ATERNION_NORM_ERROR   = 1.0E-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GULAR_RATE_PRESENT    = 'MAKE UP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3946-00E9-4F50-92E2-5B1D98BFF1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193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01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07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comments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mple Mars Surveyor '01 Orbiter Spacecraft Orientation CK F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entation Data in the Fi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 file contains sample orientation for the Mars Surveyor ‘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biter (M01) spacecraft frame, 'M01_SPACECRAFT', rel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o the Mars Mean Equator and IAU vector of J2000, 'MARSIAU', inerti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rame. The NAIF ID code for the 'M01_SPACECRAFT' frame is -5300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is file is a special sample C-Kernel file created by NAIF to illustra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program. This file should not be used for any other purp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4F41-6279-4C38-BF20-446413AAFCE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228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42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re msopck_input.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68.064    -0.24376335     0.68291384     0.28475901     0.626993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2.114    -0.24249471     0.68338563     0.28591829     0.6264432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3.242    -0.24204185     0.68355329     0.28633291     0.6262460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74.064    -0.24194814     0.68358228     0.28641744     0.6262119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80.064    -0.24012676     0.68424169     0.28807922     0.62543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86.064    -0.23830473     0.68489895     0.28973563     0.6246419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92.064    -0.23648008     0.68555126     0.29139303     0.6238483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398.064    -0.23465389     0.68620253     0.29304524     0.623047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4.064    -0.23282999     0.68684150     0.29470173     0.6222458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4.114    -0.23277293     0.68686688     0.29475362     0.622214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05.242    -0.23231585     0.68702790     0.29516507     0.622012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10.064    -0.23100059     0.68748174     0.29634561     0.6214393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16.064    -0.22917353     0.68811325     0.29799308     0.620628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22.064    -0.22734161     0.68874177     0.29963482     0.619814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28.064    -0.22551078     0.68936246     0.30128030     0.618994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4.064    -0.22367453     0.68998299     0.30291779     0.6181698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6.114    -0.22300583     0.69021050     0.30351804     0.6178629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767491438.011    -0.22251770     0.69037871     0.30395477     0.6176363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3096720" y="380520"/>
            <a:ext cx="45529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3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EBDE-307F-462F-8A1E-47B7F4B88F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263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271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277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sopck msopck_setup.example msopck_input.example msopck_example_ck.b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SOPCK Utility Program, Version 3.0.0, 2003-05-05; SPICE Toolkit Ver. N005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file content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etup file contents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UN-TIME OBTAINED META INFORM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ODUCT_CREATION_TIME = 2004-04-29T12:17: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RT_TIME            = 2004-04-27T00:00:05.51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OP_TIME             = 2004-04-27T23:59:56.2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RPOLATION INTERVALS IN THE FILE SEGMENT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***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G.SUMMARY: ID -53000, COVERG: 2004-04-27T00:00:05.516 2004-04-27T23:59:56.27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4-04-27T00:00:05.516    2004-04-27T20:05:26.28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04-04-27T20:11:20.278    2004-04-27T23:59:56.27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98880" y="380520"/>
            <a:ext cx="45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 - Example (4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3E588-A229-4B3F-9F67-54BCD5CE905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12952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provides means to create CK files either by packaging orientation computed elsewhere or by first computing orientation and then packaging it in a CK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aging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ready exis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ientation data can be done in two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PICE CK writer routines by calling them from within a SPICE-based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a text file containing attitude data to a CK using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uting as well as packag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ientation can be done in two 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SPICE geometry routines and CK writer routines by calling them from within a SPICE-based applic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ng attitude using SPICE routines is not discussed he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orientation rules and schedules to a CK using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366800" y="380520"/>
            <a:ext cx="1979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1D229-BEFE-454C-B5DF-1C6AFDD45FE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60600" y="380520"/>
            <a:ext cx="2205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2280" y="152388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rogram for making CK files from a set of orientation specification rules, and schedules defining when these rules are to be fo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 simple command line interfac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s orientation and schedule specification to be provided in a setup file that follows the SPICE text kernel synt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s all supporting kernels -- SPK, PCK, etc -- to be provided in a meta-ker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192A-B6EE-423F-AC34-FD4167D648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5080" y="380520"/>
            <a:ext cx="37828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Usag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diCk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the following command line arg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ediCkt -furnish support_dat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spec ck_spec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ck outfi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tol fit_tolerance [units]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&lt;sclk|newsclk&gt; sclk_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furnish’, ‘-spec’ and ‘-ck’ are used to specify the input meta-kernel, input attitude specification file and output CK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ol’ is used to specify the tolerance to which the orientation stored in the CK should match the specified attitude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clk’ and ‘-newsclk’ specify the name of an existing SCLK or the new “fake” SCLK to be created for use with the output 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740FE-B059-40C4-A5A7-CA2F15DB5E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28520" y="380520"/>
            <a:ext cx="6986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Furnsh and Spec Fil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6201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“FURNSH” kernel lists SPICE kernels that are to be used by prediCkt to determine geometry needed to compute ori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ediCkt attitude specification (spec) file follows the text kernel syntax and provides three types of infor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dynamic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orientations based on these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ation of the schedules defining when those orientations should be follow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tents of the FURNSH kernel and the spec file are included in the comment area of the output CK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9DAA-86A1-441F-BB40-3A4207B045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00320" y="380520"/>
            <a:ext cx="45496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Direc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91920" y="1447560"/>
            <a:ext cx="79182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directions can be of the following typ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ephemeris (position vectors, velocity vector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 with respect to a frame (expressed as Cartesian vector or specified by RA and DE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ards sub-observer poi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the surface normal and lines of constant latitude or longitu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 on other, already defined directions (rotated from them, computed as cross products using them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two sets of spec file keyword assignments specify nadir and spacecraft velocity directions for M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'ToMars     = POSITION OF MARS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01 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'scVelocity = VELOCITY OF M01  -' )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ARS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1C36-C4C7-41F0-98CC-AAADC183EF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00520" y="380520"/>
            <a:ext cx="4954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Orientation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ientation is specified b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that one of the frames axes (+X,+Y,+Z,-X,-Y,-Z) points exactly along one of the defined dir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ng that another frame axis points as closely as possible to another defined 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ird axis is the cross product of the first tw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ing the base frame with respect to which the orientation of this “constructed” frame is to b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spec file keyword assignments specify the nominal nadir orientation for THEMIS, flown on M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IENTATION_NAME     += '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MARY              += '+Z = 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CONDARY            += '+Y = scVelocity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SE_FRAME           += 'J2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C914-1D88-4855-BA7D-677B2A25D6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79200" y="380520"/>
            <a:ext cx="52023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Schedules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91856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chedule is defined by specifying a series of time intervals during which a given orientation is to be foll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ach interval for a given CK ID the spec file defines the orientation name, start time, and stop time (as Ephemeris Tim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these spec file keyword assignments specify a schedule with a single window during which M01 will yield nadir-pointed orientation for THEM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SCLK               =  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SPK                = -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FRAMES            +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ORIENTATION  += 'SOLUTION TO M01_THEMIS_IR = 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START        += @2004-FEB-10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K-53000STOP         += @2004-FEB-15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065A-9997-4A05-95E0-16E3EC7E87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79200" y="380520"/>
            <a:ext cx="52023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Schedule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918560" cy="473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xample on the previous sli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FRAMES keyword specifies the CK ID to be used in the output 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D is incorporated into the keywords defining the schedule interv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SCLK keyword specifies the ID of the SCLK to be used in creating the 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-SPK keyword specifies the ID of the object, the position of which is used in applying light time correction when orientation is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 TO” construct specifies that although the orientation is sought for the M01 spacecraft frame (ID -53000), it is computed for the camera frame (M01_THEMIS_IR) and then transformed to be for the spacecraft fr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9895-243D-4571-901F-F4B5441C416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312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320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 m01_map_nadir.prediCk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'ToMars     = POSITION OF MARS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01 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'scVelocity = VELOCITY OF M01  -' )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FROM MARS        -'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RECTION_SPECS      += (              'CORRECTION NONE'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RIENTATION_NAME     += '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MARY              += '+Z = 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           += '+Y = scVelocity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ASE_FRAME           += 'J2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SCLK               =  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SPK                = -5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FRAMES            += -53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ORIENTATION  += 'SOLUTION TO M01_THEMIS_IR = CameratoMar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START        += @2004-FEB-10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K-53000STOP         += @2004-FEB-15-00: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957400" y="380520"/>
            <a:ext cx="4843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Example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ABF3-FEB6-492B-87D0-ADA86C8AEF6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152280" y="1265400"/>
            <a:ext cx="8839440" cy="5287680"/>
            <a:chOff x="152280" y="1265400"/>
            <a:chExt cx="8839440" cy="5287680"/>
          </a:xfrm>
        </p:grpSpPr>
        <p:sp>
          <p:nvSpPr>
            <p:cNvPr id="347" name=""/>
            <p:cNvSpPr/>
            <p:nvPr/>
          </p:nvSpPr>
          <p:spPr>
            <a:xfrm>
              <a:off x="152280" y="1587600"/>
              <a:ext cx="8839440" cy="4964040"/>
            </a:xfrm>
            <a:prstGeom prst="rect">
              <a:avLst/>
            </a:prstGeom>
            <a:solidFill>
              <a:srgbClr val="6f6f6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880" y="1469880"/>
              <a:ext cx="8610840" cy="508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280" y="1265400"/>
              <a:ext cx="8839440" cy="322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280" y="6464160"/>
              <a:ext cx="8839440" cy="88920"/>
            </a:xfrm>
            <a:prstGeom prst="rect">
              <a:avLst/>
            </a:prstGeom>
            <a:solidFill>
              <a:srgbClr val="ababa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2600" y="6462720"/>
              <a:ext cx="8073720" cy="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4320" y="1297080"/>
              <a:ext cx="8770680" cy="2570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90360" y="1292400"/>
              <a:ext cx="15559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erminal Wind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58760" y="2598840"/>
              <a:ext cx="216000" cy="2368440"/>
              <a:chOff x="158760" y="2598840"/>
              <a:chExt cx="216000" cy="2368440"/>
            </a:xfrm>
          </p:grpSpPr>
          <p:sp>
            <p:nvSpPr>
              <p:cNvPr id="355" name=""/>
              <p:cNvSpPr/>
              <p:nvPr/>
            </p:nvSpPr>
            <p:spPr>
              <a:xfrm>
                <a:off x="168120" y="2606760"/>
                <a:ext cx="206640" cy="23461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8760" y="2598840"/>
                <a:ext cx="0" cy="2363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200" y="496728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62080" y="3755880"/>
                <a:ext cx="3312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3520" y="3757680"/>
                <a:ext cx="20520" cy="36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55520" y="5799240"/>
              <a:ext cx="219240" cy="663480"/>
              <a:chOff x="155520" y="5799240"/>
              <a:chExt cx="219240" cy="663480"/>
            </a:xfrm>
          </p:grpSpPr>
          <p:sp>
            <p:nvSpPr>
              <p:cNvPr id="361" name=""/>
              <p:cNvSpPr/>
              <p:nvPr/>
            </p:nvSpPr>
            <p:spPr>
              <a:xfrm>
                <a:off x="165240" y="6157800"/>
                <a:ext cx="209520" cy="29052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5520" y="6153120"/>
                <a:ext cx="0" cy="304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60200" y="646272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5240" y="5805360"/>
                <a:ext cx="209520" cy="289080"/>
              </a:xfrm>
              <a:prstGeom prst="rect">
                <a:avLst/>
              </a:prstGeom>
              <a:solidFill>
                <a:srgbClr val="919191"/>
              </a:solidFill>
              <a:ln w="255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5520" y="5799240"/>
                <a:ext cx="0" cy="303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60200" y="6108840"/>
                <a:ext cx="214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35080" y="6234120"/>
                <a:ext cx="87120" cy="141120"/>
              </a:xfrm>
              <a:custGeom>
                <a:avLst/>
                <a:gdLst/>
                <a:ahLst/>
                <a:rect l="l" t="t" r="r" b="b"/>
                <a:pathLst>
                  <a:path w="55" h="89">
                    <a:moveTo>
                      <a:pt x="26" y="0"/>
                    </a:moveTo>
                    <a:lnTo>
                      <a:pt x="0" y="88"/>
                    </a:lnTo>
                    <a:lnTo>
                      <a:pt x="54" y="88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5080" y="5880240"/>
                <a:ext cx="85680" cy="142560"/>
              </a:xfrm>
              <a:custGeom>
                <a:avLst/>
                <a:gdLst/>
                <a:ahLst/>
                <a:rect l="l" t="t" r="r" b="b"/>
                <a:pathLst>
                  <a:path w="54" h="90">
                    <a:moveTo>
                      <a:pt x="25" y="89"/>
                    </a:moveTo>
                    <a:lnTo>
                      <a:pt x="0" y="0"/>
                    </a:lnTo>
                    <a:lnTo>
                      <a:pt x="53" y="0"/>
                    </a:lnTo>
                    <a:lnTo>
                      <a:pt x="25" y="89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16000" y="1316160"/>
              <a:ext cx="190440" cy="1886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8080" y="1319040"/>
              <a:ext cx="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760" y="1512720"/>
              <a:ext cx="190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840" y="1359000"/>
              <a:ext cx="104760" cy="11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8840" y="1359000"/>
              <a:ext cx="104760" cy="2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720280" y="1325520"/>
              <a:ext cx="191880" cy="19044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712360" y="1327320"/>
              <a:ext cx="0" cy="18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20280" y="1521000"/>
              <a:ext cx="19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51960" y="1357200"/>
              <a:ext cx="12996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750160" y="1344600"/>
              <a:ext cx="130320" cy="15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0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t m01_map_nadir.furnsh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ERNELS_TO_LOAD = ( 'naif0007.tls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_v26.tf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ar033-5.bsp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_map_rec.bsp'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'm01.tsc' 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ediCkt -furnish m01_map_nadir.furnsh -spec m01_map_nadir.prediCkt -ck m01_map_nadir.bc -tol 0.01 degrees -sclk m01.tsc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egin Segment: 1 --- SOLUTION TO M01_THEMIS_IR = CameratoMar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nstructing Segmen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rom: 2004 FEB 10 00:00:00.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 : 2004 FEB 15 00:00:00.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 0.0%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 5.0 %    (50 quatern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rcentage finished:  95.0 %    (925 quaternion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2957400" y="380520"/>
            <a:ext cx="48434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EDICKT - Example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AAB48-162F-4FFF-844D-AEEF42630846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38360" y="380520"/>
            <a:ext cx="38498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K Writer Routin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ICE toolkit provides the following CK writer routin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1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1 / ckw01_c / cspice_ckw0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2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2 / ckw02_c / cspice_ckw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3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3 / ckw03_c / cspice_ckw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4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4B, CKW04A, CKW04E (no CSPICE, Icy, or Mice wrapp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ype 5 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W05 / ckw05_c (no Icy or Mice wrappe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Type 3 writer is discussed in this tuto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rs for Types 1 and 2 have very similar interfa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s 4 and 5 are are not commonly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F81C3-7AF8-4EE8-BE67-CB40B8E13B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07800" y="380520"/>
            <a:ext cx="4729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Exampl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2280" y="1374840"/>
            <a:ext cx="8146800" cy="51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ollowing code fragment illustrates the creation of a Type 3 C-kernel having a single seg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opn_c ( filename, “my-ckernel”, 0, &amp;hand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ert code that properly constructs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lkdp, quats, avvs, and starts array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w03_c ( handle, begtim, endtim, inst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erence_frame”, avflag, “segment_id”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rec, sclkdp, quats, avvs, nints, starts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kcls_c ( hand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35BB-4D6F-4CEE-AA59-9FBC4D92B6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78040" y="380520"/>
            <a:ext cx="5378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</a:t>
            </a:r>
            <a:r>
              <a:rPr b="1" lang="en-US" sz="3200" spc="-1" strike="noStrike">
                <a:solidFill>
                  <a:srgbClr val="081d58"/>
                </a:solidFill>
                <a:latin typeface="Courier New"/>
              </a:rPr>
              <a:t>ckw03_c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6880" y="1599840"/>
            <a:ext cx="7999560" cy="504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nd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file handle for the newly created C-kern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egtim, endt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start and stop times in SCLK ticks for the seg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instrument ID code for the C-kern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name of the reference or base frame that is known to SPI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iceBool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dicating whether or not to include angular velocity in the seg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g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string identifying the segment. It should be less than 40 characters in leng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D242-C1C7-4E1A-B242-DB077B31E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78040" y="380520"/>
            <a:ext cx="5378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</a:t>
            </a:r>
            <a:r>
              <a:rPr b="1" lang="en-US" sz="3200" spc="-1" strike="noStrike">
                <a:solidFill>
                  <a:srgbClr val="081d58"/>
                </a:solidFill>
                <a:latin typeface="Courier New"/>
              </a:rPr>
              <a:t>ckw03_c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50800"/>
            <a:ext cx="8534520" cy="519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r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number of record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monotonically increasing list of times, given in SCLK ticks, that identify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sampl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qu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list of SPICE quaternions that rotate vectors from the frame specified b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gument to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2q_c ( C_matrix, quaterion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gular rate vectors given in the frame specified by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gu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a list of SCLK ticks indicating the start of interpolation intervals.  They must correspond to entrie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lk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i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number of entries in star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01A8-B678-4082-AFFC-CA7EBD183C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39920" y="380520"/>
            <a:ext cx="626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Making Up Rate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7240" y="1374840"/>
            <a:ext cx="7772400" cy="517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easiest ways to accomplish this is to assume a constant rotation rate between subsequent quatern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k=0; k&lt;(nrec-1); k++ )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2m_c ( quats[k][0], init_ro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q2m_c ( quats[k+1][0], final_ro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txm_c ( final_rot, init_rot, rotma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xisa_c ( rotmat, axis, &amp;angle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_c ( scid, sclkdp[k], &amp;init_e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t2e_c ( scid, sclkdp[k+1], &amp;final_et 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scl_c ( angle/(final_et-init_et), axi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avvs[k][0] );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opy the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rec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valu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the last elemen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vv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06800" y="6491160"/>
            <a:ext cx="202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s on next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D973F-747B-4D00-ACA2-D029A4AA5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11240" y="380520"/>
            <a:ext cx="69357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ype 3 Writer - Making Up Rates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7240" y="1676520"/>
            <a:ext cx="777240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ng angular rates in this fashion assumes that no more than a 180-degree rotation has occurred between adjacent quaternions.  In shor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xisa_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oses the smallest angle that performs the rotation encapsulated in the input matri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echniques exist, including differentiating quaternions.  Care must be exercised when taking that particular approach, howev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47BBB-040F-434B-BF0B-105342D149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04960" y="380520"/>
            <a:ext cx="1911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SOPCK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2280" y="1447560"/>
            <a:ext cx="814680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rogram for making CK files from orientation provided as a time tagged, space-delimited table in a text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process quaternions (SPICE and non-SPICE flavors), Euler angles, or matrixes, tagged with UTC, SCLK, or 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all setups to be provided in a setup file that follows the SPICE text kernel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sop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a simple command line interface with the following u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sopck setup_file input_data_file output_ck_file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utput CK already exists, new segment(s) are appended t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king a CK Fil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06ED7-4E06-4D73-B83A-FDA8D5CA28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6-02-19T00:42:37Z</cp:lastPrinted>
  <dcterms:modified xsi:type="dcterms:W3CDTF">2007-10-12T23:44:14Z</dcterms:modified>
  <cp:revision>115</cp:revision>
  <dc:subject/>
  <dc:title>SPICELIB Utilities and Applications</dc:title>
</cp:coreProperties>
</file>