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58288" cy="6872288"/>
  <p:notesSz cx="70088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E9E8-1430-4EA3-BE9C-CE37090B2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07DC-5A38-4640-A028-8D2CC9514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F453F-87F6-4BDB-8A19-AB8AE492D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C3990-2C1F-415C-808B-09C5D8B596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16956-4252-4230-BA13-48364B7DC3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64CFB-F75A-49F1-B28E-B49514065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99B65-3DB0-4B70-8D07-8E3D904C9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712F-DF59-4131-BB92-B333973B4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145BB-9E35-435F-BFFE-CCEB47B2CE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832BE-1D59-4321-A9BA-56F9EA32D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994FF-4ADE-4139-9FAA-15ADB5B0F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1C807-A251-44BA-B49D-6DA995B48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700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4BF4-ACD6-4FF6-A0F0-923E5DE8D86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9400" y="2742840"/>
            <a:ext cx="64278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Event Finding Subsyste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47920" y="4723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159000" y="371520"/>
            <a:ext cx="26560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ield-of-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eld-of-view detection algorithm identifies configurations where an instrument field-of-view intersects or contains a body of interest. The instrument’s field-of-view properties are defined in a SPICE instrument kern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ield-of-view detection algorithms answer questions of the form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iven a time interval [t1, t2] and a body, at what times within [t1, t2] does the body intersect the instrument field-of-view?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Can I see it, if so, when?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order to answer questions of the form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iven a time interval [t1, t2] and a set of bodies, which bodies will intersect the instrument field-of-view across [t1, t2]?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What can I see?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user performs a field-of-view search over [t1, t2] for each bod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4B18E-7FB0-4C68-BBBD-43BA78302E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9000" y="380520"/>
            <a:ext cx="2340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Numeric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merical event detection algorithms identify configurations where a particular scalar geometric quantity satisfies some relationship, as defined by an operator and a reference value, or a unary opera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ic quantiti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gular separation: observed angular separation between limb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gular speed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gnitude of angular velocity of apparent target about an observ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gular rate: the time derivative of 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arent angular separ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arent angular diamet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: ||r||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 rate: d(||r||)/d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ongation angle: Sun-observer-target ang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ase angle: observer-target-Sun ang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rdinate: an element of the position vector in a particular coordinate system and reference frame. The position vector is defined as either “observer to target” or “sub observer point on target.”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rdinate systems and the corresponding coordinat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TANGULA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YLINDRICAL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GITUD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ODETIC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GITUD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TITUD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TITU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ITUDINAL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GITUD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/DEC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IGHT_ASCENSION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LIN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HERICAL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G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LATITUDE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18360" y="6548400"/>
            <a:ext cx="18511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inued on the next p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6D1E6-6C41-4B48-92F3-C8071FF6FA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375000" y="380520"/>
            <a:ext cx="2340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Numeric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ble operator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quantity &gt; reference_valu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quantity = reference_valu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quantity &lt; reference_valu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SMA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quantity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SMI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quantity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MA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quantity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MI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quantity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detectable events using a numeric event sear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apsis or closest approac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mum distance between a body and center or between two bod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oap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imum distance between a body and cen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inting constra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ular separation between the look direction and Sun dire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undary confin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vehicle sub-point on a body lies within a latitude/longitude ran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de crossi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coordinate of a body position in equator based frame equals ze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C04A-CBE7-4700-8EF8-0B68C3181D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5680" y="380520"/>
            <a:ext cx="29718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indows Math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vents subsystem uses the SPICE windows data type as an input, named the confinement window, to define the time intervals to search. A window is also used as an output, named the result window, during which the event of interest occu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are collections of zero or more ordered, disjoint intervals of double precision numbers. The event finder subsystem uses windows to define the initial search times and final result tim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oolkit contains a family of routines for creating windows and performing “set arithmetic” on them (union, intersection, difference, etc.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indows based implementation allows a user to perform multiple searches where the window result of one search is used as the input (confinement) for the next, either to satisfy a restriction on multiple conditions or as a refinement proc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, the physics of a multi-event geometry may be such that the search for one event will proceed faster than another and markedly reduce the measure of the search space for the next search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78BEC-9D4E-448E-8414-7BAA2254CC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64120" y="380520"/>
            <a:ext cx="23860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xample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interval for which the subpoint of a vehicle passes through a latitude/longitude “box.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2760" y="3137040"/>
            <a:ext cx="3200400" cy="3124080"/>
          </a:xfrm>
          <a:prstGeom prst="ellipse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52760" y="4432320"/>
            <a:ext cx="32004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81160" y="1460520"/>
            <a:ext cx="7124760" cy="5397480"/>
          </a:xfrm>
          <a:custGeom>
            <a:avLst/>
            <a:gdLst/>
            <a:ahLst/>
            <a:rect l="l" t="t" r="r" b="b"/>
            <a:pathLst>
              <a:path w="4488" h="3400">
                <a:moveTo>
                  <a:pt x="312" y="3400"/>
                </a:moveTo>
                <a:cubicBezTo>
                  <a:pt x="156" y="2028"/>
                  <a:pt x="0" y="656"/>
                  <a:pt x="696" y="328"/>
                </a:cubicBezTo>
                <a:cubicBezTo>
                  <a:pt x="1392" y="0"/>
                  <a:pt x="2940" y="716"/>
                  <a:pt x="4488" y="1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152960" y="397476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52960" y="3974760"/>
            <a:ext cx="9907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152960" y="359388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52960" y="359388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57880" y="359424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914720" y="359424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57880" y="3594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33840" y="3975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533840" y="2298240"/>
            <a:ext cx="457200" cy="1295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991040" y="2603520"/>
            <a:ext cx="762120" cy="1371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33840" y="3594240"/>
            <a:ext cx="457200" cy="3808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3962520"/>
            <a:ext cx="28954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rch first for time intervals with the restriction on the subpoint latitude, then use the result window as the confinement window for a restriction search on the subpoint longitu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26DEC-0B7B-4284-B014-CD7DBFB9D2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64120" y="380520"/>
            <a:ext cx="23860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xample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intervals for which an orbiter passes in line-of-sight of a station, with a local elevation above 30 degrees, with a maximum distance of 30000 k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3137040"/>
            <a:ext cx="3200400" cy="3124080"/>
          </a:xfrm>
          <a:prstGeom prst="ellipse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4432320"/>
            <a:ext cx="32004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048120" y="359424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3898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123720" y="3898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1160" y="1460520"/>
            <a:ext cx="7124760" cy="5397480"/>
          </a:xfrm>
          <a:custGeom>
            <a:avLst/>
            <a:gdLst/>
            <a:ahLst/>
            <a:rect l="l" t="t" r="r" b="b"/>
            <a:pathLst>
              <a:path w="4488" h="3400">
                <a:moveTo>
                  <a:pt x="312" y="3400"/>
                </a:moveTo>
                <a:cubicBezTo>
                  <a:pt x="156" y="2028"/>
                  <a:pt x="0" y="656"/>
                  <a:pt x="696" y="328"/>
                </a:cubicBezTo>
                <a:cubicBezTo>
                  <a:pt x="1392" y="0"/>
                  <a:pt x="2940" y="716"/>
                  <a:pt x="4488" y="1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1523880" y="3435480"/>
            <a:ext cx="1828800" cy="45072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1752120" y="2514240"/>
            <a:ext cx="1600200" cy="13842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2895480" y="1841040"/>
            <a:ext cx="457200" cy="20574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048120" y="1828800"/>
            <a:ext cx="304560" cy="2070000"/>
          </a:xfrm>
          <a:prstGeom prst="line">
            <a:avLst/>
          </a:prstGeom>
          <a:ln w="3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3962520"/>
            <a:ext cx="28954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arch first for time intervals where station-target distance is less-than 30000 km then use that result window as the confinement window for a search to determine when elevation is greater-than 30 degre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A3A22-29A7-4FC8-B4FD-4CBCA2B8E2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7000" y="14475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ltation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-of-View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eric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dow M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3863520" y="380520"/>
            <a:ext cx="1436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p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0C766-83BF-4191-A343-5FF7D198CFC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7000" y="14475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NAIF team is working to add a new subsystem to the SPICE Toolkits. This subsystem is designed to identify the times or time intervals of particular geometric ev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SPICE, Icy, and Mice will include some or all event finding functionalit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vent subsystem algorithms detect four types of ev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l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-of-Vie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eric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irst three types describe a specific set of geometric conditions identified with the corresponding type name. The fourth type describes a geometric quantity satisfying a numeric relationshi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IF has not determined a release date for the sub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611520" y="380520"/>
            <a:ext cx="1935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071C0-90BC-4FCB-B958-4AE14592041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clipse detection algorithm identifies twelve eclipse configurations (as observed from the eclipsed body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 models assume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pher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hape for eclipser and eclipsed bodies.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ph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oint ob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an represent the illumination sour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3580920" y="380520"/>
            <a:ext cx="2024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clipse -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41C1B-2571-435C-9980-5B52FB2110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21366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clipse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3038400"/>
            <a:ext cx="167652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3495600"/>
            <a:ext cx="761760" cy="7621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048120" y="2581200"/>
            <a:ext cx="5486400" cy="2362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3191040"/>
            <a:ext cx="304920" cy="304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2733840"/>
            <a:ext cx="304920" cy="304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2276640"/>
            <a:ext cx="304920" cy="304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3724200"/>
            <a:ext cx="30456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372420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402912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057040" y="3876480"/>
            <a:ext cx="6553080" cy="9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057400" y="2886120"/>
            <a:ext cx="6477120" cy="99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85440" y="3876840"/>
            <a:ext cx="7924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2657520"/>
            <a:ext cx="5562720" cy="2362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4120" y="220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4120" y="265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4120" y="309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4120" y="363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7640" y="416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8840" y="3556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12952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75248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09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2880" y="129528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3240" y="17524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2160" y="2209680"/>
            <a:ext cx="21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herical illuminati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60" y="5105520"/>
            <a:ext cx="8329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: Eclipsed body in full illu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: Eclipsed body partially illuminated, partially in the penum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: Eclipsed body exclusively in the penumb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: Eclipsed body completely in the umbra (NAIF defines this state as also in the penumbra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: Eclipsed body fully in penumbra with complete umbral shadow on 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: Eclipsed body partially in penumbral and partially in umbral reg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F441B-0771-4F28-BBBA-E6CEF1B924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21366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clipse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3809880"/>
            <a:ext cx="30456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3809880"/>
            <a:ext cx="6858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819520"/>
            <a:ext cx="2209680" cy="2286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3962520"/>
            <a:ext cx="304920" cy="304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895120" y="3429000"/>
            <a:ext cx="5791320" cy="53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3962520"/>
            <a:ext cx="5791320" cy="533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838080" y="3429000"/>
            <a:ext cx="7543800" cy="1371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837720" y="3124080"/>
            <a:ext cx="7543800" cy="1371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61760" y="3962520"/>
            <a:ext cx="784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90680" y="417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5520" y="3657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2520" y="287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594400"/>
            <a:ext cx="81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: Eclipsed body partially illuminated with the penumbral shadow completely on body, no umbral sha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: Eclipsed body in illuminated, penumbral, and umbral regions with full umbral shadow on 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: Eclipsed body in illuminated, penumbral, and umbral regions without full umbral shadow on 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2952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5248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209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2880" y="129528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3240" y="17524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2160" y="2209680"/>
            <a:ext cx="21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herical illuminati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CEB72-8D8E-4EDF-AE7E-139AA33875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21366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clipse -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3809880"/>
            <a:ext cx="30456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35053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2819520"/>
            <a:ext cx="2286000" cy="2286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85440" y="3962520"/>
            <a:ext cx="7924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38080" y="3429000"/>
            <a:ext cx="7467840" cy="1371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837720" y="3124080"/>
            <a:ext cx="7543800" cy="1371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895120" y="3429000"/>
            <a:ext cx="5715000" cy="53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3962520"/>
            <a:ext cx="5791320" cy="533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720" y="27432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65164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: Eclipsed body partially illuminated with the penumbral and umbral shadows both fully on 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2952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75248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209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2880" y="129528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3240" y="17524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2160" y="2209680"/>
            <a:ext cx="21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herical illuminati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5859B-93F9-4532-BB13-89884A99BF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01720" y="380520"/>
            <a:ext cx="21366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Eclipse - 5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844800"/>
            <a:ext cx="609840" cy="6098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361620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006720"/>
            <a:ext cx="2286000" cy="2286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85440" y="4149720"/>
            <a:ext cx="7924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980720" y="3616200"/>
            <a:ext cx="6248520" cy="53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980720" y="4149720"/>
            <a:ext cx="6248520" cy="53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6760" y="2930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58240" y="34639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2952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752480"/>
            <a:ext cx="304920" cy="304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2880" y="129528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3240" y="175248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clipse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2520" y="2209680"/>
            <a:ext cx="183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int illumination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5533920"/>
            <a:ext cx="815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: Eclipsed body partially illuminated with full umbral shadow on body, no penumbral sha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: Eclipsed body partially illuminated, partially in the umbra shadow, no penumbral sha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, these configurations exist only for point illumination sour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2800" y="2133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2440" y="39211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C6ADC-3C00-4987-9A67-52E04BE6AB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52680" y="380520"/>
            <a:ext cx="23623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cculta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ccultation detection algorithm identifies configurations with a triaxial ellipsoid modeling the occulting body. A triaxial ellipsoid or point object models the occulted bod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44480" y="2819520"/>
            <a:ext cx="108000" cy="1080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495680"/>
            <a:ext cx="1600200" cy="15242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4800600"/>
            <a:ext cx="838080" cy="685800"/>
          </a:xfrm>
          <a:custGeom>
            <a:avLst/>
            <a:gdLst/>
            <a:ahLst/>
            <a:rect l="l" t="t" r="r" b="b"/>
            <a:pathLst>
              <a:path w="685" h="685">
                <a:moveTo>
                  <a:pt x="342" y="0"/>
                </a:moveTo>
                <a:lnTo>
                  <a:pt x="360" y="0"/>
                </a:lnTo>
                <a:lnTo>
                  <a:pt x="378" y="2"/>
                </a:lnTo>
                <a:lnTo>
                  <a:pt x="395" y="4"/>
                </a:lnTo>
                <a:lnTo>
                  <a:pt x="412" y="7"/>
                </a:lnTo>
                <a:lnTo>
                  <a:pt x="428" y="11"/>
                </a:lnTo>
                <a:lnTo>
                  <a:pt x="444" y="15"/>
                </a:lnTo>
                <a:lnTo>
                  <a:pt x="460" y="21"/>
                </a:lnTo>
                <a:lnTo>
                  <a:pt x="475" y="27"/>
                </a:lnTo>
                <a:lnTo>
                  <a:pt x="490" y="34"/>
                </a:lnTo>
                <a:lnTo>
                  <a:pt x="506" y="41"/>
                </a:lnTo>
                <a:lnTo>
                  <a:pt x="520" y="49"/>
                </a:lnTo>
                <a:lnTo>
                  <a:pt x="534" y="58"/>
                </a:lnTo>
                <a:lnTo>
                  <a:pt x="548" y="68"/>
                </a:lnTo>
                <a:lnTo>
                  <a:pt x="560" y="78"/>
                </a:lnTo>
                <a:lnTo>
                  <a:pt x="573" y="89"/>
                </a:lnTo>
                <a:lnTo>
                  <a:pt x="585" y="100"/>
                </a:lnTo>
                <a:lnTo>
                  <a:pt x="596" y="112"/>
                </a:lnTo>
                <a:lnTo>
                  <a:pt x="607" y="125"/>
                </a:lnTo>
                <a:lnTo>
                  <a:pt x="617" y="138"/>
                </a:lnTo>
                <a:lnTo>
                  <a:pt x="627" y="151"/>
                </a:lnTo>
                <a:lnTo>
                  <a:pt x="636" y="165"/>
                </a:lnTo>
                <a:lnTo>
                  <a:pt x="644" y="179"/>
                </a:lnTo>
                <a:lnTo>
                  <a:pt x="652" y="194"/>
                </a:lnTo>
                <a:lnTo>
                  <a:pt x="659" y="209"/>
                </a:lnTo>
                <a:lnTo>
                  <a:pt x="665" y="224"/>
                </a:lnTo>
                <a:lnTo>
                  <a:pt x="670" y="240"/>
                </a:lnTo>
                <a:lnTo>
                  <a:pt x="675" y="257"/>
                </a:lnTo>
                <a:lnTo>
                  <a:pt x="678" y="274"/>
                </a:lnTo>
                <a:lnTo>
                  <a:pt x="681" y="290"/>
                </a:lnTo>
                <a:lnTo>
                  <a:pt x="684" y="307"/>
                </a:lnTo>
                <a:lnTo>
                  <a:pt x="685" y="325"/>
                </a:lnTo>
                <a:lnTo>
                  <a:pt x="685" y="342"/>
                </a:lnTo>
                <a:lnTo>
                  <a:pt x="685" y="360"/>
                </a:lnTo>
                <a:lnTo>
                  <a:pt x="684" y="378"/>
                </a:lnTo>
                <a:lnTo>
                  <a:pt x="681" y="395"/>
                </a:lnTo>
                <a:lnTo>
                  <a:pt x="678" y="411"/>
                </a:lnTo>
                <a:lnTo>
                  <a:pt x="675" y="428"/>
                </a:lnTo>
                <a:lnTo>
                  <a:pt x="670" y="444"/>
                </a:lnTo>
                <a:lnTo>
                  <a:pt x="665" y="460"/>
                </a:lnTo>
                <a:lnTo>
                  <a:pt x="659" y="475"/>
                </a:lnTo>
                <a:lnTo>
                  <a:pt x="652" y="490"/>
                </a:lnTo>
                <a:lnTo>
                  <a:pt x="644" y="506"/>
                </a:lnTo>
                <a:lnTo>
                  <a:pt x="636" y="520"/>
                </a:lnTo>
                <a:lnTo>
                  <a:pt x="627" y="534"/>
                </a:lnTo>
                <a:lnTo>
                  <a:pt x="617" y="547"/>
                </a:lnTo>
                <a:lnTo>
                  <a:pt x="607" y="560"/>
                </a:lnTo>
                <a:lnTo>
                  <a:pt x="596" y="573"/>
                </a:lnTo>
                <a:lnTo>
                  <a:pt x="585" y="584"/>
                </a:lnTo>
                <a:lnTo>
                  <a:pt x="573" y="596"/>
                </a:lnTo>
                <a:lnTo>
                  <a:pt x="560" y="606"/>
                </a:lnTo>
                <a:lnTo>
                  <a:pt x="548" y="616"/>
                </a:lnTo>
                <a:lnTo>
                  <a:pt x="534" y="626"/>
                </a:lnTo>
                <a:lnTo>
                  <a:pt x="520" y="635"/>
                </a:lnTo>
                <a:lnTo>
                  <a:pt x="506" y="644"/>
                </a:lnTo>
                <a:lnTo>
                  <a:pt x="490" y="652"/>
                </a:lnTo>
                <a:lnTo>
                  <a:pt x="475" y="658"/>
                </a:lnTo>
                <a:lnTo>
                  <a:pt x="460" y="664"/>
                </a:lnTo>
                <a:lnTo>
                  <a:pt x="444" y="670"/>
                </a:lnTo>
                <a:lnTo>
                  <a:pt x="428" y="674"/>
                </a:lnTo>
                <a:lnTo>
                  <a:pt x="412" y="678"/>
                </a:lnTo>
                <a:lnTo>
                  <a:pt x="395" y="681"/>
                </a:lnTo>
                <a:lnTo>
                  <a:pt x="378" y="683"/>
                </a:lnTo>
                <a:lnTo>
                  <a:pt x="360" y="685"/>
                </a:lnTo>
                <a:lnTo>
                  <a:pt x="342" y="685"/>
                </a:lnTo>
                <a:lnTo>
                  <a:pt x="325" y="685"/>
                </a:lnTo>
                <a:lnTo>
                  <a:pt x="308" y="683"/>
                </a:lnTo>
                <a:lnTo>
                  <a:pt x="291" y="681"/>
                </a:lnTo>
                <a:lnTo>
                  <a:pt x="274" y="678"/>
                </a:lnTo>
                <a:lnTo>
                  <a:pt x="257" y="674"/>
                </a:lnTo>
                <a:lnTo>
                  <a:pt x="240" y="670"/>
                </a:lnTo>
                <a:lnTo>
                  <a:pt x="225" y="664"/>
                </a:lnTo>
                <a:lnTo>
                  <a:pt x="209" y="658"/>
                </a:lnTo>
                <a:lnTo>
                  <a:pt x="194" y="652"/>
                </a:lnTo>
                <a:lnTo>
                  <a:pt x="179" y="644"/>
                </a:lnTo>
                <a:lnTo>
                  <a:pt x="165" y="635"/>
                </a:lnTo>
                <a:lnTo>
                  <a:pt x="151" y="626"/>
                </a:lnTo>
                <a:lnTo>
                  <a:pt x="138" y="616"/>
                </a:lnTo>
                <a:lnTo>
                  <a:pt x="125" y="606"/>
                </a:lnTo>
                <a:lnTo>
                  <a:pt x="112" y="596"/>
                </a:lnTo>
                <a:lnTo>
                  <a:pt x="100" y="584"/>
                </a:lnTo>
                <a:lnTo>
                  <a:pt x="89" y="573"/>
                </a:lnTo>
                <a:lnTo>
                  <a:pt x="78" y="560"/>
                </a:lnTo>
                <a:lnTo>
                  <a:pt x="68" y="547"/>
                </a:lnTo>
                <a:lnTo>
                  <a:pt x="58" y="534"/>
                </a:lnTo>
                <a:lnTo>
                  <a:pt x="50" y="520"/>
                </a:lnTo>
                <a:lnTo>
                  <a:pt x="41" y="506"/>
                </a:lnTo>
                <a:lnTo>
                  <a:pt x="34" y="490"/>
                </a:lnTo>
                <a:lnTo>
                  <a:pt x="27" y="475"/>
                </a:lnTo>
                <a:lnTo>
                  <a:pt x="21" y="460"/>
                </a:lnTo>
                <a:lnTo>
                  <a:pt x="16" y="444"/>
                </a:lnTo>
                <a:lnTo>
                  <a:pt x="11" y="428"/>
                </a:lnTo>
                <a:lnTo>
                  <a:pt x="7" y="411"/>
                </a:lnTo>
                <a:lnTo>
                  <a:pt x="4" y="395"/>
                </a:lnTo>
                <a:lnTo>
                  <a:pt x="2" y="378"/>
                </a:lnTo>
                <a:lnTo>
                  <a:pt x="1" y="360"/>
                </a:lnTo>
                <a:lnTo>
                  <a:pt x="0" y="342"/>
                </a:lnTo>
                <a:lnTo>
                  <a:pt x="1" y="325"/>
                </a:lnTo>
                <a:lnTo>
                  <a:pt x="2" y="307"/>
                </a:lnTo>
                <a:lnTo>
                  <a:pt x="4" y="290"/>
                </a:lnTo>
                <a:lnTo>
                  <a:pt x="7" y="274"/>
                </a:lnTo>
                <a:lnTo>
                  <a:pt x="11" y="257"/>
                </a:lnTo>
                <a:lnTo>
                  <a:pt x="16" y="240"/>
                </a:lnTo>
                <a:lnTo>
                  <a:pt x="21" y="224"/>
                </a:lnTo>
                <a:lnTo>
                  <a:pt x="27" y="209"/>
                </a:lnTo>
                <a:lnTo>
                  <a:pt x="34" y="194"/>
                </a:lnTo>
                <a:lnTo>
                  <a:pt x="41" y="179"/>
                </a:lnTo>
                <a:lnTo>
                  <a:pt x="50" y="165"/>
                </a:lnTo>
                <a:lnTo>
                  <a:pt x="58" y="151"/>
                </a:lnTo>
                <a:lnTo>
                  <a:pt x="68" y="138"/>
                </a:lnTo>
                <a:lnTo>
                  <a:pt x="78" y="125"/>
                </a:lnTo>
                <a:lnTo>
                  <a:pt x="89" y="112"/>
                </a:lnTo>
                <a:lnTo>
                  <a:pt x="100" y="100"/>
                </a:lnTo>
                <a:lnTo>
                  <a:pt x="112" y="89"/>
                </a:lnTo>
                <a:lnTo>
                  <a:pt x="125" y="78"/>
                </a:lnTo>
                <a:lnTo>
                  <a:pt x="138" y="68"/>
                </a:lnTo>
                <a:lnTo>
                  <a:pt x="151" y="58"/>
                </a:lnTo>
                <a:lnTo>
                  <a:pt x="165" y="49"/>
                </a:lnTo>
                <a:lnTo>
                  <a:pt x="179" y="41"/>
                </a:lnTo>
                <a:lnTo>
                  <a:pt x="194" y="34"/>
                </a:lnTo>
                <a:lnTo>
                  <a:pt x="209" y="27"/>
                </a:lnTo>
                <a:lnTo>
                  <a:pt x="225" y="21"/>
                </a:lnTo>
                <a:lnTo>
                  <a:pt x="240" y="15"/>
                </a:lnTo>
                <a:lnTo>
                  <a:pt x="257" y="11"/>
                </a:lnTo>
                <a:lnTo>
                  <a:pt x="274" y="7"/>
                </a:lnTo>
                <a:lnTo>
                  <a:pt x="291" y="4"/>
                </a:lnTo>
                <a:lnTo>
                  <a:pt x="308" y="2"/>
                </a:lnTo>
                <a:lnTo>
                  <a:pt x="325" y="0"/>
                </a:lnTo>
                <a:lnTo>
                  <a:pt x="342" y="0"/>
                </a:lnTo>
              </a:path>
            </a:pathLst>
          </a:custGeom>
          <a:solidFill>
            <a:srgbClr val="c0c0c0"/>
          </a:solidFill>
          <a:ln w="468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495680"/>
            <a:ext cx="1600200" cy="1828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267080"/>
            <a:ext cx="1752480" cy="1524240"/>
          </a:xfrm>
          <a:custGeom>
            <a:avLst/>
            <a:gdLst/>
            <a:ahLst/>
            <a:rect l="l" t="t" r="r" b="b"/>
            <a:pathLst>
              <a:path w="685" h="685">
                <a:moveTo>
                  <a:pt x="342" y="0"/>
                </a:moveTo>
                <a:lnTo>
                  <a:pt x="360" y="0"/>
                </a:lnTo>
                <a:lnTo>
                  <a:pt x="378" y="2"/>
                </a:lnTo>
                <a:lnTo>
                  <a:pt x="395" y="4"/>
                </a:lnTo>
                <a:lnTo>
                  <a:pt x="412" y="7"/>
                </a:lnTo>
                <a:lnTo>
                  <a:pt x="428" y="11"/>
                </a:lnTo>
                <a:lnTo>
                  <a:pt x="444" y="15"/>
                </a:lnTo>
                <a:lnTo>
                  <a:pt x="460" y="21"/>
                </a:lnTo>
                <a:lnTo>
                  <a:pt x="475" y="27"/>
                </a:lnTo>
                <a:lnTo>
                  <a:pt x="490" y="34"/>
                </a:lnTo>
                <a:lnTo>
                  <a:pt x="506" y="41"/>
                </a:lnTo>
                <a:lnTo>
                  <a:pt x="520" y="49"/>
                </a:lnTo>
                <a:lnTo>
                  <a:pt x="534" y="58"/>
                </a:lnTo>
                <a:lnTo>
                  <a:pt x="548" y="68"/>
                </a:lnTo>
                <a:lnTo>
                  <a:pt x="560" y="78"/>
                </a:lnTo>
                <a:lnTo>
                  <a:pt x="573" y="89"/>
                </a:lnTo>
                <a:lnTo>
                  <a:pt x="585" y="100"/>
                </a:lnTo>
                <a:lnTo>
                  <a:pt x="596" y="112"/>
                </a:lnTo>
                <a:lnTo>
                  <a:pt x="607" y="125"/>
                </a:lnTo>
                <a:lnTo>
                  <a:pt x="617" y="138"/>
                </a:lnTo>
                <a:lnTo>
                  <a:pt x="627" y="151"/>
                </a:lnTo>
                <a:lnTo>
                  <a:pt x="636" y="165"/>
                </a:lnTo>
                <a:lnTo>
                  <a:pt x="644" y="179"/>
                </a:lnTo>
                <a:lnTo>
                  <a:pt x="652" y="194"/>
                </a:lnTo>
                <a:lnTo>
                  <a:pt x="659" y="209"/>
                </a:lnTo>
                <a:lnTo>
                  <a:pt x="665" y="224"/>
                </a:lnTo>
                <a:lnTo>
                  <a:pt x="670" y="240"/>
                </a:lnTo>
                <a:lnTo>
                  <a:pt x="675" y="257"/>
                </a:lnTo>
                <a:lnTo>
                  <a:pt x="678" y="274"/>
                </a:lnTo>
                <a:lnTo>
                  <a:pt x="681" y="290"/>
                </a:lnTo>
                <a:lnTo>
                  <a:pt x="684" y="307"/>
                </a:lnTo>
                <a:lnTo>
                  <a:pt x="685" y="325"/>
                </a:lnTo>
                <a:lnTo>
                  <a:pt x="685" y="342"/>
                </a:lnTo>
                <a:lnTo>
                  <a:pt x="685" y="360"/>
                </a:lnTo>
                <a:lnTo>
                  <a:pt x="684" y="378"/>
                </a:lnTo>
                <a:lnTo>
                  <a:pt x="681" y="395"/>
                </a:lnTo>
                <a:lnTo>
                  <a:pt x="678" y="411"/>
                </a:lnTo>
                <a:lnTo>
                  <a:pt x="675" y="428"/>
                </a:lnTo>
                <a:lnTo>
                  <a:pt x="670" y="444"/>
                </a:lnTo>
                <a:lnTo>
                  <a:pt x="665" y="460"/>
                </a:lnTo>
                <a:lnTo>
                  <a:pt x="659" y="475"/>
                </a:lnTo>
                <a:lnTo>
                  <a:pt x="652" y="490"/>
                </a:lnTo>
                <a:lnTo>
                  <a:pt x="644" y="506"/>
                </a:lnTo>
                <a:lnTo>
                  <a:pt x="636" y="520"/>
                </a:lnTo>
                <a:lnTo>
                  <a:pt x="627" y="534"/>
                </a:lnTo>
                <a:lnTo>
                  <a:pt x="617" y="547"/>
                </a:lnTo>
                <a:lnTo>
                  <a:pt x="607" y="560"/>
                </a:lnTo>
                <a:lnTo>
                  <a:pt x="596" y="573"/>
                </a:lnTo>
                <a:lnTo>
                  <a:pt x="585" y="584"/>
                </a:lnTo>
                <a:lnTo>
                  <a:pt x="573" y="596"/>
                </a:lnTo>
                <a:lnTo>
                  <a:pt x="560" y="606"/>
                </a:lnTo>
                <a:lnTo>
                  <a:pt x="548" y="616"/>
                </a:lnTo>
                <a:lnTo>
                  <a:pt x="534" y="626"/>
                </a:lnTo>
                <a:lnTo>
                  <a:pt x="520" y="635"/>
                </a:lnTo>
                <a:lnTo>
                  <a:pt x="506" y="644"/>
                </a:lnTo>
                <a:lnTo>
                  <a:pt x="490" y="652"/>
                </a:lnTo>
                <a:lnTo>
                  <a:pt x="475" y="658"/>
                </a:lnTo>
                <a:lnTo>
                  <a:pt x="460" y="664"/>
                </a:lnTo>
                <a:lnTo>
                  <a:pt x="444" y="670"/>
                </a:lnTo>
                <a:lnTo>
                  <a:pt x="428" y="674"/>
                </a:lnTo>
                <a:lnTo>
                  <a:pt x="412" y="678"/>
                </a:lnTo>
                <a:lnTo>
                  <a:pt x="395" y="681"/>
                </a:lnTo>
                <a:lnTo>
                  <a:pt x="378" y="683"/>
                </a:lnTo>
                <a:lnTo>
                  <a:pt x="360" y="685"/>
                </a:lnTo>
                <a:lnTo>
                  <a:pt x="342" y="685"/>
                </a:lnTo>
                <a:lnTo>
                  <a:pt x="325" y="685"/>
                </a:lnTo>
                <a:lnTo>
                  <a:pt x="308" y="683"/>
                </a:lnTo>
                <a:lnTo>
                  <a:pt x="291" y="681"/>
                </a:lnTo>
                <a:lnTo>
                  <a:pt x="274" y="678"/>
                </a:lnTo>
                <a:lnTo>
                  <a:pt x="257" y="674"/>
                </a:lnTo>
                <a:lnTo>
                  <a:pt x="240" y="670"/>
                </a:lnTo>
                <a:lnTo>
                  <a:pt x="225" y="664"/>
                </a:lnTo>
                <a:lnTo>
                  <a:pt x="209" y="658"/>
                </a:lnTo>
                <a:lnTo>
                  <a:pt x="194" y="652"/>
                </a:lnTo>
                <a:lnTo>
                  <a:pt x="179" y="644"/>
                </a:lnTo>
                <a:lnTo>
                  <a:pt x="165" y="635"/>
                </a:lnTo>
                <a:lnTo>
                  <a:pt x="151" y="626"/>
                </a:lnTo>
                <a:lnTo>
                  <a:pt x="138" y="616"/>
                </a:lnTo>
                <a:lnTo>
                  <a:pt x="125" y="606"/>
                </a:lnTo>
                <a:lnTo>
                  <a:pt x="112" y="596"/>
                </a:lnTo>
                <a:lnTo>
                  <a:pt x="100" y="584"/>
                </a:lnTo>
                <a:lnTo>
                  <a:pt x="89" y="573"/>
                </a:lnTo>
                <a:lnTo>
                  <a:pt x="78" y="560"/>
                </a:lnTo>
                <a:lnTo>
                  <a:pt x="68" y="547"/>
                </a:lnTo>
                <a:lnTo>
                  <a:pt x="58" y="534"/>
                </a:lnTo>
                <a:lnTo>
                  <a:pt x="50" y="520"/>
                </a:lnTo>
                <a:lnTo>
                  <a:pt x="41" y="506"/>
                </a:lnTo>
                <a:lnTo>
                  <a:pt x="34" y="490"/>
                </a:lnTo>
                <a:lnTo>
                  <a:pt x="27" y="475"/>
                </a:lnTo>
                <a:lnTo>
                  <a:pt x="21" y="460"/>
                </a:lnTo>
                <a:lnTo>
                  <a:pt x="16" y="444"/>
                </a:lnTo>
                <a:lnTo>
                  <a:pt x="11" y="428"/>
                </a:lnTo>
                <a:lnTo>
                  <a:pt x="7" y="411"/>
                </a:lnTo>
                <a:lnTo>
                  <a:pt x="4" y="395"/>
                </a:lnTo>
                <a:lnTo>
                  <a:pt x="2" y="378"/>
                </a:lnTo>
                <a:lnTo>
                  <a:pt x="1" y="360"/>
                </a:lnTo>
                <a:lnTo>
                  <a:pt x="0" y="342"/>
                </a:lnTo>
                <a:lnTo>
                  <a:pt x="1" y="325"/>
                </a:lnTo>
                <a:lnTo>
                  <a:pt x="2" y="307"/>
                </a:lnTo>
                <a:lnTo>
                  <a:pt x="4" y="290"/>
                </a:lnTo>
                <a:lnTo>
                  <a:pt x="7" y="274"/>
                </a:lnTo>
                <a:lnTo>
                  <a:pt x="11" y="257"/>
                </a:lnTo>
                <a:lnTo>
                  <a:pt x="16" y="240"/>
                </a:lnTo>
                <a:lnTo>
                  <a:pt x="21" y="224"/>
                </a:lnTo>
                <a:lnTo>
                  <a:pt x="27" y="209"/>
                </a:lnTo>
                <a:lnTo>
                  <a:pt x="34" y="194"/>
                </a:lnTo>
                <a:lnTo>
                  <a:pt x="41" y="179"/>
                </a:lnTo>
                <a:lnTo>
                  <a:pt x="50" y="165"/>
                </a:lnTo>
                <a:lnTo>
                  <a:pt x="58" y="151"/>
                </a:lnTo>
                <a:lnTo>
                  <a:pt x="68" y="138"/>
                </a:lnTo>
                <a:lnTo>
                  <a:pt x="78" y="125"/>
                </a:lnTo>
                <a:lnTo>
                  <a:pt x="89" y="112"/>
                </a:lnTo>
                <a:lnTo>
                  <a:pt x="100" y="100"/>
                </a:lnTo>
                <a:lnTo>
                  <a:pt x="112" y="89"/>
                </a:lnTo>
                <a:lnTo>
                  <a:pt x="125" y="78"/>
                </a:lnTo>
                <a:lnTo>
                  <a:pt x="138" y="68"/>
                </a:lnTo>
                <a:lnTo>
                  <a:pt x="151" y="58"/>
                </a:lnTo>
                <a:lnTo>
                  <a:pt x="165" y="49"/>
                </a:lnTo>
                <a:lnTo>
                  <a:pt x="179" y="41"/>
                </a:lnTo>
                <a:lnTo>
                  <a:pt x="194" y="34"/>
                </a:lnTo>
                <a:lnTo>
                  <a:pt x="209" y="27"/>
                </a:lnTo>
                <a:lnTo>
                  <a:pt x="225" y="21"/>
                </a:lnTo>
                <a:lnTo>
                  <a:pt x="240" y="15"/>
                </a:lnTo>
                <a:lnTo>
                  <a:pt x="257" y="11"/>
                </a:lnTo>
                <a:lnTo>
                  <a:pt x="274" y="7"/>
                </a:lnTo>
                <a:lnTo>
                  <a:pt x="291" y="4"/>
                </a:lnTo>
                <a:lnTo>
                  <a:pt x="308" y="2"/>
                </a:lnTo>
                <a:lnTo>
                  <a:pt x="325" y="0"/>
                </a:lnTo>
                <a:lnTo>
                  <a:pt x="342" y="0"/>
                </a:lnTo>
              </a:path>
            </a:pathLst>
          </a:custGeom>
          <a:solidFill>
            <a:srgbClr val="c0c0c0"/>
          </a:solidFill>
          <a:ln w="46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514600"/>
            <a:ext cx="1600200" cy="15238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514600"/>
            <a:ext cx="1752840" cy="1523880"/>
          </a:xfrm>
          <a:custGeom>
            <a:avLst/>
            <a:gdLst/>
            <a:ahLst/>
            <a:rect l="l" t="t" r="r" b="b"/>
            <a:pathLst>
              <a:path w="685" h="685">
                <a:moveTo>
                  <a:pt x="342" y="0"/>
                </a:moveTo>
                <a:lnTo>
                  <a:pt x="360" y="0"/>
                </a:lnTo>
                <a:lnTo>
                  <a:pt x="378" y="2"/>
                </a:lnTo>
                <a:lnTo>
                  <a:pt x="395" y="4"/>
                </a:lnTo>
                <a:lnTo>
                  <a:pt x="412" y="7"/>
                </a:lnTo>
                <a:lnTo>
                  <a:pt x="428" y="11"/>
                </a:lnTo>
                <a:lnTo>
                  <a:pt x="444" y="15"/>
                </a:lnTo>
                <a:lnTo>
                  <a:pt x="460" y="21"/>
                </a:lnTo>
                <a:lnTo>
                  <a:pt x="475" y="27"/>
                </a:lnTo>
                <a:lnTo>
                  <a:pt x="490" y="34"/>
                </a:lnTo>
                <a:lnTo>
                  <a:pt x="506" y="41"/>
                </a:lnTo>
                <a:lnTo>
                  <a:pt x="520" y="49"/>
                </a:lnTo>
                <a:lnTo>
                  <a:pt x="534" y="58"/>
                </a:lnTo>
                <a:lnTo>
                  <a:pt x="548" y="68"/>
                </a:lnTo>
                <a:lnTo>
                  <a:pt x="560" y="78"/>
                </a:lnTo>
                <a:lnTo>
                  <a:pt x="573" y="89"/>
                </a:lnTo>
                <a:lnTo>
                  <a:pt x="585" y="100"/>
                </a:lnTo>
                <a:lnTo>
                  <a:pt x="596" y="112"/>
                </a:lnTo>
                <a:lnTo>
                  <a:pt x="607" y="125"/>
                </a:lnTo>
                <a:lnTo>
                  <a:pt x="617" y="138"/>
                </a:lnTo>
                <a:lnTo>
                  <a:pt x="627" y="151"/>
                </a:lnTo>
                <a:lnTo>
                  <a:pt x="636" y="165"/>
                </a:lnTo>
                <a:lnTo>
                  <a:pt x="644" y="179"/>
                </a:lnTo>
                <a:lnTo>
                  <a:pt x="652" y="194"/>
                </a:lnTo>
                <a:lnTo>
                  <a:pt x="659" y="209"/>
                </a:lnTo>
                <a:lnTo>
                  <a:pt x="665" y="224"/>
                </a:lnTo>
                <a:lnTo>
                  <a:pt x="670" y="240"/>
                </a:lnTo>
                <a:lnTo>
                  <a:pt x="675" y="257"/>
                </a:lnTo>
                <a:lnTo>
                  <a:pt x="678" y="274"/>
                </a:lnTo>
                <a:lnTo>
                  <a:pt x="681" y="290"/>
                </a:lnTo>
                <a:lnTo>
                  <a:pt x="684" y="307"/>
                </a:lnTo>
                <a:lnTo>
                  <a:pt x="685" y="325"/>
                </a:lnTo>
                <a:lnTo>
                  <a:pt x="685" y="342"/>
                </a:lnTo>
                <a:lnTo>
                  <a:pt x="685" y="360"/>
                </a:lnTo>
                <a:lnTo>
                  <a:pt x="684" y="378"/>
                </a:lnTo>
                <a:lnTo>
                  <a:pt x="681" y="395"/>
                </a:lnTo>
                <a:lnTo>
                  <a:pt x="678" y="411"/>
                </a:lnTo>
                <a:lnTo>
                  <a:pt x="675" y="428"/>
                </a:lnTo>
                <a:lnTo>
                  <a:pt x="670" y="444"/>
                </a:lnTo>
                <a:lnTo>
                  <a:pt x="665" y="460"/>
                </a:lnTo>
                <a:lnTo>
                  <a:pt x="659" y="475"/>
                </a:lnTo>
                <a:lnTo>
                  <a:pt x="652" y="490"/>
                </a:lnTo>
                <a:lnTo>
                  <a:pt x="644" y="506"/>
                </a:lnTo>
                <a:lnTo>
                  <a:pt x="636" y="520"/>
                </a:lnTo>
                <a:lnTo>
                  <a:pt x="627" y="534"/>
                </a:lnTo>
                <a:lnTo>
                  <a:pt x="617" y="547"/>
                </a:lnTo>
                <a:lnTo>
                  <a:pt x="607" y="560"/>
                </a:lnTo>
                <a:lnTo>
                  <a:pt x="596" y="573"/>
                </a:lnTo>
                <a:lnTo>
                  <a:pt x="585" y="584"/>
                </a:lnTo>
                <a:lnTo>
                  <a:pt x="573" y="596"/>
                </a:lnTo>
                <a:lnTo>
                  <a:pt x="560" y="606"/>
                </a:lnTo>
                <a:lnTo>
                  <a:pt x="548" y="616"/>
                </a:lnTo>
                <a:lnTo>
                  <a:pt x="534" y="626"/>
                </a:lnTo>
                <a:lnTo>
                  <a:pt x="520" y="635"/>
                </a:lnTo>
                <a:lnTo>
                  <a:pt x="506" y="644"/>
                </a:lnTo>
                <a:lnTo>
                  <a:pt x="490" y="652"/>
                </a:lnTo>
                <a:lnTo>
                  <a:pt x="475" y="658"/>
                </a:lnTo>
                <a:lnTo>
                  <a:pt x="460" y="664"/>
                </a:lnTo>
                <a:lnTo>
                  <a:pt x="444" y="670"/>
                </a:lnTo>
                <a:lnTo>
                  <a:pt x="428" y="674"/>
                </a:lnTo>
                <a:lnTo>
                  <a:pt x="412" y="678"/>
                </a:lnTo>
                <a:lnTo>
                  <a:pt x="395" y="681"/>
                </a:lnTo>
                <a:lnTo>
                  <a:pt x="378" y="683"/>
                </a:lnTo>
                <a:lnTo>
                  <a:pt x="360" y="685"/>
                </a:lnTo>
                <a:lnTo>
                  <a:pt x="342" y="685"/>
                </a:lnTo>
                <a:lnTo>
                  <a:pt x="325" y="685"/>
                </a:lnTo>
                <a:lnTo>
                  <a:pt x="308" y="683"/>
                </a:lnTo>
                <a:lnTo>
                  <a:pt x="291" y="681"/>
                </a:lnTo>
                <a:lnTo>
                  <a:pt x="274" y="678"/>
                </a:lnTo>
                <a:lnTo>
                  <a:pt x="257" y="674"/>
                </a:lnTo>
                <a:lnTo>
                  <a:pt x="240" y="670"/>
                </a:lnTo>
                <a:lnTo>
                  <a:pt x="225" y="664"/>
                </a:lnTo>
                <a:lnTo>
                  <a:pt x="209" y="658"/>
                </a:lnTo>
                <a:lnTo>
                  <a:pt x="194" y="652"/>
                </a:lnTo>
                <a:lnTo>
                  <a:pt x="179" y="644"/>
                </a:lnTo>
                <a:lnTo>
                  <a:pt x="165" y="635"/>
                </a:lnTo>
                <a:lnTo>
                  <a:pt x="151" y="626"/>
                </a:lnTo>
                <a:lnTo>
                  <a:pt x="138" y="616"/>
                </a:lnTo>
                <a:lnTo>
                  <a:pt x="125" y="606"/>
                </a:lnTo>
                <a:lnTo>
                  <a:pt x="112" y="596"/>
                </a:lnTo>
                <a:lnTo>
                  <a:pt x="100" y="584"/>
                </a:lnTo>
                <a:lnTo>
                  <a:pt x="89" y="573"/>
                </a:lnTo>
                <a:lnTo>
                  <a:pt x="78" y="560"/>
                </a:lnTo>
                <a:lnTo>
                  <a:pt x="68" y="547"/>
                </a:lnTo>
                <a:lnTo>
                  <a:pt x="58" y="534"/>
                </a:lnTo>
                <a:lnTo>
                  <a:pt x="50" y="520"/>
                </a:lnTo>
                <a:lnTo>
                  <a:pt x="41" y="506"/>
                </a:lnTo>
                <a:lnTo>
                  <a:pt x="34" y="490"/>
                </a:lnTo>
                <a:lnTo>
                  <a:pt x="27" y="475"/>
                </a:lnTo>
                <a:lnTo>
                  <a:pt x="21" y="460"/>
                </a:lnTo>
                <a:lnTo>
                  <a:pt x="16" y="444"/>
                </a:lnTo>
                <a:lnTo>
                  <a:pt x="11" y="428"/>
                </a:lnTo>
                <a:lnTo>
                  <a:pt x="7" y="411"/>
                </a:lnTo>
                <a:lnTo>
                  <a:pt x="4" y="395"/>
                </a:lnTo>
                <a:lnTo>
                  <a:pt x="2" y="378"/>
                </a:lnTo>
                <a:lnTo>
                  <a:pt x="1" y="360"/>
                </a:lnTo>
                <a:lnTo>
                  <a:pt x="0" y="342"/>
                </a:lnTo>
                <a:lnTo>
                  <a:pt x="1" y="325"/>
                </a:lnTo>
                <a:lnTo>
                  <a:pt x="2" y="307"/>
                </a:lnTo>
                <a:lnTo>
                  <a:pt x="4" y="290"/>
                </a:lnTo>
                <a:lnTo>
                  <a:pt x="7" y="274"/>
                </a:lnTo>
                <a:lnTo>
                  <a:pt x="11" y="257"/>
                </a:lnTo>
                <a:lnTo>
                  <a:pt x="16" y="240"/>
                </a:lnTo>
                <a:lnTo>
                  <a:pt x="21" y="224"/>
                </a:lnTo>
                <a:lnTo>
                  <a:pt x="27" y="209"/>
                </a:lnTo>
                <a:lnTo>
                  <a:pt x="34" y="194"/>
                </a:lnTo>
                <a:lnTo>
                  <a:pt x="41" y="179"/>
                </a:lnTo>
                <a:lnTo>
                  <a:pt x="50" y="165"/>
                </a:lnTo>
                <a:lnTo>
                  <a:pt x="58" y="151"/>
                </a:lnTo>
                <a:lnTo>
                  <a:pt x="68" y="138"/>
                </a:lnTo>
                <a:lnTo>
                  <a:pt x="78" y="125"/>
                </a:lnTo>
                <a:lnTo>
                  <a:pt x="89" y="112"/>
                </a:lnTo>
                <a:lnTo>
                  <a:pt x="100" y="100"/>
                </a:lnTo>
                <a:lnTo>
                  <a:pt x="112" y="89"/>
                </a:lnTo>
                <a:lnTo>
                  <a:pt x="125" y="78"/>
                </a:lnTo>
                <a:lnTo>
                  <a:pt x="138" y="68"/>
                </a:lnTo>
                <a:lnTo>
                  <a:pt x="151" y="58"/>
                </a:lnTo>
                <a:lnTo>
                  <a:pt x="165" y="49"/>
                </a:lnTo>
                <a:lnTo>
                  <a:pt x="179" y="41"/>
                </a:lnTo>
                <a:lnTo>
                  <a:pt x="194" y="34"/>
                </a:lnTo>
                <a:lnTo>
                  <a:pt x="209" y="27"/>
                </a:lnTo>
                <a:lnTo>
                  <a:pt x="225" y="21"/>
                </a:lnTo>
                <a:lnTo>
                  <a:pt x="240" y="15"/>
                </a:lnTo>
                <a:lnTo>
                  <a:pt x="257" y="11"/>
                </a:lnTo>
                <a:lnTo>
                  <a:pt x="274" y="7"/>
                </a:lnTo>
                <a:lnTo>
                  <a:pt x="291" y="4"/>
                </a:lnTo>
                <a:lnTo>
                  <a:pt x="308" y="2"/>
                </a:lnTo>
                <a:lnTo>
                  <a:pt x="325" y="0"/>
                </a:lnTo>
                <a:lnTo>
                  <a:pt x="342" y="0"/>
                </a:lnTo>
              </a:path>
            </a:pathLst>
          </a:custGeom>
          <a:solidFill>
            <a:srgbClr val="c0c0c0"/>
          </a:solidFill>
          <a:ln w="46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819520"/>
            <a:ext cx="914400" cy="838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55960" y="251460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6520" y="25909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57320" y="449568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400" y="419112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342900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target occulted by a sphero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791320"/>
            <a:ext cx="15238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heroid partially occulting a second sphero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3429000"/>
            <a:ext cx="175248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heroid fully occulting a second sphero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5813280"/>
            <a:ext cx="1752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spheroid passing between a second, larger spheroid and the ob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5867280"/>
            <a:ext cx="3049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6248520"/>
            <a:ext cx="304920" cy="304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6560" y="5897520"/>
            <a:ext cx="115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lted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6560" y="627840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culting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vent Finding Subsyst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E3732-A253-43E1-9172-E4890C4ACF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3T19:16:27Z</dcterms:created>
  <dc:creator>Chuck Acton</dc:creator>
  <dc:description/>
  <cp:keywords/>
  <dc:language>en-US</dc:language>
  <cp:lastModifiedBy>Ed Wright</cp:lastModifiedBy>
  <cp:lastPrinted>2007-10-01T19:30:16Z</cp:lastPrinted>
  <dcterms:modified xsi:type="dcterms:W3CDTF">2007-10-02T15:29:01Z</dcterms:modified>
  <cp:revision>169</cp:revision>
  <dc:subject/>
  <dc:title>SPICE Overview - 1</dc:title>
</cp:coreProperties>
</file>