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ct" ContentType="image/x-pict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46B2-7269-4F25-BBD1-84A3B4AA1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EE9A-4B43-4642-913C-BB05CDEB0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B4D3-DAE0-4DDD-90D8-8109B0EDE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0165-71F5-498C-835A-8361C419E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E154-F884-42D3-BAF1-7E9793C223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C27A-B083-48ED-8BD2-FE8819B31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B8D4-D16D-4278-B6ED-C0010BE1F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31CD-08E4-4B2A-9E12-740D3CE62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F757-0D7F-4F11-82DA-47407A774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4942-D165-4197-8449-956D56892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06402-55C5-4025-B896-E5EA2041C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891FF-E6F3-4E8C-B2D5-72D3AAA6AD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5C0-8A2E-4078-8B41-B1C3EDD14A2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7520" y="2271600"/>
            <a:ext cx="6816960" cy="227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Shape Model Preview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An overview of Current Status of and </a:t>
            </a: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urther Development Plans for th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SPICE Digital Shape Kernel Subsystem (DSK)</a:t>
            </a:r>
            <a:endParaRPr b="1" lang="en-US" sz="24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00040" y="5181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r>
              <a:rPr b="1" lang="en-US" sz="2400" spc="-1" strike="noStrike">
                <a:solidFill>
                  <a:srgbClr val="081d58"/>
                </a:solidFill>
                <a:latin typeface="ヒラギノ角ゴ Pro W3"/>
              </a:rPr>
              <a:t>_x0013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07600" y="1393560"/>
            <a:ext cx="8001000" cy="527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K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SPICE DAS fil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ary, direct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-independent buffering built 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nt area built 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K Softw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software which enables users to create and use DSK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r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er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level API routi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example: routines dealing with observer-target geomet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utility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K Docu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Reading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 head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2928600" y="380520"/>
            <a:ext cx="5140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System Compon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5C11-EA35-45A9-A4A5-D4853641DC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75920" y="1228680"/>
            <a:ext cx="8001000" cy="54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ines that enable a SPICE-based application to create a DSK kern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new DSK kernel for write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n existing DSK kernel for write ac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 new DSK segment (“segments” are partial DSK data sets containing data for a given region on a specified objec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data to DSK seg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utines that extract data from a DSK fi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elevation of surface at given longitude/latitu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specified attributes, for example the surface normal vector, for a specified longitude and latitu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ly obtain data for large portion of surface (“bulk read”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 DSK attributes such as number of plates, pixel size, min/max elevation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level functions (including, but not limited to, the following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sub-observer point on surface and height of observer above surfa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intercept of ray with surfa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e whether a portion of a target body’s surface is within the FOV of specified instrument at specified tim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e occultation/transit state of a point targ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limb and terminator loc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ute Illumination angles at a specified surface poi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548080" y="380520"/>
            <a:ext cx="5884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Software Component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EF76-826B-48E5-A7CC-86FFCF1825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91760" y="1533600"/>
            <a:ext cx="800100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ility programs th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DSK files: import other surface shape data sets into SPICE DSK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 DS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comment area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 DSK file cont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et or merge DS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sample DSK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one DSK data type to an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create type 2 DSK file from type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548080" y="380520"/>
            <a:ext cx="5884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Software Components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BA76-FB2E-4DE4-898F-345989BA03F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684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radius at surface point  (inputs are in red, outputs in blue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LL DSKRAD ( </a:t>
            </a: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TARGET, LON, LA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RADIU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puts:  target body name, longitude and latitude of point of interes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utput:  radius (distance from target center) at surface poi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sub-observer point on targe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LL SUBPT ( </a:t>
            </a:r>
            <a:r>
              <a:rPr b="1" lang="en-US" sz="1500" spc="-1" strike="noStrike">
                <a:solidFill>
                  <a:srgbClr val="fc0128"/>
                </a:solidFill>
                <a:latin typeface="Arial"/>
              </a:rPr>
              <a:t>METHOD, TARGET, ET, ABCORR, OBSRVR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500" spc="-1" strike="noStrike">
                <a:solidFill>
                  <a:srgbClr val="063de8"/>
                </a:solidFill>
                <a:latin typeface="Arial"/>
              </a:rPr>
              <a:t>SPOINT, AL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UBPT is a generic, high-level API.  SUBPT doesn’t assume the surface is modeled by a DSK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put “METHOD” indicates surface model and sub-point defini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 ellipsoids, METHOD may be set to ‘near point’ or ‘intercept’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or DSKs, set METHOD to ‘DSK intercept’, indicating that the sub-point is defined as the closest intersection to the observer of the observer-target center ray with the surface, and DSK model is to be used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27480" indent="-169560">
              <a:lnSpc>
                <a:spcPct val="8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ote that SPICE should not assume DSK is to be used just because a DSK for the target body is loaded; may be too inefficient for some applications.  Caller must say which model is to be used.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ther inputs:  target body name, epoch, aberration correction, observer name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utputs:  sub-observer point in Cartesian coordinates, expressed in the body-fixed frame associated with the target, and altitude of the observer above the sub-point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597120" y="380520"/>
            <a:ext cx="3786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API Examp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BA12-1528-4488-BFC8-DEABE6A554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81280" y="3809880"/>
            <a:ext cx="1830600" cy="15242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60720" y="380520"/>
            <a:ext cx="6788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Using Shape with Orientation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73240" y="5607000"/>
            <a:ext cx="1295280" cy="35244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4378320"/>
            <a:ext cx="1067040" cy="30492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17600" y="301464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2400" y="30067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KP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PICE Toolk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3235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3235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962520" y="2971800"/>
            <a:ext cx="1009440" cy="588960"/>
            <a:chOff x="3962520" y="2971800"/>
            <a:chExt cx="1009440" cy="588960"/>
          </a:xfrm>
        </p:grpSpPr>
        <p:sp>
          <p:nvSpPr>
            <p:cNvPr id="176" name=""/>
            <p:cNvSpPr/>
            <p:nvPr/>
          </p:nvSpPr>
          <p:spPr>
            <a:xfrm>
              <a:off x="3974400" y="3155760"/>
              <a:ext cx="49320" cy="7992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127" y="0"/>
                  </a:moveTo>
                  <a:lnTo>
                    <a:pt x="30" y="102"/>
                  </a:lnTo>
                  <a:lnTo>
                    <a:pt x="0" y="210"/>
                  </a:lnTo>
                  <a:lnTo>
                    <a:pt x="129" y="6"/>
                  </a:lnTo>
                  <a:lnTo>
                    <a:pt x="127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62520" y="2972880"/>
              <a:ext cx="1009440" cy="587880"/>
            </a:xfrm>
            <a:custGeom>
              <a:avLst/>
              <a:gdLst/>
              <a:ahLst/>
              <a:rect l="l" t="t" r="r" b="b"/>
              <a:pathLst>
                <a:path w="2660" h="1549">
                  <a:moveTo>
                    <a:pt x="212" y="511"/>
                  </a:moveTo>
                  <a:lnTo>
                    <a:pt x="175" y="518"/>
                  </a:lnTo>
                  <a:lnTo>
                    <a:pt x="152" y="533"/>
                  </a:lnTo>
                  <a:lnTo>
                    <a:pt x="121" y="557"/>
                  </a:lnTo>
                  <a:lnTo>
                    <a:pt x="91" y="579"/>
                  </a:lnTo>
                  <a:lnTo>
                    <a:pt x="76" y="602"/>
                  </a:lnTo>
                  <a:lnTo>
                    <a:pt x="60" y="625"/>
                  </a:lnTo>
                  <a:lnTo>
                    <a:pt x="45" y="656"/>
                  </a:lnTo>
                  <a:lnTo>
                    <a:pt x="37" y="678"/>
                  </a:lnTo>
                  <a:lnTo>
                    <a:pt x="30" y="717"/>
                  </a:lnTo>
                  <a:lnTo>
                    <a:pt x="15" y="747"/>
                  </a:lnTo>
                  <a:lnTo>
                    <a:pt x="7" y="769"/>
                  </a:lnTo>
                  <a:lnTo>
                    <a:pt x="0" y="793"/>
                  </a:lnTo>
                  <a:lnTo>
                    <a:pt x="0" y="816"/>
                  </a:lnTo>
                  <a:lnTo>
                    <a:pt x="0" y="838"/>
                  </a:lnTo>
                  <a:lnTo>
                    <a:pt x="0" y="862"/>
                  </a:lnTo>
                  <a:lnTo>
                    <a:pt x="0" y="892"/>
                  </a:lnTo>
                  <a:lnTo>
                    <a:pt x="0" y="922"/>
                  </a:lnTo>
                  <a:lnTo>
                    <a:pt x="7" y="953"/>
                  </a:lnTo>
                  <a:lnTo>
                    <a:pt x="22" y="983"/>
                  </a:lnTo>
                  <a:lnTo>
                    <a:pt x="30" y="1006"/>
                  </a:lnTo>
                  <a:lnTo>
                    <a:pt x="52" y="1022"/>
                  </a:lnTo>
                  <a:lnTo>
                    <a:pt x="76" y="1044"/>
                  </a:lnTo>
                  <a:lnTo>
                    <a:pt x="106" y="1059"/>
                  </a:lnTo>
                  <a:lnTo>
                    <a:pt x="136" y="1074"/>
                  </a:lnTo>
                  <a:lnTo>
                    <a:pt x="167" y="1098"/>
                  </a:lnTo>
                  <a:lnTo>
                    <a:pt x="197" y="1113"/>
                  </a:lnTo>
                  <a:lnTo>
                    <a:pt x="220" y="1121"/>
                  </a:lnTo>
                  <a:lnTo>
                    <a:pt x="243" y="1128"/>
                  </a:lnTo>
                  <a:lnTo>
                    <a:pt x="259" y="1136"/>
                  </a:lnTo>
                  <a:lnTo>
                    <a:pt x="281" y="1143"/>
                  </a:lnTo>
                  <a:lnTo>
                    <a:pt x="304" y="1151"/>
                  </a:lnTo>
                  <a:lnTo>
                    <a:pt x="335" y="1158"/>
                  </a:lnTo>
                  <a:lnTo>
                    <a:pt x="365" y="1174"/>
                  </a:lnTo>
                  <a:lnTo>
                    <a:pt x="388" y="1182"/>
                  </a:lnTo>
                  <a:lnTo>
                    <a:pt x="411" y="1182"/>
                  </a:lnTo>
                  <a:lnTo>
                    <a:pt x="441" y="1189"/>
                  </a:lnTo>
                  <a:lnTo>
                    <a:pt x="464" y="1197"/>
                  </a:lnTo>
                  <a:lnTo>
                    <a:pt x="495" y="1204"/>
                  </a:lnTo>
                  <a:lnTo>
                    <a:pt x="525" y="1204"/>
                  </a:lnTo>
                  <a:lnTo>
                    <a:pt x="548" y="1212"/>
                  </a:lnTo>
                  <a:lnTo>
                    <a:pt x="579" y="1219"/>
                  </a:lnTo>
                  <a:lnTo>
                    <a:pt x="601" y="1227"/>
                  </a:lnTo>
                  <a:lnTo>
                    <a:pt x="632" y="1235"/>
                  </a:lnTo>
                  <a:lnTo>
                    <a:pt x="662" y="1243"/>
                  </a:lnTo>
                  <a:lnTo>
                    <a:pt x="700" y="1258"/>
                  </a:lnTo>
                  <a:lnTo>
                    <a:pt x="739" y="1273"/>
                  </a:lnTo>
                  <a:lnTo>
                    <a:pt x="769" y="1281"/>
                  </a:lnTo>
                  <a:lnTo>
                    <a:pt x="807" y="1296"/>
                  </a:lnTo>
                  <a:lnTo>
                    <a:pt x="837" y="1311"/>
                  </a:lnTo>
                  <a:lnTo>
                    <a:pt x="868" y="1327"/>
                  </a:lnTo>
                  <a:lnTo>
                    <a:pt x="899" y="1334"/>
                  </a:lnTo>
                  <a:lnTo>
                    <a:pt x="929" y="1349"/>
                  </a:lnTo>
                  <a:lnTo>
                    <a:pt x="967" y="1364"/>
                  </a:lnTo>
                  <a:lnTo>
                    <a:pt x="997" y="1379"/>
                  </a:lnTo>
                  <a:lnTo>
                    <a:pt x="1021" y="1387"/>
                  </a:lnTo>
                  <a:lnTo>
                    <a:pt x="1051" y="1395"/>
                  </a:lnTo>
                  <a:lnTo>
                    <a:pt x="1089" y="1411"/>
                  </a:lnTo>
                  <a:lnTo>
                    <a:pt x="1112" y="1418"/>
                  </a:lnTo>
                  <a:lnTo>
                    <a:pt x="1150" y="1433"/>
                  </a:lnTo>
                  <a:lnTo>
                    <a:pt x="1173" y="1441"/>
                  </a:lnTo>
                  <a:lnTo>
                    <a:pt x="1196" y="1448"/>
                  </a:lnTo>
                  <a:lnTo>
                    <a:pt x="1234" y="1456"/>
                  </a:lnTo>
                  <a:lnTo>
                    <a:pt x="1265" y="1463"/>
                  </a:lnTo>
                  <a:lnTo>
                    <a:pt x="1295" y="1479"/>
                  </a:lnTo>
                  <a:lnTo>
                    <a:pt x="1325" y="1487"/>
                  </a:lnTo>
                  <a:lnTo>
                    <a:pt x="1356" y="1494"/>
                  </a:lnTo>
                  <a:lnTo>
                    <a:pt x="1394" y="1502"/>
                  </a:lnTo>
                  <a:lnTo>
                    <a:pt x="1425" y="1509"/>
                  </a:lnTo>
                  <a:lnTo>
                    <a:pt x="1447" y="1517"/>
                  </a:lnTo>
                  <a:lnTo>
                    <a:pt x="1470" y="1517"/>
                  </a:lnTo>
                  <a:lnTo>
                    <a:pt x="1493" y="1517"/>
                  </a:lnTo>
                  <a:lnTo>
                    <a:pt x="1516" y="1524"/>
                  </a:lnTo>
                  <a:lnTo>
                    <a:pt x="1538" y="1524"/>
                  </a:lnTo>
                  <a:lnTo>
                    <a:pt x="1569" y="1532"/>
                  </a:lnTo>
                  <a:lnTo>
                    <a:pt x="1592" y="1532"/>
                  </a:lnTo>
                  <a:lnTo>
                    <a:pt x="1622" y="1540"/>
                  </a:lnTo>
                  <a:lnTo>
                    <a:pt x="1653" y="1540"/>
                  </a:lnTo>
                  <a:lnTo>
                    <a:pt x="1676" y="1548"/>
                  </a:lnTo>
                  <a:lnTo>
                    <a:pt x="1698" y="1548"/>
                  </a:lnTo>
                  <a:lnTo>
                    <a:pt x="1721" y="1548"/>
                  </a:lnTo>
                  <a:lnTo>
                    <a:pt x="1760" y="1548"/>
                  </a:lnTo>
                  <a:lnTo>
                    <a:pt x="1790" y="1548"/>
                  </a:lnTo>
                  <a:lnTo>
                    <a:pt x="1828" y="1548"/>
                  </a:lnTo>
                  <a:lnTo>
                    <a:pt x="1851" y="1548"/>
                  </a:lnTo>
                  <a:lnTo>
                    <a:pt x="1874" y="1548"/>
                  </a:lnTo>
                  <a:lnTo>
                    <a:pt x="1890" y="1548"/>
                  </a:lnTo>
                  <a:lnTo>
                    <a:pt x="1912" y="1548"/>
                  </a:lnTo>
                  <a:lnTo>
                    <a:pt x="1935" y="1540"/>
                  </a:lnTo>
                  <a:lnTo>
                    <a:pt x="1958" y="1540"/>
                  </a:lnTo>
                  <a:lnTo>
                    <a:pt x="1981" y="1532"/>
                  </a:lnTo>
                  <a:lnTo>
                    <a:pt x="2011" y="1532"/>
                  </a:lnTo>
                  <a:lnTo>
                    <a:pt x="2034" y="1524"/>
                  </a:lnTo>
                  <a:lnTo>
                    <a:pt x="2057" y="1524"/>
                  </a:lnTo>
                  <a:lnTo>
                    <a:pt x="2080" y="1524"/>
                  </a:lnTo>
                  <a:lnTo>
                    <a:pt x="2118" y="1517"/>
                  </a:lnTo>
                  <a:lnTo>
                    <a:pt x="2141" y="1509"/>
                  </a:lnTo>
                  <a:lnTo>
                    <a:pt x="2163" y="1509"/>
                  </a:lnTo>
                  <a:lnTo>
                    <a:pt x="2202" y="1494"/>
                  </a:lnTo>
                  <a:lnTo>
                    <a:pt x="2240" y="1487"/>
                  </a:lnTo>
                  <a:lnTo>
                    <a:pt x="2262" y="1479"/>
                  </a:lnTo>
                  <a:lnTo>
                    <a:pt x="2286" y="1471"/>
                  </a:lnTo>
                  <a:lnTo>
                    <a:pt x="2323" y="1456"/>
                  </a:lnTo>
                  <a:lnTo>
                    <a:pt x="2346" y="1441"/>
                  </a:lnTo>
                  <a:lnTo>
                    <a:pt x="2370" y="1426"/>
                  </a:lnTo>
                  <a:lnTo>
                    <a:pt x="2392" y="1418"/>
                  </a:lnTo>
                  <a:lnTo>
                    <a:pt x="2430" y="1387"/>
                  </a:lnTo>
                  <a:lnTo>
                    <a:pt x="2446" y="1364"/>
                  </a:lnTo>
                  <a:lnTo>
                    <a:pt x="2476" y="1342"/>
                  </a:lnTo>
                  <a:lnTo>
                    <a:pt x="2506" y="1311"/>
                  </a:lnTo>
                  <a:lnTo>
                    <a:pt x="2530" y="1273"/>
                  </a:lnTo>
                  <a:lnTo>
                    <a:pt x="2560" y="1243"/>
                  </a:lnTo>
                  <a:lnTo>
                    <a:pt x="2575" y="1219"/>
                  </a:lnTo>
                  <a:lnTo>
                    <a:pt x="2598" y="1182"/>
                  </a:lnTo>
                  <a:lnTo>
                    <a:pt x="2621" y="1143"/>
                  </a:lnTo>
                  <a:lnTo>
                    <a:pt x="2636" y="1106"/>
                  </a:lnTo>
                  <a:lnTo>
                    <a:pt x="2651" y="1067"/>
                  </a:lnTo>
                  <a:lnTo>
                    <a:pt x="2659" y="1029"/>
                  </a:lnTo>
                  <a:lnTo>
                    <a:pt x="2659" y="1006"/>
                  </a:lnTo>
                  <a:lnTo>
                    <a:pt x="2659" y="983"/>
                  </a:lnTo>
                  <a:lnTo>
                    <a:pt x="2659" y="961"/>
                  </a:lnTo>
                  <a:lnTo>
                    <a:pt x="2659" y="938"/>
                  </a:lnTo>
                  <a:lnTo>
                    <a:pt x="2659" y="899"/>
                  </a:lnTo>
                  <a:lnTo>
                    <a:pt x="2659" y="877"/>
                  </a:lnTo>
                  <a:lnTo>
                    <a:pt x="2659" y="854"/>
                  </a:lnTo>
                  <a:lnTo>
                    <a:pt x="2659" y="831"/>
                  </a:lnTo>
                  <a:lnTo>
                    <a:pt x="2659" y="808"/>
                  </a:lnTo>
                  <a:lnTo>
                    <a:pt x="2659" y="785"/>
                  </a:lnTo>
                  <a:lnTo>
                    <a:pt x="2659" y="747"/>
                  </a:lnTo>
                  <a:lnTo>
                    <a:pt x="2651" y="717"/>
                  </a:lnTo>
                  <a:lnTo>
                    <a:pt x="2643" y="686"/>
                  </a:lnTo>
                  <a:lnTo>
                    <a:pt x="2643" y="663"/>
                  </a:lnTo>
                  <a:lnTo>
                    <a:pt x="2628" y="633"/>
                  </a:lnTo>
                  <a:lnTo>
                    <a:pt x="2598" y="594"/>
                  </a:lnTo>
                  <a:lnTo>
                    <a:pt x="2567" y="564"/>
                  </a:lnTo>
                  <a:lnTo>
                    <a:pt x="2552" y="541"/>
                  </a:lnTo>
                  <a:lnTo>
                    <a:pt x="2537" y="518"/>
                  </a:lnTo>
                  <a:lnTo>
                    <a:pt x="2514" y="495"/>
                  </a:lnTo>
                  <a:lnTo>
                    <a:pt x="2491" y="473"/>
                  </a:lnTo>
                  <a:lnTo>
                    <a:pt x="2468" y="449"/>
                  </a:lnTo>
                  <a:lnTo>
                    <a:pt x="2446" y="427"/>
                  </a:lnTo>
                  <a:lnTo>
                    <a:pt x="2422" y="412"/>
                  </a:lnTo>
                  <a:lnTo>
                    <a:pt x="2400" y="397"/>
                  </a:lnTo>
                  <a:lnTo>
                    <a:pt x="2377" y="381"/>
                  </a:lnTo>
                  <a:lnTo>
                    <a:pt x="2346" y="350"/>
                  </a:lnTo>
                  <a:lnTo>
                    <a:pt x="2316" y="335"/>
                  </a:lnTo>
                  <a:lnTo>
                    <a:pt x="2286" y="320"/>
                  </a:lnTo>
                  <a:lnTo>
                    <a:pt x="2255" y="312"/>
                  </a:lnTo>
                  <a:lnTo>
                    <a:pt x="2225" y="297"/>
                  </a:lnTo>
                  <a:lnTo>
                    <a:pt x="2186" y="297"/>
                  </a:lnTo>
                  <a:lnTo>
                    <a:pt x="2163" y="289"/>
                  </a:lnTo>
                  <a:lnTo>
                    <a:pt x="2141" y="289"/>
                  </a:lnTo>
                  <a:lnTo>
                    <a:pt x="2110" y="282"/>
                  </a:lnTo>
                  <a:lnTo>
                    <a:pt x="2087" y="282"/>
                  </a:lnTo>
                  <a:lnTo>
                    <a:pt x="2065" y="274"/>
                  </a:lnTo>
                  <a:lnTo>
                    <a:pt x="2034" y="274"/>
                  </a:lnTo>
                  <a:lnTo>
                    <a:pt x="2011" y="267"/>
                  </a:lnTo>
                  <a:lnTo>
                    <a:pt x="1973" y="259"/>
                  </a:lnTo>
                  <a:lnTo>
                    <a:pt x="1942" y="252"/>
                  </a:lnTo>
                  <a:lnTo>
                    <a:pt x="1912" y="252"/>
                  </a:lnTo>
                  <a:lnTo>
                    <a:pt x="1890" y="244"/>
                  </a:lnTo>
                  <a:lnTo>
                    <a:pt x="1874" y="244"/>
                  </a:lnTo>
                  <a:lnTo>
                    <a:pt x="1851" y="236"/>
                  </a:lnTo>
                  <a:lnTo>
                    <a:pt x="1821" y="236"/>
                  </a:lnTo>
                  <a:lnTo>
                    <a:pt x="1798" y="228"/>
                  </a:lnTo>
                  <a:lnTo>
                    <a:pt x="1775" y="228"/>
                  </a:lnTo>
                  <a:lnTo>
                    <a:pt x="1745" y="221"/>
                  </a:lnTo>
                  <a:lnTo>
                    <a:pt x="1706" y="213"/>
                  </a:lnTo>
                  <a:lnTo>
                    <a:pt x="1683" y="205"/>
                  </a:lnTo>
                  <a:lnTo>
                    <a:pt x="1661" y="205"/>
                  </a:lnTo>
                  <a:lnTo>
                    <a:pt x="1637" y="198"/>
                  </a:lnTo>
                  <a:lnTo>
                    <a:pt x="1607" y="190"/>
                  </a:lnTo>
                  <a:lnTo>
                    <a:pt x="1585" y="183"/>
                  </a:lnTo>
                  <a:lnTo>
                    <a:pt x="1561" y="168"/>
                  </a:lnTo>
                  <a:lnTo>
                    <a:pt x="1531" y="160"/>
                  </a:lnTo>
                  <a:lnTo>
                    <a:pt x="1508" y="144"/>
                  </a:lnTo>
                  <a:lnTo>
                    <a:pt x="1485" y="137"/>
                  </a:lnTo>
                  <a:lnTo>
                    <a:pt x="1462" y="122"/>
                  </a:lnTo>
                  <a:lnTo>
                    <a:pt x="1432" y="114"/>
                  </a:lnTo>
                  <a:lnTo>
                    <a:pt x="1401" y="99"/>
                  </a:lnTo>
                  <a:lnTo>
                    <a:pt x="1378" y="92"/>
                  </a:lnTo>
                  <a:lnTo>
                    <a:pt x="1356" y="84"/>
                  </a:lnTo>
                  <a:lnTo>
                    <a:pt x="1325" y="76"/>
                  </a:lnTo>
                  <a:lnTo>
                    <a:pt x="1302" y="68"/>
                  </a:lnTo>
                  <a:lnTo>
                    <a:pt x="1272" y="60"/>
                  </a:lnTo>
                  <a:lnTo>
                    <a:pt x="1241" y="53"/>
                  </a:lnTo>
                  <a:lnTo>
                    <a:pt x="1203" y="45"/>
                  </a:lnTo>
                  <a:lnTo>
                    <a:pt x="1165" y="38"/>
                  </a:lnTo>
                  <a:lnTo>
                    <a:pt x="1142" y="30"/>
                  </a:lnTo>
                  <a:lnTo>
                    <a:pt x="1112" y="23"/>
                  </a:lnTo>
                  <a:lnTo>
                    <a:pt x="1081" y="15"/>
                  </a:lnTo>
                  <a:lnTo>
                    <a:pt x="1058" y="15"/>
                  </a:lnTo>
                  <a:lnTo>
                    <a:pt x="1028" y="15"/>
                  </a:lnTo>
                  <a:lnTo>
                    <a:pt x="997" y="8"/>
                  </a:lnTo>
                  <a:lnTo>
                    <a:pt x="967" y="8"/>
                  </a:lnTo>
                  <a:lnTo>
                    <a:pt x="937" y="8"/>
                  </a:lnTo>
                  <a:lnTo>
                    <a:pt x="906" y="0"/>
                  </a:lnTo>
                  <a:lnTo>
                    <a:pt x="868" y="0"/>
                  </a:lnTo>
                  <a:lnTo>
                    <a:pt x="830" y="0"/>
                  </a:lnTo>
                  <a:lnTo>
                    <a:pt x="807" y="0"/>
                  </a:lnTo>
                  <a:lnTo>
                    <a:pt x="769" y="0"/>
                  </a:lnTo>
                  <a:lnTo>
                    <a:pt x="731" y="0"/>
                  </a:lnTo>
                  <a:lnTo>
                    <a:pt x="700" y="0"/>
                  </a:lnTo>
                  <a:lnTo>
                    <a:pt x="677" y="0"/>
                  </a:lnTo>
                  <a:lnTo>
                    <a:pt x="655" y="0"/>
                  </a:lnTo>
                  <a:lnTo>
                    <a:pt x="616" y="8"/>
                  </a:lnTo>
                  <a:lnTo>
                    <a:pt x="586" y="8"/>
                  </a:lnTo>
                  <a:lnTo>
                    <a:pt x="556" y="15"/>
                  </a:lnTo>
                  <a:lnTo>
                    <a:pt x="532" y="23"/>
                  </a:lnTo>
                  <a:lnTo>
                    <a:pt x="510" y="30"/>
                  </a:lnTo>
                  <a:lnTo>
                    <a:pt x="487" y="38"/>
                  </a:lnTo>
                  <a:lnTo>
                    <a:pt x="464" y="53"/>
                  </a:lnTo>
                  <a:lnTo>
                    <a:pt x="441" y="68"/>
                  </a:lnTo>
                  <a:lnTo>
                    <a:pt x="419" y="84"/>
                  </a:lnTo>
                  <a:lnTo>
                    <a:pt x="396" y="92"/>
                  </a:lnTo>
                  <a:lnTo>
                    <a:pt x="372" y="114"/>
                  </a:lnTo>
                  <a:lnTo>
                    <a:pt x="350" y="129"/>
                  </a:lnTo>
                  <a:lnTo>
                    <a:pt x="327" y="152"/>
                  </a:lnTo>
                  <a:lnTo>
                    <a:pt x="304" y="175"/>
                  </a:lnTo>
                  <a:lnTo>
                    <a:pt x="281" y="198"/>
                  </a:lnTo>
                  <a:lnTo>
                    <a:pt x="266" y="221"/>
                  </a:lnTo>
                  <a:lnTo>
                    <a:pt x="251" y="244"/>
                  </a:lnTo>
                  <a:lnTo>
                    <a:pt x="236" y="267"/>
                  </a:lnTo>
                  <a:lnTo>
                    <a:pt x="220" y="289"/>
                  </a:lnTo>
                  <a:lnTo>
                    <a:pt x="212" y="320"/>
                  </a:lnTo>
                  <a:lnTo>
                    <a:pt x="197" y="350"/>
                  </a:lnTo>
                  <a:lnTo>
                    <a:pt x="190" y="366"/>
                  </a:lnTo>
                  <a:lnTo>
                    <a:pt x="182" y="389"/>
                  </a:lnTo>
                  <a:lnTo>
                    <a:pt x="175" y="412"/>
                  </a:lnTo>
                  <a:lnTo>
                    <a:pt x="167" y="434"/>
                  </a:lnTo>
                  <a:lnTo>
                    <a:pt x="160" y="457"/>
                  </a:lnTo>
                  <a:lnTo>
                    <a:pt x="160" y="480"/>
                  </a:lnTo>
                  <a:lnTo>
                    <a:pt x="144" y="503"/>
                  </a:lnTo>
                  <a:lnTo>
                    <a:pt x="121" y="518"/>
                  </a:lnTo>
                  <a:lnTo>
                    <a:pt x="114" y="541"/>
                  </a:lnTo>
                  <a:lnTo>
                    <a:pt x="91" y="557"/>
                  </a:lnTo>
                  <a:lnTo>
                    <a:pt x="84" y="579"/>
                  </a:lnTo>
                  <a:lnTo>
                    <a:pt x="68" y="594"/>
                  </a:lnTo>
                  <a:lnTo>
                    <a:pt x="60" y="617"/>
                  </a:lnTo>
                  <a:lnTo>
                    <a:pt x="52" y="640"/>
                  </a:lnTo>
                  <a:lnTo>
                    <a:pt x="52" y="656"/>
                  </a:lnTo>
                </a:path>
              </a:pathLst>
            </a:custGeom>
            <a:gradFill rotWithShape="0">
              <a:gsLst>
                <a:gs pos="0">
                  <a:srgbClr val="ffabb9"/>
                </a:gs>
                <a:gs pos="100000">
                  <a:srgbClr val="b1050d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95280" y="3200040"/>
              <a:ext cx="135720" cy="98280"/>
            </a:xfrm>
            <a:prstGeom prst="triangle">
              <a:avLst>
                <a:gd name="adj" fmla="val 43667"/>
              </a:avLst>
            </a:prstGeom>
            <a:solidFill>
              <a:srgbClr val="919191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10800000">
              <a:off x="3992400" y="3301200"/>
              <a:ext cx="135720" cy="97920"/>
            </a:xfrm>
            <a:prstGeom prst="triangle">
              <a:avLst>
                <a:gd name="adj" fmla="val 100000"/>
              </a:avLst>
            </a:prstGeom>
            <a:solidFill>
              <a:srgbClr val="86868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4053240" y="3199680"/>
              <a:ext cx="135720" cy="98280"/>
            </a:xfrm>
            <a:prstGeom prst="triangle">
              <a:avLst>
                <a:gd name="adj" fmla="val 43667"/>
              </a:avLst>
            </a:prstGeom>
            <a:solidFill>
              <a:srgbClr val="86868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0800000">
              <a:off x="4132080" y="3300480"/>
              <a:ext cx="135720" cy="97560"/>
            </a:xfrm>
            <a:prstGeom prst="triangle">
              <a:avLst>
                <a:gd name="adj" fmla="val 100000"/>
              </a:avLst>
            </a:prstGeom>
            <a:solidFill>
              <a:srgbClr val="c3c3c3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97240" y="3061080"/>
              <a:ext cx="146160" cy="92880"/>
            </a:xfrm>
            <a:prstGeom prst="triangle">
              <a:avLst>
                <a:gd name="adj" fmla="val 49986"/>
              </a:avLst>
            </a:prstGeom>
            <a:solidFill>
              <a:srgbClr val="b2b2b2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32440" y="3201120"/>
              <a:ext cx="131400" cy="97200"/>
            </a:xfrm>
            <a:prstGeom prst="triangle">
              <a:avLst>
                <a:gd name="adj" fmla="val 43866"/>
              </a:avLst>
            </a:prstGeom>
            <a:solidFill>
              <a:srgbClr val="b2b2b2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6120" y="3090960"/>
              <a:ext cx="132480" cy="106920"/>
            </a:xfrm>
            <a:prstGeom prst="triangle">
              <a:avLst>
                <a:gd name="adj" fmla="val 49968"/>
              </a:avLst>
            </a:prstGeom>
            <a:solidFill>
              <a:srgbClr val="86868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94560" y="3299760"/>
              <a:ext cx="137160" cy="99360"/>
            </a:xfrm>
            <a:custGeom>
              <a:avLst/>
              <a:gdLst/>
              <a:ahLst/>
              <a:rect l="l" t="t" r="r" b="b"/>
              <a:pathLst>
                <a:path w="362" h="262">
                  <a:moveTo>
                    <a:pt x="0" y="0"/>
                  </a:moveTo>
                  <a:lnTo>
                    <a:pt x="48" y="213"/>
                  </a:lnTo>
                  <a:lnTo>
                    <a:pt x="361" y="261"/>
                  </a:lnTo>
                  <a:lnTo>
                    <a:pt x="0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75840" y="3200040"/>
              <a:ext cx="78480" cy="97920"/>
            </a:xfrm>
            <a:custGeom>
              <a:avLst/>
              <a:gdLst/>
              <a:ahLst/>
              <a:rect l="l" t="t" r="r" b="b"/>
              <a:pathLst>
                <a:path w="207" h="258">
                  <a:moveTo>
                    <a:pt x="52" y="257"/>
                  </a:moveTo>
                  <a:lnTo>
                    <a:pt x="0" y="88"/>
                  </a:lnTo>
                  <a:lnTo>
                    <a:pt x="206" y="0"/>
                  </a:lnTo>
                  <a:lnTo>
                    <a:pt x="52" y="257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3235680"/>
              <a:ext cx="33840" cy="70560"/>
            </a:xfrm>
            <a:custGeom>
              <a:avLst/>
              <a:gdLst/>
              <a:ahLst/>
              <a:rect l="l" t="t" r="r" b="b"/>
              <a:pathLst>
                <a:path w="90" h="186">
                  <a:moveTo>
                    <a:pt x="36" y="0"/>
                  </a:moveTo>
                  <a:lnTo>
                    <a:pt x="0" y="185"/>
                  </a:lnTo>
                  <a:lnTo>
                    <a:pt x="89" y="172"/>
                  </a:lnTo>
                  <a:lnTo>
                    <a:pt x="36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3240" y="3301560"/>
              <a:ext cx="50400" cy="8208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81" y="0"/>
                  </a:moveTo>
                  <a:lnTo>
                    <a:pt x="0" y="12"/>
                  </a:lnTo>
                  <a:lnTo>
                    <a:pt x="132" y="216"/>
                  </a:lnTo>
                  <a:lnTo>
                    <a:pt x="81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75840" y="3157560"/>
              <a:ext cx="79560" cy="77760"/>
            </a:xfrm>
            <a:custGeom>
              <a:avLst/>
              <a:gdLst/>
              <a:ahLst/>
              <a:rect l="l" t="t" r="r" b="b"/>
              <a:pathLst>
                <a:path w="210" h="205">
                  <a:moveTo>
                    <a:pt x="209" y="110"/>
                  </a:moveTo>
                  <a:lnTo>
                    <a:pt x="129" y="0"/>
                  </a:lnTo>
                  <a:lnTo>
                    <a:pt x="0" y="204"/>
                  </a:lnTo>
                  <a:lnTo>
                    <a:pt x="209" y="11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23360" y="3089880"/>
              <a:ext cx="100440" cy="111960"/>
            </a:xfrm>
            <a:custGeom>
              <a:avLst/>
              <a:gdLst/>
              <a:ahLst/>
              <a:rect l="l" t="t" r="r" b="b"/>
              <a:pathLst>
                <a:path w="265" h="295">
                  <a:moveTo>
                    <a:pt x="0" y="175"/>
                  </a:moveTo>
                  <a:lnTo>
                    <a:pt x="86" y="294"/>
                  </a:lnTo>
                  <a:lnTo>
                    <a:pt x="264" y="0"/>
                  </a:lnTo>
                  <a:lnTo>
                    <a:pt x="0" y="175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12560" y="3381840"/>
              <a:ext cx="118440" cy="43920"/>
            </a:xfrm>
            <a:custGeom>
              <a:avLst/>
              <a:gdLst/>
              <a:ahLst/>
              <a:rect l="l" t="t" r="r" b="b"/>
              <a:pathLst>
                <a:path w="313" h="116">
                  <a:moveTo>
                    <a:pt x="312" y="45"/>
                  </a:moveTo>
                  <a:lnTo>
                    <a:pt x="309" y="115"/>
                  </a:lnTo>
                  <a:lnTo>
                    <a:pt x="0" y="0"/>
                  </a:lnTo>
                  <a:lnTo>
                    <a:pt x="312" y="4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3360" y="3090240"/>
              <a:ext cx="101160" cy="66600"/>
            </a:xfrm>
            <a:custGeom>
              <a:avLst/>
              <a:gdLst/>
              <a:ahLst/>
              <a:rect l="l" t="t" r="r" b="b"/>
              <a:pathLst>
                <a:path w="267" h="176">
                  <a:moveTo>
                    <a:pt x="0" y="175"/>
                  </a:moveTo>
                  <a:lnTo>
                    <a:pt x="52" y="0"/>
                  </a:lnTo>
                  <a:lnTo>
                    <a:pt x="266" y="0"/>
                  </a:lnTo>
                  <a:lnTo>
                    <a:pt x="0" y="175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4240" y="3030840"/>
              <a:ext cx="81360" cy="61200"/>
            </a:xfrm>
            <a:custGeom>
              <a:avLst/>
              <a:gdLst/>
              <a:ahLst/>
              <a:rect l="l" t="t" r="r" b="b"/>
              <a:pathLst>
                <a:path w="215" h="162">
                  <a:moveTo>
                    <a:pt x="0" y="156"/>
                  </a:moveTo>
                  <a:lnTo>
                    <a:pt x="108" y="0"/>
                  </a:lnTo>
                  <a:lnTo>
                    <a:pt x="214" y="161"/>
                  </a:lnTo>
                  <a:lnTo>
                    <a:pt x="0" y="156"/>
                  </a:lnTo>
                </a:path>
              </a:pathLst>
            </a:custGeom>
            <a:solidFill>
              <a:srgbClr val="29292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31000" y="3398040"/>
              <a:ext cx="79560" cy="45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4" y="0"/>
                  </a:moveTo>
                  <a:lnTo>
                    <a:pt x="209" y="118"/>
                  </a:lnTo>
                  <a:lnTo>
                    <a:pt x="0" y="7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31720" y="3302280"/>
              <a:ext cx="135000" cy="143280"/>
            </a:xfrm>
            <a:custGeom>
              <a:avLst/>
              <a:gdLst/>
              <a:ahLst/>
              <a:rect l="l" t="t" r="r" b="b"/>
              <a:pathLst>
                <a:path w="356" h="378">
                  <a:moveTo>
                    <a:pt x="355" y="0"/>
                  </a:moveTo>
                  <a:lnTo>
                    <a:pt x="215" y="377"/>
                  </a:lnTo>
                  <a:lnTo>
                    <a:pt x="0" y="252"/>
                  </a:lnTo>
                  <a:lnTo>
                    <a:pt x="355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24160" y="3092040"/>
              <a:ext cx="147960" cy="107640"/>
            </a:xfrm>
            <a:custGeom>
              <a:avLst/>
              <a:gdLst/>
              <a:ahLst/>
              <a:rect l="l" t="t" r="r" b="b"/>
              <a:pathLst>
                <a:path w="390" h="284">
                  <a:moveTo>
                    <a:pt x="0" y="0"/>
                  </a:moveTo>
                  <a:lnTo>
                    <a:pt x="389" y="165"/>
                  </a:lnTo>
                  <a:lnTo>
                    <a:pt x="170" y="283"/>
                  </a:lnTo>
                  <a:lnTo>
                    <a:pt x="0" y="0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26320" y="3058560"/>
              <a:ext cx="145800" cy="97200"/>
            </a:xfrm>
            <a:custGeom>
              <a:avLst/>
              <a:gdLst/>
              <a:ahLst/>
              <a:rect l="l" t="t" r="r" b="b"/>
              <a:pathLst>
                <a:path w="385" h="257">
                  <a:moveTo>
                    <a:pt x="0" y="86"/>
                  </a:moveTo>
                  <a:lnTo>
                    <a:pt x="384" y="0"/>
                  </a:lnTo>
                  <a:lnTo>
                    <a:pt x="381" y="256"/>
                  </a:lnTo>
                  <a:lnTo>
                    <a:pt x="0" y="86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88240" y="3154680"/>
              <a:ext cx="81360" cy="145080"/>
            </a:xfrm>
            <a:custGeom>
              <a:avLst/>
              <a:gdLst/>
              <a:ahLst/>
              <a:rect l="l" t="t" r="r" b="b"/>
              <a:pathLst>
                <a:path w="215" h="383">
                  <a:moveTo>
                    <a:pt x="214" y="0"/>
                  </a:moveTo>
                  <a:lnTo>
                    <a:pt x="206" y="382"/>
                  </a:lnTo>
                  <a:lnTo>
                    <a:pt x="0" y="120"/>
                  </a:lnTo>
                  <a:lnTo>
                    <a:pt x="214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6720" y="3154680"/>
              <a:ext cx="78480" cy="147240"/>
            </a:xfrm>
            <a:custGeom>
              <a:avLst/>
              <a:gdLst/>
              <a:ahLst/>
              <a:rect l="l" t="t" r="r" b="b"/>
              <a:pathLst>
                <a:path w="207" h="388">
                  <a:moveTo>
                    <a:pt x="11" y="0"/>
                  </a:moveTo>
                  <a:lnTo>
                    <a:pt x="206" y="2"/>
                  </a:lnTo>
                  <a:lnTo>
                    <a:pt x="0" y="387"/>
                  </a:lnTo>
                  <a:lnTo>
                    <a:pt x="11" y="0"/>
                  </a:lnTo>
                </a:path>
              </a:pathLst>
            </a:custGeom>
            <a:solidFill>
              <a:srgbClr val="dddddd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85280" y="2987280"/>
              <a:ext cx="65160" cy="105840"/>
            </a:xfrm>
            <a:custGeom>
              <a:avLst/>
              <a:gdLst/>
              <a:ahLst/>
              <a:rect l="l" t="t" r="r" b="b"/>
              <a:pathLst>
                <a:path w="172" h="279">
                  <a:moveTo>
                    <a:pt x="0" y="115"/>
                  </a:moveTo>
                  <a:lnTo>
                    <a:pt x="171" y="0"/>
                  </a:lnTo>
                  <a:lnTo>
                    <a:pt x="103" y="278"/>
                  </a:lnTo>
                  <a:lnTo>
                    <a:pt x="0" y="115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25240" y="2987280"/>
              <a:ext cx="147960" cy="105840"/>
            </a:xfrm>
            <a:custGeom>
              <a:avLst/>
              <a:gdLst/>
              <a:ahLst/>
              <a:rect l="l" t="t" r="r" b="b"/>
              <a:pathLst>
                <a:path w="390" h="279">
                  <a:moveTo>
                    <a:pt x="67" y="0"/>
                  </a:moveTo>
                  <a:lnTo>
                    <a:pt x="389" y="186"/>
                  </a:lnTo>
                  <a:lnTo>
                    <a:pt x="0" y="278"/>
                  </a:lnTo>
                  <a:lnTo>
                    <a:pt x="67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4560" y="3155760"/>
              <a:ext cx="138600" cy="146160"/>
            </a:xfrm>
            <a:custGeom>
              <a:avLst/>
              <a:gdLst/>
              <a:ahLst/>
              <a:rect l="l" t="t" r="r" b="b"/>
              <a:pathLst>
                <a:path w="366" h="385">
                  <a:moveTo>
                    <a:pt x="213" y="0"/>
                  </a:moveTo>
                  <a:lnTo>
                    <a:pt x="365" y="312"/>
                  </a:lnTo>
                  <a:lnTo>
                    <a:pt x="0" y="384"/>
                  </a:lnTo>
                  <a:lnTo>
                    <a:pt x="213" y="0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8520" y="3274200"/>
              <a:ext cx="135720" cy="144000"/>
            </a:xfrm>
            <a:custGeom>
              <a:avLst/>
              <a:gdLst/>
              <a:ahLst/>
              <a:rect l="l" t="t" r="r" b="b"/>
              <a:pathLst>
                <a:path w="358" h="380">
                  <a:moveTo>
                    <a:pt x="0" y="71"/>
                  </a:moveTo>
                  <a:lnTo>
                    <a:pt x="196" y="379"/>
                  </a:lnTo>
                  <a:lnTo>
                    <a:pt x="357" y="0"/>
                  </a:lnTo>
                  <a:lnTo>
                    <a:pt x="0" y="71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13800" y="3301560"/>
              <a:ext cx="130320" cy="142920"/>
            </a:xfrm>
            <a:custGeom>
              <a:avLst/>
              <a:gdLst/>
              <a:ahLst/>
              <a:rect l="l" t="t" r="r" b="b"/>
              <a:pathLst>
                <a:path w="344" h="377">
                  <a:moveTo>
                    <a:pt x="141" y="0"/>
                  </a:moveTo>
                  <a:lnTo>
                    <a:pt x="343" y="311"/>
                  </a:lnTo>
                  <a:lnTo>
                    <a:pt x="0" y="376"/>
                  </a:lnTo>
                  <a:lnTo>
                    <a:pt x="141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2000" y="3418920"/>
              <a:ext cx="133200" cy="74880"/>
            </a:xfrm>
            <a:custGeom>
              <a:avLst/>
              <a:gdLst/>
              <a:ahLst/>
              <a:rect l="l" t="t" r="r" b="b"/>
              <a:pathLst>
                <a:path w="351" h="198">
                  <a:moveTo>
                    <a:pt x="350" y="0"/>
                  </a:moveTo>
                  <a:lnTo>
                    <a:pt x="318" y="197"/>
                  </a:lnTo>
                  <a:lnTo>
                    <a:pt x="0" y="67"/>
                  </a:lnTo>
                  <a:lnTo>
                    <a:pt x="350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0800" y="2972520"/>
              <a:ext cx="122400" cy="86760"/>
            </a:xfrm>
            <a:custGeom>
              <a:avLst/>
              <a:gdLst/>
              <a:ahLst/>
              <a:rect l="l" t="t" r="r" b="b"/>
              <a:pathLst>
                <a:path w="323" h="229">
                  <a:moveTo>
                    <a:pt x="0" y="36"/>
                  </a:moveTo>
                  <a:lnTo>
                    <a:pt x="235" y="0"/>
                  </a:lnTo>
                  <a:lnTo>
                    <a:pt x="322" y="228"/>
                  </a:lnTo>
                  <a:lnTo>
                    <a:pt x="0" y="36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39360" y="2971800"/>
              <a:ext cx="106920" cy="86760"/>
            </a:xfrm>
            <a:custGeom>
              <a:avLst/>
              <a:gdLst/>
              <a:ahLst/>
              <a:rect l="l" t="t" r="r" b="b"/>
              <a:pathLst>
                <a:path w="282" h="229">
                  <a:moveTo>
                    <a:pt x="0" y="0"/>
                  </a:moveTo>
                  <a:lnTo>
                    <a:pt x="281" y="14"/>
                  </a:lnTo>
                  <a:lnTo>
                    <a:pt x="86" y="228"/>
                  </a:lnTo>
                  <a:lnTo>
                    <a:pt x="0" y="0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70320" y="2977920"/>
              <a:ext cx="75960" cy="179640"/>
            </a:xfrm>
            <a:custGeom>
              <a:avLst/>
              <a:gdLst/>
              <a:ahLst/>
              <a:rect l="l" t="t" r="r" b="b"/>
              <a:pathLst>
                <a:path w="201" h="474">
                  <a:moveTo>
                    <a:pt x="200" y="0"/>
                  </a:moveTo>
                  <a:lnTo>
                    <a:pt x="195" y="473"/>
                  </a:lnTo>
                  <a:lnTo>
                    <a:pt x="0" y="211"/>
                  </a:lnTo>
                  <a:lnTo>
                    <a:pt x="200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4120" y="2976840"/>
              <a:ext cx="137520" cy="177840"/>
            </a:xfrm>
            <a:custGeom>
              <a:avLst/>
              <a:gdLst/>
              <a:ahLst/>
              <a:rect l="l" t="t" r="r" b="b"/>
              <a:pathLst>
                <a:path w="363" h="469">
                  <a:moveTo>
                    <a:pt x="4" y="0"/>
                  </a:moveTo>
                  <a:lnTo>
                    <a:pt x="362" y="367"/>
                  </a:lnTo>
                  <a:lnTo>
                    <a:pt x="0" y="468"/>
                  </a:lnTo>
                  <a:lnTo>
                    <a:pt x="4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44840" y="3116520"/>
              <a:ext cx="136080" cy="158400"/>
            </a:xfrm>
            <a:custGeom>
              <a:avLst/>
              <a:gdLst/>
              <a:ahLst/>
              <a:rect l="l" t="t" r="r" b="b"/>
              <a:pathLst>
                <a:path w="359" h="418">
                  <a:moveTo>
                    <a:pt x="358" y="0"/>
                  </a:moveTo>
                  <a:lnTo>
                    <a:pt x="156" y="417"/>
                  </a:lnTo>
                  <a:lnTo>
                    <a:pt x="0" y="100"/>
                  </a:lnTo>
                  <a:lnTo>
                    <a:pt x="7" y="95"/>
                  </a:lnTo>
                  <a:lnTo>
                    <a:pt x="358" y="0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44120" y="2975040"/>
              <a:ext cx="173880" cy="140760"/>
            </a:xfrm>
            <a:custGeom>
              <a:avLst/>
              <a:gdLst/>
              <a:ahLst/>
              <a:rect l="l" t="t" r="r" b="b"/>
              <a:pathLst>
                <a:path w="459" h="371">
                  <a:moveTo>
                    <a:pt x="7" y="0"/>
                  </a:moveTo>
                  <a:lnTo>
                    <a:pt x="458" y="117"/>
                  </a:lnTo>
                  <a:lnTo>
                    <a:pt x="357" y="370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78400" y="3021120"/>
              <a:ext cx="97200" cy="95760"/>
            </a:xfrm>
            <a:custGeom>
              <a:avLst/>
              <a:gdLst/>
              <a:ahLst/>
              <a:rect l="l" t="t" r="r" b="b"/>
              <a:pathLst>
                <a:path w="257" h="253">
                  <a:moveTo>
                    <a:pt x="103" y="0"/>
                  </a:moveTo>
                  <a:lnTo>
                    <a:pt x="256" y="69"/>
                  </a:lnTo>
                  <a:lnTo>
                    <a:pt x="0" y="252"/>
                  </a:lnTo>
                  <a:lnTo>
                    <a:pt x="103" y="0"/>
                  </a:lnTo>
                </a:path>
              </a:pathLst>
            </a:custGeom>
            <a:solidFill>
              <a:srgbClr val="5f5f5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05320" y="3115440"/>
              <a:ext cx="246960" cy="158760"/>
            </a:xfrm>
            <a:custGeom>
              <a:avLst/>
              <a:gdLst/>
              <a:ahLst/>
              <a:rect l="l" t="t" r="r" b="b"/>
              <a:pathLst>
                <a:path w="651" h="419">
                  <a:moveTo>
                    <a:pt x="199" y="0"/>
                  </a:moveTo>
                  <a:lnTo>
                    <a:pt x="650" y="182"/>
                  </a:lnTo>
                  <a:lnTo>
                    <a:pt x="0" y="418"/>
                  </a:lnTo>
                  <a:lnTo>
                    <a:pt x="199" y="0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8760" y="3048480"/>
              <a:ext cx="172440" cy="137520"/>
            </a:xfrm>
            <a:custGeom>
              <a:avLst/>
              <a:gdLst/>
              <a:ahLst/>
              <a:rect l="l" t="t" r="r" b="b"/>
              <a:pathLst>
                <a:path w="455" h="363">
                  <a:moveTo>
                    <a:pt x="252" y="0"/>
                  </a:moveTo>
                  <a:lnTo>
                    <a:pt x="454" y="362"/>
                  </a:lnTo>
                  <a:lnTo>
                    <a:pt x="0" y="177"/>
                  </a:lnTo>
                  <a:lnTo>
                    <a:pt x="252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05320" y="3184920"/>
              <a:ext cx="246240" cy="154800"/>
            </a:xfrm>
            <a:custGeom>
              <a:avLst/>
              <a:gdLst/>
              <a:ahLst/>
              <a:rect l="l" t="t" r="r" b="b"/>
              <a:pathLst>
                <a:path w="649" h="408">
                  <a:moveTo>
                    <a:pt x="0" y="237"/>
                  </a:moveTo>
                  <a:lnTo>
                    <a:pt x="494" y="407"/>
                  </a:lnTo>
                  <a:lnTo>
                    <a:pt x="648" y="0"/>
                  </a:lnTo>
                  <a:lnTo>
                    <a:pt x="0" y="237"/>
                  </a:lnTo>
                </a:path>
              </a:pathLst>
            </a:custGeom>
            <a:solidFill>
              <a:srgbClr val="eaeaea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43040" y="3274200"/>
              <a:ext cx="249120" cy="146520"/>
            </a:xfrm>
            <a:custGeom>
              <a:avLst/>
              <a:gdLst/>
              <a:ahLst/>
              <a:rect l="l" t="t" r="r" b="b"/>
              <a:pathLst>
                <a:path w="657" h="387">
                  <a:moveTo>
                    <a:pt x="168" y="0"/>
                  </a:moveTo>
                  <a:lnTo>
                    <a:pt x="0" y="386"/>
                  </a:lnTo>
                  <a:lnTo>
                    <a:pt x="656" y="170"/>
                  </a:lnTo>
                  <a:lnTo>
                    <a:pt x="168" y="0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45920" y="3337920"/>
              <a:ext cx="246240" cy="135720"/>
            </a:xfrm>
            <a:custGeom>
              <a:avLst/>
              <a:gdLst/>
              <a:ahLst/>
              <a:rect l="l" t="t" r="r" b="b"/>
              <a:pathLst>
                <a:path w="649" h="358">
                  <a:moveTo>
                    <a:pt x="0" y="215"/>
                  </a:moveTo>
                  <a:lnTo>
                    <a:pt x="321" y="357"/>
                  </a:lnTo>
                  <a:lnTo>
                    <a:pt x="331" y="357"/>
                  </a:lnTo>
                  <a:lnTo>
                    <a:pt x="648" y="0"/>
                  </a:lnTo>
                  <a:lnTo>
                    <a:pt x="0" y="215"/>
                  </a:lnTo>
                </a:path>
              </a:pathLst>
            </a:custGeom>
            <a:solidFill>
              <a:srgbClr val="777777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34040" y="3420000"/>
              <a:ext cx="136080" cy="73800"/>
            </a:xfrm>
            <a:custGeom>
              <a:avLst/>
              <a:gdLst/>
              <a:ahLst/>
              <a:rect l="l" t="t" r="r" b="b"/>
              <a:pathLst>
                <a:path w="359" h="195">
                  <a:moveTo>
                    <a:pt x="28" y="0"/>
                  </a:moveTo>
                  <a:lnTo>
                    <a:pt x="358" y="146"/>
                  </a:lnTo>
                  <a:lnTo>
                    <a:pt x="0" y="194"/>
                  </a:lnTo>
                  <a:lnTo>
                    <a:pt x="28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34760" y="3475440"/>
              <a:ext cx="135000" cy="54720"/>
            </a:xfrm>
            <a:custGeom>
              <a:avLst/>
              <a:gdLst/>
              <a:ahLst/>
              <a:rect l="l" t="t" r="r" b="b"/>
              <a:pathLst>
                <a:path w="356" h="145">
                  <a:moveTo>
                    <a:pt x="355" y="0"/>
                  </a:moveTo>
                  <a:lnTo>
                    <a:pt x="287" y="144"/>
                  </a:lnTo>
                  <a:lnTo>
                    <a:pt x="0" y="50"/>
                  </a:lnTo>
                  <a:lnTo>
                    <a:pt x="355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69040" y="3337920"/>
              <a:ext cx="157680" cy="163080"/>
            </a:xfrm>
            <a:custGeom>
              <a:avLst/>
              <a:gdLst/>
              <a:ahLst/>
              <a:rect l="l" t="t" r="r" b="b"/>
              <a:pathLst>
                <a:path w="416" h="430">
                  <a:moveTo>
                    <a:pt x="323" y="0"/>
                  </a:moveTo>
                  <a:lnTo>
                    <a:pt x="415" y="429"/>
                  </a:lnTo>
                  <a:lnTo>
                    <a:pt x="0" y="354"/>
                  </a:lnTo>
                  <a:lnTo>
                    <a:pt x="323" y="0"/>
                  </a:lnTo>
                </a:path>
              </a:pathLst>
            </a:custGeom>
            <a:solidFill>
              <a:srgbClr val="39393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4560" y="3472920"/>
              <a:ext cx="185040" cy="56880"/>
            </a:xfrm>
            <a:custGeom>
              <a:avLst/>
              <a:gdLst/>
              <a:ahLst/>
              <a:rect l="l" t="t" r="r" b="b"/>
              <a:pathLst>
                <a:path w="488" h="150">
                  <a:moveTo>
                    <a:pt x="69" y="0"/>
                  </a:moveTo>
                  <a:lnTo>
                    <a:pt x="487" y="76"/>
                  </a:lnTo>
                  <a:lnTo>
                    <a:pt x="0" y="149"/>
                  </a:lnTo>
                  <a:lnTo>
                    <a:pt x="69" y="0"/>
                  </a:lnTo>
                </a:path>
              </a:pathLst>
            </a:custGeom>
            <a:solidFill>
              <a:srgbClr val="29292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44560" y="3502800"/>
              <a:ext cx="183240" cy="55440"/>
            </a:xfrm>
            <a:custGeom>
              <a:avLst/>
              <a:gdLst/>
              <a:ahLst/>
              <a:rect l="l" t="t" r="r" b="b"/>
              <a:pathLst>
                <a:path w="483" h="147">
                  <a:moveTo>
                    <a:pt x="482" y="0"/>
                  </a:moveTo>
                  <a:lnTo>
                    <a:pt x="362" y="146"/>
                  </a:lnTo>
                  <a:lnTo>
                    <a:pt x="0" y="71"/>
                  </a:lnTo>
                  <a:lnTo>
                    <a:pt x="48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81720" y="3502080"/>
              <a:ext cx="196200" cy="56520"/>
            </a:xfrm>
            <a:custGeom>
              <a:avLst/>
              <a:gdLst/>
              <a:ahLst/>
              <a:rect l="l" t="t" r="r" b="b"/>
              <a:pathLst>
                <a:path w="517" h="149">
                  <a:moveTo>
                    <a:pt x="120" y="0"/>
                  </a:moveTo>
                  <a:lnTo>
                    <a:pt x="132" y="0"/>
                  </a:lnTo>
                  <a:lnTo>
                    <a:pt x="141" y="2"/>
                  </a:lnTo>
                  <a:lnTo>
                    <a:pt x="516" y="114"/>
                  </a:lnTo>
                  <a:lnTo>
                    <a:pt x="0" y="148"/>
                  </a:lnTo>
                  <a:lnTo>
                    <a:pt x="12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94680" y="3338640"/>
              <a:ext cx="123840" cy="163440"/>
            </a:xfrm>
            <a:custGeom>
              <a:avLst/>
              <a:gdLst/>
              <a:ahLst/>
              <a:rect l="l" t="t" r="r" b="b"/>
              <a:pathLst>
                <a:path w="327" h="431">
                  <a:moveTo>
                    <a:pt x="0" y="0"/>
                  </a:moveTo>
                  <a:lnTo>
                    <a:pt x="326" y="293"/>
                  </a:lnTo>
                  <a:lnTo>
                    <a:pt x="83" y="430"/>
                  </a:lnTo>
                  <a:lnTo>
                    <a:pt x="0" y="0"/>
                  </a:lnTo>
                </a:path>
              </a:pathLst>
            </a:custGeom>
            <a:solidFill>
              <a:srgbClr val="868686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26720" y="3448080"/>
              <a:ext cx="148680" cy="96480"/>
            </a:xfrm>
            <a:custGeom>
              <a:avLst/>
              <a:gdLst/>
              <a:ahLst/>
              <a:rect l="l" t="t" r="r" b="b"/>
              <a:pathLst>
                <a:path w="392" h="255">
                  <a:moveTo>
                    <a:pt x="391" y="254"/>
                  </a:moveTo>
                  <a:lnTo>
                    <a:pt x="237" y="0"/>
                  </a:lnTo>
                  <a:lnTo>
                    <a:pt x="0" y="138"/>
                  </a:lnTo>
                  <a:lnTo>
                    <a:pt x="391" y="254"/>
                  </a:lnTo>
                </a:path>
              </a:pathLst>
            </a:custGeom>
            <a:solidFill>
              <a:srgbClr val="292929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92880" y="3187800"/>
              <a:ext cx="110520" cy="150480"/>
            </a:xfrm>
            <a:custGeom>
              <a:avLst/>
              <a:gdLst/>
              <a:ahLst/>
              <a:rect l="l" t="t" r="r" b="b"/>
              <a:pathLst>
                <a:path w="292" h="397">
                  <a:moveTo>
                    <a:pt x="153" y="0"/>
                  </a:moveTo>
                  <a:lnTo>
                    <a:pt x="291" y="393"/>
                  </a:lnTo>
                  <a:lnTo>
                    <a:pt x="0" y="396"/>
                  </a:lnTo>
                  <a:lnTo>
                    <a:pt x="1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94680" y="3336120"/>
              <a:ext cx="121320" cy="110160"/>
            </a:xfrm>
            <a:custGeom>
              <a:avLst/>
              <a:gdLst/>
              <a:ahLst/>
              <a:rect l="l" t="t" r="r" b="b"/>
              <a:pathLst>
                <a:path w="320" h="291">
                  <a:moveTo>
                    <a:pt x="0" y="4"/>
                  </a:moveTo>
                  <a:lnTo>
                    <a:pt x="287" y="0"/>
                  </a:lnTo>
                  <a:lnTo>
                    <a:pt x="319" y="290"/>
                  </a:lnTo>
                  <a:lnTo>
                    <a:pt x="0" y="4"/>
                  </a:lnTo>
                </a:path>
              </a:pathLst>
            </a:custGeom>
            <a:solidFill>
              <a:srgbClr val="cbcbcb"/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809880" y="3581280"/>
            <a:ext cx="1600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sellated Pl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590920"/>
            <a:ext cx="13716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s of plate model vertices and associated plates, and optionally, albedo data for each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5715000"/>
            <a:ext cx="1676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tary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 containing rotation data for the body, and possi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-axial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5334120"/>
            <a:ext cx="1523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source of rotation state information (pole RA/DEC and prime meridian lo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4378320"/>
            <a:ext cx="13716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sually done by NAI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529160"/>
            <a:ext cx="42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19560" y="4529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5638680"/>
            <a:ext cx="137160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sually done by NAIF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79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962520" y="1371600"/>
            <a:ext cx="1194840" cy="1087560"/>
            <a:chOff x="3962520" y="1371600"/>
            <a:chExt cx="1194840" cy="108756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3962520" y="1435320"/>
              <a:ext cx="105912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965840" y="1371600"/>
              <a:ext cx="191520" cy="108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209680" y="1600200"/>
            <a:ext cx="1067040" cy="457200"/>
          </a:xfrm>
          <a:prstGeom prst="roundRect">
            <a:avLst>
              <a:gd name="adj" fmla="val 16667"/>
            </a:avLst>
          </a:prstGeom>
          <a:solidFill>
            <a:srgbClr val="5e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00320" y="1617840"/>
            <a:ext cx="1095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a D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PICE Toolki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11760" y="2405160"/>
            <a:ext cx="1207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Ter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160" y="4876920"/>
            <a:ext cx="1396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iaxial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962520" y="5334120"/>
            <a:ext cx="1090440" cy="1052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36440" y="4238640"/>
            <a:ext cx="14637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xes dimensions for tri-axial ellips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6440" y="1571760"/>
            <a:ext cx="1683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/LON and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ove ellipsoid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ance from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18288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371600"/>
            <a:ext cx="1752480" cy="266688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666880"/>
              <a:gd name="textAreaBottom" fmla="*/ 2581560 h 2666880"/>
            </a:gdLst>
            <a:ahLst/>
            <a:rect l="textAreaLeft" t="textAreaTop" r="textAreaRight" b="textAreaBottom"/>
            <a:pathLst>
              <a:path w="21600" h="32868">
                <a:moveTo>
                  <a:pt x="3600" y="0"/>
                </a:moveTo>
                <a:arcTo wR="3600" hR="3600" stAng="16200000" swAng="-5400000"/>
                <a:lnTo>
                  <a:pt x="0" y="29268"/>
                </a:lnTo>
                <a:arcTo wR="3600" hR="3600" stAng="10800000" swAng="-5400000"/>
                <a:lnTo>
                  <a:pt x="18000" y="32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114800"/>
            <a:ext cx="1752480" cy="23623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362320"/>
              <a:gd name="textAreaBottom" fmla="*/ 2277000 h 2362320"/>
            </a:gdLst>
            <a:ahLst/>
            <a:rect l="textAreaLeft" t="textAreaTop" r="textAreaRight" b="textAreaBottom"/>
            <a:pathLst>
              <a:path w="21600" h="29115">
                <a:moveTo>
                  <a:pt x="3600" y="0"/>
                </a:moveTo>
                <a:arcTo wR="3600" hR="3600" stAng="16200000" swAng="-5400000"/>
                <a:lnTo>
                  <a:pt x="0" y="25515"/>
                </a:lnTo>
                <a:arcTo wR="3600" hR="3600" stAng="10800000" swAng="-5400000"/>
                <a:lnTo>
                  <a:pt x="18000" y="29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02160" y="1752480"/>
            <a:ext cx="1116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1828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2362320"/>
            <a:ext cx="1828800" cy="3124080"/>
          </a:xfrm>
          <a:prstGeom prst="rect">
            <a:avLst/>
          </a:prstGeom>
          <a:solidFill>
            <a:srgbClr val="39a18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1947960"/>
            <a:ext cx="20383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application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 science data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007400" y="3475080"/>
            <a:ext cx="1069560" cy="920520"/>
            <a:chOff x="7007400" y="3475080"/>
            <a:chExt cx="1069560" cy="920520"/>
          </a:xfrm>
        </p:grpSpPr>
        <p:sp>
          <p:nvSpPr>
            <p:cNvPr id="256" name=""/>
            <p:cNvSpPr/>
            <p:nvPr/>
          </p:nvSpPr>
          <p:spPr>
            <a:xfrm>
              <a:off x="7007400" y="3475080"/>
              <a:ext cx="1069560" cy="920520"/>
            </a:xfrm>
            <a:prstGeom prst="roundRect">
              <a:avLst>
                <a:gd name="adj" fmla="val 16667"/>
              </a:avLst>
            </a:prstGeom>
            <a:solidFill>
              <a:srgbClr val="0e69f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51680" y="3574080"/>
              <a:ext cx="960120" cy="750600"/>
            </a:xfrm>
            <a:prstGeom prst="rect">
              <a:avLst/>
            </a:prstGeom>
            <a:solidFill>
              <a:srgbClr val="0e6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celib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spice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cy 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7010280" y="4419720"/>
            <a:ext cx="144792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PICE routines for obtaining rotation state and shape, and then computing derived quant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873000">
            <a:off x="5486400" y="281916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c771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511600">
            <a:off x="5562360" y="4495320"/>
            <a:ext cx="1143000" cy="228600"/>
          </a:xfrm>
          <a:prstGeom prst="rightArrow">
            <a:avLst>
              <a:gd name="adj1" fmla="val 50000"/>
              <a:gd name="adj2" fmla="val 125000"/>
            </a:avLst>
          </a:prstGeom>
          <a:solidFill>
            <a:srgbClr val="fc771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02520" y="1446120"/>
            <a:ext cx="60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1880" y="5365800"/>
            <a:ext cx="60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BCBA-5BA8-489E-923A-99A61120CB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91760" y="1533600"/>
            <a:ext cx="8001000" cy="489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cursor “Plate Model” system was delivered to NEAR and Hayabusa and used successfully on those mis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prototype version of the DSK system was delivered to the DAWN project in November 2006. This software has been integrated into the SOA (Science Opportunity Analyzer)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A uses DSK files to import shape model data for Vesta and Cer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A also uses DSK software, along with custom, higher-level DSK-based software provided by NAIF, to perform geometric computations involving target body shape dat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F is currently developing the deliverable DSK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IF plans to release an alpha-test version of the DSK system within six month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ase date of SPICE Toolkit including the DSK system is TB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3004920" y="380520"/>
            <a:ext cx="5005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evelopment Statu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87A2-07B9-4BC2-ADF9-C17A9373B70F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82400" y="2109600"/>
            <a:ext cx="8001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Data Represent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System Compone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Software Component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API Exampl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ing Shape with Orientation Data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SK Development Statu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597120" y="380520"/>
            <a:ext cx="37404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DSK 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CF2D-DF4F-4BE3-AF9E-0FB6757B4D2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07600" y="1444320"/>
            <a:ext cx="8001000" cy="48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is developing a new SPICE kernel type: DSK (“digital shape kernel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completed, the DSK system will be incorporated into the SPICE Toolk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DSK system deals with data sets describing topography of solar system objects, or more generally, shapes of 3-dimensional objects.  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elevation models (DEM) for the surfaces of Mars or the Mo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sellated plate model for the surface of a natural satellite, asteroid or comet nucle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rizon masks for DSN s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SK system facilitates high-accuracy, SPICE-based geometric computations using shape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ly SPICE uses only triaxial ellipsoid shape models, which support low-accuracy comput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SK system compri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DSK data fi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(subroutines and program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01800" y="380520"/>
            <a:ext cx="193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056F-2772-4C86-A236-19213939279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07960" y="1488600"/>
            <a:ext cx="8121600" cy="462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“requirements” listed here are of an informal nature; they are derived from customer interaction and NAIF team members’ experience using SP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requirement: facilitate high-accuracy geometry computations involving surfaces of extended bodies. Examples of computations that should be support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of “sub-observer point” and height of observer above su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y-surface intercept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ltation/transit state of a point 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b and terminator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mination angles at a specified surface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if a target is in an instrument’s field of view (FOV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820680" y="380520"/>
            <a:ext cx="3311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quirement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104E-1C79-422D-82B7-1FA7FD6827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07600" y="1329840"/>
            <a:ext cx="8178840" cy="538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support popular shape repres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DEM, triangular pl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support efficient random access data 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for a given (LONGITUDE, LATITUDE) coordinate pair, return radius (distance from body center) of the corresponding surface poi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support rapid, high volume data extraction (“bulk read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d for efficient use by graphic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be able to use data sets spread across multiple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current data sets exceed 2Gbytes in 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r data sets should be expected in the fu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actical to store all needed data in one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be able to work with models for different bodies simultaneousl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support simultaneous use of data sets for Mars and Phobo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822840" y="380520"/>
            <a:ext cx="3311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quirements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244BA-7C21-45FA-9BE7-8A01F4A09D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7600" y="1393560"/>
            <a:ext cx="8001000" cy="527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hould be able to work with multiple models for different parts of the surface of a specified body simultaneous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simultaneous use of multiple data sets having different resolutions, or event different mathematical representations, for different regions of the surf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iles should be por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files should support inclusion of meta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 should be provided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ing contents of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ing metadata in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rging or subsetting data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gesting data from other types of fi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: Bob Gaskell’s and Peter Thomas’ shap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823920" y="380520"/>
            <a:ext cx="3311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equirements -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8F9C-E776-4A44-98D4-5FF25A73D2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82400" y="1228680"/>
            <a:ext cx="8001000" cy="54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al elevation model (D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s longitude/latitude to “elevatio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of a surface point can be defined as distance from the origin of a body-fixed reference frame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can be defined as height above a reference ellipsoi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 image created from MGS laser altimeter (MOLA) Mars D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593440" y="380520"/>
            <a:ext cx="5750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ata Representations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66920" y="2978280"/>
            <a:ext cx="4586400" cy="36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A19A-21C2-4E82-9BA1-E3107365FF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82400" y="1228680"/>
            <a:ext cx="8001000" cy="54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of object is represented as a collection of triangular pl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lexible than digital elevation model:  arbitrary 3-D surface can be mode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could be a complicated shape with multiple surface points having the same latitude and longit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s:  “dumbbell”-shaped asteroid, caves, arch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efficient than digital elevation model of similar resolution in terms of storage and computational spe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593440" y="380520"/>
            <a:ext cx="57502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ata Representations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68280" y="4362480"/>
            <a:ext cx="1940040" cy="164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92440" y="4191120"/>
            <a:ext cx="2557440" cy="1987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581800" y="3949560"/>
            <a:ext cx="2641320" cy="2372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31000" y="6324480"/>
            <a:ext cx="627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ample images created from DSK plate models (center and right  images are based on Phobos dat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DA83-E11C-4345-B023-B1D1B4C102A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66360" y="1292400"/>
            <a:ext cx="8001000" cy="21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K shape representations are polymorph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SK shape representations are called “Data Types.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data type has its own mathematical representation of a surfa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data type has associated software that implements common functionality, such as the ability to return a radius (distance of surface point from body center) value for a specified latitude and longitud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ch data type may have additional, unique functionalit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example, type 2 has accessor routines that return plate and vertex data. These functions are not applicable to other data typ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749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SK Data Representations -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57440" y="5797440"/>
            <a:ext cx="533160" cy="520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0520" y="4908600"/>
            <a:ext cx="1924200" cy="1434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8400" y="5048280"/>
            <a:ext cx="812520" cy="888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6400" y="5683320"/>
            <a:ext cx="130824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47840" y="5683320"/>
            <a:ext cx="130824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01880" y="5676840"/>
            <a:ext cx="130824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56280" y="5676840"/>
            <a:ext cx="130788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83160" y="3594240"/>
            <a:ext cx="1307880" cy="895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5320" y="5746680"/>
            <a:ext cx="11178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packed 16-bit integer radius data with scale factor and off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39960" y="517536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518796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16160" y="5759280"/>
            <a:ext cx="138420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IANGULAR PLATE MOD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38520" y="3905280"/>
            <a:ext cx="15494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SK Shape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3600" y="518796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70200" y="5759280"/>
            <a:ext cx="138456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UBLE PRECISION RADIUS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08560" y="520704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657760"/>
            <a:ext cx="12574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packed 16-bit integer radius data with scale factor and offset---stereographic proje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43880" y="5867280"/>
            <a:ext cx="11174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346040" y="4819320"/>
            <a:ext cx="52768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65120" y="483876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21040" y="4844880"/>
            <a:ext cx="0" cy="34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30800" y="4844880"/>
            <a:ext cx="0" cy="349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10400" y="483228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24320" y="4483080"/>
            <a:ext cx="0" cy="34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S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43F7-7BB8-4380-8308-10BE60E1962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4-04-28T05:00:41Z</cp:lastPrinted>
  <dcterms:modified xsi:type="dcterms:W3CDTF">2007-10-12T23:40:19Z</dcterms:modified>
  <cp:revision>570</cp:revision>
  <dc:subject/>
  <dc:title>The SPICE Ephemeris Subsystem SPK  with emphasis on Reading SPK Files</dc:title>
</cp:coreProperties>
</file>