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2E207-78FF-4E94-BB78-54933A21C0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9A137-BE58-4CD2-8808-CEB7169387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D074E-EBFE-4285-9C7C-762F6D0DE2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416AD-5D1D-4FC2-A09F-B207865983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4AACB-22C3-4259-AE3E-2AFE80ACB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C0C3F-7A5A-4EAD-AF7E-254B38174E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F39FC-DF62-49E1-8654-61CF47CE23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16F3B-0452-4054-8123-2DDC19ED4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1FEA5-A890-4229-867A-027C3583C2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135C8-D078-43B0-B997-6369C48685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0CE58-99E9-4557-8D1C-8ECCF75D9D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9092B-0B3B-4301-B4E6-2A17344FCC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700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35053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4B33-ABE7-4D57-8F0D-801C60D1680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14560" y="2469960"/>
            <a:ext cx="52084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PICE Development Plans</a:t>
            </a:r>
            <a:br>
              <a:rPr sz="32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and Possibilitie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5181120"/>
            <a:ext cx="6400800" cy="76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92520" y="380520"/>
            <a:ext cx="15271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 in prog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LAB interface to CSP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pe model sub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metric Event Finder sub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possi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suggestion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lans and Possibilities for Further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57A47-A27E-40EE-B271-EBE41315FB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612960" y="380520"/>
            <a:ext cx="34923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Work In Progres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LAB interface to CSP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lete the beta-testing, make needed revisions, add additional functionality (interfaces to CSPICE modules) if/as needed to have a reasonably complete s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official packages in a future Toolkit relea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kely later in CY 200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pe model sub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nthesis of current shape model (triaxial ellipsoids), “plate model” for small, irregularly shaped bodies, and a digital elevation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a-test version might be available later in CY200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ial addition to Toolkit probably in first half of CY200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ometric event finder sub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d time(s) when such-and-such a geometric condition exis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a-test version might be available later in CY200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ial addition to Toolkit probably in first half of CY200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lans and Possibilities for Further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D2236-1FA8-42F9-992F-FBDE25DCCB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59436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Other Possibilities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1981080"/>
            <a:ext cx="260676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 interface to a limited set of SPICE comput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760" y="1285920"/>
            <a:ext cx="5807160" cy="5340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248520" y="3657600"/>
            <a:ext cx="2735280" cy="22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is example, compute the illumination angles on Mars at LON 114.7 and LAT -14.7 as seen from Mars Express on 2004 JAN 4 08:52:00.  The user can pick either a planetocentric or planetodetic reference fr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50640" y="1675440"/>
            <a:ext cx="200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CALC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lans and Possibilities for Further Developm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EA37E-FCA0-4672-BECA-34D8C1E68C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36760" y="380520"/>
            <a:ext cx="42832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Other Possibilities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interfaces to SPIC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va Native Interface (JNI), Pyth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target models: rings, gravity, atmosphere, magnetosphere,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 a more flexible and extensible instrument modeling mechan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lans and Possibilities for Further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87048-49E6-43BC-9203-87FD126A54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36760" y="380520"/>
            <a:ext cx="42832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Other Possibilities - 3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tools for easier specification and visualization of reference fra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a “predict spk” tool that makes it easy to construct an SPK file from simple ru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a better interface with the extensive comet/asteroid ephemeris database implemented by JPL’s Solar System Dynamics Gro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extended precision calculations for time and other quantities used by Radio Science investig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lans and Possibilities for Further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A3242-AC2D-4A7B-A7DB-568317B30C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4960" y="380520"/>
            <a:ext cx="42829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Other Possibilities - 4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693432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more high-level computations, such as instrument footprint cove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a C-Kernel merge utility, analogous to the existing SPKMERGE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lans and Possibilities for Further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F6170-1269-4F53-A786-34E6C173CB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97240" y="380520"/>
            <a:ext cx="41148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do </a:t>
            </a: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You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ggest?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IF solicits suggestions from the user commun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’re a small team and have a lot on our plate already, so can’t promise any particular a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’re interested in programmatic ideas as well as technical on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uld NAIF promote use of SPICE beyond NASA’s planetary science program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amount of cooperation and interoperability with foreign partners is appropriate and achievabl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l versus informal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scientists and/or with engineer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376200" cy="380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800600" y="3048120"/>
            <a:ext cx="426960" cy="42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lans and Possibilities for Further Develop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B8D05-2990-429E-BD7E-5E8D7ADDFF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rles Acton</cp:lastModifiedBy>
  <cp:lastPrinted>2001-02-22T07:56:58Z</cp:lastPrinted>
  <dcterms:modified xsi:type="dcterms:W3CDTF">2007-10-12T23:38:14Z</dcterms:modified>
  <cp:revision>60</cp:revision>
  <dc:subject/>
  <dc:title>Preview of Coming Attractions</dc:title>
</cp:coreProperties>
</file>