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3002-CA8B-41EC-AC04-7699E9387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47BA-702D-445B-A38C-27654A33B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8D81B-7F8A-4693-BAF0-74A8300D0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E7FC0-9A16-422D-AE5E-2909DC7CD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2F68-6AC4-4BE0-A7C4-01D1FDD345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6C97-EFAD-4AAC-B006-8A7ADA6FF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82E5-5E19-4758-ACA7-DFA86DE7C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40C8-20C5-4F93-9CE7-0DD1B92C3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5336-6B05-4AE3-8A01-4837701EB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E96F-0E09-4870-BD87-8B1CB65F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F149-12A8-4AC8-9AFD-D4D24B12A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4A48-6D23-4E7D-A526-724F4DBCC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81FB62-4DF2-4038-B1F3-367A6896F5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0840" y="2286000"/>
            <a:ext cx="525924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ummary of Key Point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6200" y="380520"/>
            <a:ext cx="47275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Pieces Do I Use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’s no single ans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what task you wish to accompli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what mission you are working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xt several charts highlight some key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you have already looked at the major SPICE tutorials, or already have some familiarity with  SP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4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ssume you have successfully downloaded and installed the SPICE Toolk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printing this tutorial and keeping it near your works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32DF-36E1-41E9-859E-348B8A74E1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23880" y="380520"/>
            <a:ext cx="58561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minder of Key Subsyste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K:    Position (and velocity) of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K:    Size/shape/orientation of target bo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:        Instrument field-of-view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:      Orientation of spacecraft or spacecraft structures that mo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K:       Definition/specification of non-core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K:     UTC (SCET)        ET time 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SK:  SCLK        ET time conver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57560" y="500364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1720" y="5416560"/>
            <a:ext cx="457200" cy="76320"/>
          </a:xfrm>
          <a:prstGeom prst="leftRightArrow">
            <a:avLst>
              <a:gd name="adj1" fmla="val 50000"/>
              <a:gd name="adj2" fmla="val 11925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CF17-5704-47AE-B8B9-AC3C1B904E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81480" y="485316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94440" y="39006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29718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0574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86576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8736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9718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3429000" cy="838080"/>
          </a:xfrm>
          <a:prstGeom prst="rect">
            <a:avLst/>
          </a:prstGeom>
          <a:solidFill>
            <a:srgbClr val="e8e8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35120" y="366840"/>
            <a:ext cx="563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imary Kernel Interfac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9120" y="2247840"/>
            <a:ext cx="761760" cy="457200"/>
            <a:chOff x="789120" y="2247840"/>
            <a:chExt cx="761760" cy="457200"/>
          </a:xfrm>
        </p:grpSpPr>
        <p:sp>
          <p:nvSpPr>
            <p:cNvPr id="75" name=""/>
            <p:cNvSpPr/>
            <p:nvPr/>
          </p:nvSpPr>
          <p:spPr>
            <a:xfrm>
              <a:off x="789120" y="224784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6520" y="2306520"/>
              <a:ext cx="63792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62120" y="3124080"/>
            <a:ext cx="761760" cy="457200"/>
            <a:chOff x="762120" y="3124080"/>
            <a:chExt cx="761760" cy="457200"/>
          </a:xfrm>
        </p:grpSpPr>
        <p:sp>
          <p:nvSpPr>
            <p:cNvPr id="78" name=""/>
            <p:cNvSpPr/>
            <p:nvPr/>
          </p:nvSpPr>
          <p:spPr>
            <a:xfrm>
              <a:off x="762120" y="312408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520" y="3165120"/>
              <a:ext cx="65016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25880"/>
            <a:ext cx="761760" cy="457200"/>
            <a:chOff x="762120" y="4025880"/>
            <a:chExt cx="761760" cy="457200"/>
          </a:xfrm>
        </p:grpSpPr>
        <p:sp>
          <p:nvSpPr>
            <p:cNvPr id="81" name=""/>
            <p:cNvSpPr/>
            <p:nvPr/>
          </p:nvSpPr>
          <p:spPr>
            <a:xfrm>
              <a:off x="762120" y="402588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31320" y="4076640"/>
              <a:ext cx="39708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62120" y="5043600"/>
            <a:ext cx="761760" cy="457200"/>
            <a:chOff x="762120" y="5043600"/>
            <a:chExt cx="761760" cy="457200"/>
          </a:xfrm>
        </p:grpSpPr>
        <p:sp>
          <p:nvSpPr>
            <p:cNvPr id="84" name=""/>
            <p:cNvSpPr/>
            <p:nvPr/>
          </p:nvSpPr>
          <p:spPr>
            <a:xfrm>
              <a:off x="762120" y="504360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1440" y="5087880"/>
              <a:ext cx="49788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23040" y="2260440"/>
            <a:ext cx="761760" cy="457200"/>
            <a:chOff x="5423040" y="2260440"/>
            <a:chExt cx="761760" cy="457200"/>
          </a:xfrm>
        </p:grpSpPr>
        <p:sp>
          <p:nvSpPr>
            <p:cNvPr id="87" name=""/>
            <p:cNvSpPr/>
            <p:nvPr/>
          </p:nvSpPr>
          <p:spPr>
            <a:xfrm>
              <a:off x="5423040" y="2260440"/>
              <a:ext cx="7617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76040" y="2311200"/>
              <a:ext cx="47340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410080" y="3124080"/>
            <a:ext cx="762120" cy="457200"/>
            <a:chOff x="5410080" y="3124080"/>
            <a:chExt cx="762120" cy="457200"/>
          </a:xfrm>
        </p:grpSpPr>
        <p:sp>
          <p:nvSpPr>
            <p:cNvPr id="90" name=""/>
            <p:cNvSpPr/>
            <p:nvPr/>
          </p:nvSpPr>
          <p:spPr>
            <a:xfrm>
              <a:off x="5410080" y="3124080"/>
              <a:ext cx="76212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8200" y="3151080"/>
              <a:ext cx="612000" cy="368280"/>
            </a:xfrm>
            <a:prstGeom prst="rect">
              <a:avLst/>
            </a:prstGeom>
            <a:solidFill>
              <a:srgbClr val="40f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413320" y="4052880"/>
            <a:ext cx="778680" cy="457200"/>
            <a:chOff x="5413320" y="4052880"/>
            <a:chExt cx="778680" cy="457200"/>
          </a:xfrm>
        </p:grpSpPr>
        <p:sp>
          <p:nvSpPr>
            <p:cNvPr id="93" name=""/>
            <p:cNvSpPr/>
            <p:nvPr/>
          </p:nvSpPr>
          <p:spPr>
            <a:xfrm>
              <a:off x="5413320" y="4052880"/>
              <a:ext cx="76212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5480" y="410688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336640" y="5043600"/>
            <a:ext cx="947160" cy="457200"/>
            <a:chOff x="5336640" y="5043600"/>
            <a:chExt cx="947160" cy="457200"/>
          </a:xfrm>
        </p:grpSpPr>
        <p:sp>
          <p:nvSpPr>
            <p:cNvPr id="96" name=""/>
            <p:cNvSpPr/>
            <p:nvPr/>
          </p:nvSpPr>
          <p:spPr>
            <a:xfrm>
              <a:off x="5389560" y="5043600"/>
              <a:ext cx="871560" cy="457200"/>
            </a:xfrm>
            <a:prstGeom prst="roundRect">
              <a:avLst>
                <a:gd name="adj" fmla="val 16667"/>
              </a:avLst>
            </a:prstGeom>
            <a:solidFill>
              <a:srgbClr val="40fc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6640" y="511992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K/ES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828440" y="2209680"/>
            <a:ext cx="179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COV, SPK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520" y="2997360"/>
            <a:ext cx="185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V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3840" y="4094280"/>
            <a:ext cx="17247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15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OL, GETF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9160" y="4876920"/>
            <a:ext cx="18021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COV, CKOB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CKGPAV, CKG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0240" y="3195720"/>
            <a:ext cx="164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2ET, TIM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42720" y="3938760"/>
            <a:ext cx="185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S2E, SCE2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05280" y="5092560"/>
            <a:ext cx="139716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FIND, EKG</a:t>
            </a:r>
            <a:r>
              <a:rPr b="1" lang="en-US" sz="2400" spc="-1" strike="noStrike" baseline="-15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4040" y="5943600"/>
            <a:ext cx="68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 FURNSH is used to load (provide access to ) all SPICE kern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I names shown are for FORTRAN vers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use lower case and add an “_c” when using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use lower case and prepend “cspice_” when using Icy (IDL) and Mice (MATL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129528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05d"/>
                </a:solidFill>
                <a:latin typeface="Arial"/>
              </a:rPr>
              <a:t>Which SPICE interface modules are most commonly called t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se</a:t>
            </a:r>
            <a:r>
              <a:rPr b="1" lang="en-US" sz="2000" spc="-1" strike="noStrike">
                <a:solidFill>
                  <a:srgbClr val="0e005d"/>
                </a:solidFill>
                <a:latin typeface="Arial"/>
              </a:rPr>
              <a:t> the data from a given kernel ty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2209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XFORM, PXFOR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EZR, SPKP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6A5B-EC87-4697-AFBF-5CC72B34C1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23960" y="380520"/>
            <a:ext cx="56390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imary Kernel Interfac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90720" y="2666880"/>
          <a:ext cx="7543800" cy="2870280"/>
        </p:xfrm>
        <a:graphic>
          <a:graphicData uri="http://schemas.openxmlformats.org/drawingml/2006/table">
            <a:tbl>
              <a:tblPr/>
              <a:tblGrid>
                <a:gridCol w="3124080"/>
                <a:gridCol w="695160"/>
                <a:gridCol w="676440"/>
                <a:gridCol w="533520"/>
                <a:gridCol w="533160"/>
                <a:gridCol w="609840"/>
                <a:gridCol w="609480"/>
                <a:gridCol w="762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e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KEZR, SPK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XFORM, PX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GP, CKGP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F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2400" spc="-1" strike="noStrike" baseline="-11000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2ET, TIM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S2E, SCE2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NOS (time conversion app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a6b05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6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990080" y="5791320"/>
            <a:ext cx="510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a6b05"/>
                </a:solidFill>
                <a:latin typeface="Arial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        =  the indicated kernel typ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ybe   =  the indicated kernel typ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y b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4479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e005d"/>
                </a:solidFill>
                <a:latin typeface="Arial"/>
              </a:rPr>
              <a:t>For a given module, which kind(s) of kernel(s) will or may be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6880" y="2362320"/>
            <a:ext cx="23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Type(s)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CF048-DCCB-4A33-BCC2-82DB2C0697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47720" y="380520"/>
            <a:ext cx="56070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Kernel “Coverage” Cau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432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et of kernels mus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data for all “objects” of inter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you must include intermediary objects that provide a 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data covering the time span of interest to yo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 out for data gaps within that time sp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 out for the difference of ~65 seconds between ET and U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ll the kernel types needed by SPICE to answer  your 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previous charts allude, you may need one or more kernels that are not obvi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managed (loaded) properly if there are overlapping (competing) data within the set of files you are u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28EB-7B16-4859-A633-193B3F7C45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040" y="134640"/>
            <a:ext cx="425628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How Can I Find Possibly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eful Toolkit Modules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the previous ch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e appropriate SPICE tutorial(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the “Most Useful SPICELIB Subroutines” documen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/doc/html/info/mostused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 the permuted inde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lib_idx for the FORTRAN toolkit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/doc/html/info/spicelib_id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is document also correlates entry point names with source code fil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_idx for the C and Icy toolkits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/doc/html/info/cspice_idx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relevant portions of a SPICE “required reading” reference document (e.g. “spk.req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675"/>
              </a:spcBef>
              <a:buClr>
                <a:srgbClr val="e200f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e200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oc/html/req/spk.html   for the hyperlinked html version (be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oc/spk.req  for the plain text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6AE7F-F978-4C8E-8E5D-ED36F9DEC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82880" y="64800"/>
            <a:ext cx="477360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How Can I Understand How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To Use Those Modules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4320"/>
            <a:ext cx="83818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mary user-oriented documentation about each module is found in the “header” at the top of each source code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ore documentation is found at the additional entry points for those FORTRAN modules that have multiple entry points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 documentation for major subsystems is found in like-named “required reading” documents (e.g. spk.req,  ck.req,  etc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tutorials contain much helpful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“SPICE Documentation Taxonomy” in the tutorials collection for additional reading sugg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94A29-F9D7-410B-88B0-1F0CE84ECF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95120" y="380520"/>
            <a:ext cx="69166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oes NAIF Provide Any Examples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ly all module headers contain one or more working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Useful SPICELIB Subroutines” has code fragments  …/doc/html/info/mostused.htm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required reading” reference documents often contain examples …/doc/html/req/index.htm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utorials offer programming examp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imple “cookbook” programs are found in the Toolkit  …/src/cookbook/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use of the SPICE Programming Lessons available from the NAIF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tp://naif.jpl.nasa.gov/pub/naif/toolkit_docs/Lessons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ummary of Key Poi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06BB-2824-4B9E-A365-223D7C0739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3:46:47Z</dcterms:created>
  <dc:creator>Chuck Acton</dc:creator>
  <dc:description/>
  <dc:language>en-US</dc:language>
  <cp:lastModifiedBy>Charles Acton</cp:lastModifiedBy>
  <cp:lastPrinted>2003-10-05T22:15:22Z</cp:lastPrinted>
  <dcterms:modified xsi:type="dcterms:W3CDTF">2007-10-12T23:36:59Z</dcterms:modified>
  <cp:revision>69</cp:revision>
  <dc:subject/>
  <dc:title>Primary Kernel Interfaces</dc:title>
</cp:coreProperties>
</file>