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490E3-41E5-47B5-8CE1-629B876C70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04B3F-7F8F-44C7-93C2-EEE708D6D3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A72EB-9728-45F6-8D9A-E92B563D87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C1B9A-61F0-456A-88D1-BB9D3AB45E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9408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B9975-BA6C-43AF-A38F-17BABF7EEF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80F5B-8D17-4D28-8CE8-8CEC3C9571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6B2A5-4043-4713-9633-CD5BCBDB57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AF32D-7926-4CE8-89E4-EB1FE5C88E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9408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FDBCE-5C17-4592-AB1B-37D6D6D84F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C00BA-5B60-4839-B023-21151FE26F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EF390-1367-4D5D-917D-A20460DB68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EFEE7-3FA2-4AE0-ACF5-A04245DC8B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63880" y="920880"/>
            <a:ext cx="65847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FB6A-DDE0-4CB9-B795-5A7F8F84B60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0000" y="2271600"/>
            <a:ext cx="4318200" cy="10065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SPICE Toolkit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Common Problems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514600" y="2209320"/>
            <a:ext cx="426096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p from NAI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640400" y="380520"/>
            <a:ext cx="14364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opic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ICE Toolkit: Common Probl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819F3-9CFC-40B7-87D7-66A512E5E40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minimize problems using SPIC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a Toolkit obtained directly from NAIF and intended for your specific environment (platform/OS/compiler/compiler option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 the pertinent docu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ule headers, Required Reading, comments i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t the right (usually latest) kernel fi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ify that coverage and  intended use are suita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ify that correct time systems are us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, TDB, UTC, or SCLK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ify that correct reference frames are used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, MOON_PA versus MOON_ME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which version of the IAU_Mars body-fixed frame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inued on next pag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3954600" y="380520"/>
            <a:ext cx="28144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evention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ICE Toolkit: Common Probl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B2A5B-4C51-430D-9F8E-81CF8E6F969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5680" y="380520"/>
            <a:ext cx="28098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evention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ck definitions of geometric quant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detic vs latitudinal coordina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late vs spherical body shap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ck aberration corr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d Newtonian light time + stellar aberration, light time+stellar aberration, light time only, or non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orientation corrected for light tim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’t confuse an instrum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ference fra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D with the ID of the instrument itself (the object I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ICE Toolkit: Common Probl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92267-1778-4381-A97F-050743C958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IF has compiled a list of common problems, probable causes, and solu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 to PROBLEMS.REQ, provided in each Toolkit pack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may be useful to read this document BEFORE embarking on extensive SPICE-based programming projects, since some problems are best solved early in the software development cyc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3816360" y="380520"/>
            <a:ext cx="30844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ocumentati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ICE Toolkit: Common Probl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0DB71-F185-4FB1-8317-A7999FDF74D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91920" y="1987560"/>
            <a:ext cx="791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need troubleshooting help from NAIF, you can help to speed the process along by providing important inform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ture SPICE or operating system diagnostic messages written to the screen or to log fil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fy kernel files used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 may be asked to provide the actual files to NAIF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rmine inputs to SPICE modules in which the error occurr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t/paste into email your code fragment where the error seems to occu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fy the Toolkit version you are using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the name and version of the operating system you’re using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the name and version of the compiler or programming environment (IDL, Matlab) you’re using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 all of the above to someone on the NAIF team at JP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3816360" y="380520"/>
            <a:ext cx="30844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Help from NAIF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PICE Toolkit: Common Probl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1E7D6-740A-4D2D-B4D7-B2BA3FD1A682}" type="slidenum">
              <a:t>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arles Acton</cp:lastModifiedBy>
  <dcterms:modified xsi:type="dcterms:W3CDTF">2007-10-12T23:36:36Z</dcterms:modified>
  <cp:revision>19</cp:revision>
  <dc:subject/>
  <dc:title>SPICE Toolkit:  Common Problems</dc:title>
</cp:coreProperties>
</file>