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A6A67-79D3-46BC-8B80-146439C666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FD7A0-555C-4226-BEAD-427F8CF493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9C932-3616-4E24-B719-DD643AB2D4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6B519-647F-469D-B4F0-2643BC35AB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248616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48F58-7693-4757-A0C5-DC32F57A64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0BDC3B-8273-4F45-AB0C-B1B7D19DAE5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4091A7-7473-4F7F-97C8-9AD195AEBFB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D7EBEC-E8E6-4A75-86DF-A88A70DF3E2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97AF10-0AFD-43AA-BFC6-55A252FE829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35EA6B-6F90-40D9-B76C-7755D1C5C8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E4630-9120-4EAB-8E19-290DECFBC35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248616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2F9029-811B-4DE8-B8C7-93052FA59F7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479D2D-A2A0-4B5F-969D-4979E2DE92B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72ACC4-F8FB-4478-9B39-7A370CB7230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645425-052A-42B5-B84C-DD38B40504A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4EEFCC-49AE-4C9C-B218-90A86AFBB74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3B0950-7B34-4583-BF1B-748EF034530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2805C3-FF25-4CDC-9459-BC0D817A4C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FF422-EDFB-45A1-BA01-157F141D32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D0B79-C541-407C-ABEE-1E590B2238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616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2E028-5249-4E71-AD8F-BE10403B3B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1A5D3-4E0E-4535-880C-2A11E21D14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F70DA-EB4B-4561-B2AF-D10755DE44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29088-C7C8-4735-A010-CA941FBC59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4A52F-EA87-4607-948B-8FB67EEC033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8200" y="228564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62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2248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ftr" idx="3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4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881E6-65DF-48BC-AB85-43E4B2F40C6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119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7560" bIns="7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7560" bIns="7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94200" y="182520"/>
              <a:ext cx="5875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175760" y="182520"/>
              <a:ext cx="6804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38280" y="2819520"/>
            <a:ext cx="4394160" cy="528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Exception Handling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October 20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ture traceback at point where error was signaled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hibit error message writing and error signaling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st call RESET to resume normal error handling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2768760" y="380520"/>
            <a:ext cx="51624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Error Handling Actions - 2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PICE Toolkit Exception Hand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74EF7-D0CD-4EDE-A494-98767E8963F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692280" y="1523880"/>
            <a:ext cx="7772400" cy="457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tination of error mess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-221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reen/stdout (defaul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-221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ignated fi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 diagnostics are appended to the file as errors are encountere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-221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LL” --- suppress outpu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NULL device is specified, error messages can still be retrieved using API call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-221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C, cannot send messages to stder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-221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C, writing to a file opened by means other than calling errdev_c is possible only if CSPICE routines were used to open the fi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limitations may be removed in a later version of CSPIC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078440" y="380520"/>
            <a:ext cx="254448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Error Devic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PICE Toolkit Exception Hand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C3AD9-6AD8-4FB3-8470-594189C68D2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92280" y="1523880"/>
            <a:ext cx="7772400" cy="457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 error a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-217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 ERRACT (  ‘SET’,  ‘RETURN’ 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-217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act_c ( “set”, LEN, “return” 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ngth argument is ignored when action is “set”; when action is “get”, LEN should be set to the available room in the output string, for 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act_c ( “get”, ACTLEN, action 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 error dev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-217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 ERRDEV (  ‘SET’, ‘errlog.txt’ 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-217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dev_c ( “set”, LEN, “errlog.txt” 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error mess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-217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 ERRPRT (  ‘SET’, ‘NONE, SHORT, TRACEBACK’ 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tracing is disabled, selecting TRACEBACK has no effec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-217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prt_c ( “set”, LEN, “none, short, traceback” 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ustomize Error Handling - 1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PICE Toolkit Exception Hand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95E70-AA9A-4BBA-9654-A183C8CAD3C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8580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able trac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rmally done to speed up exec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nefit is highly dependent on appli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ed-up has been a few percent to roughly 30%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 end estimate based on older, slower tracing implementa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TRCOFF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 TRCOFF   or   trcoff_c(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en used, should be done at start of your program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cannot re-enable tracing during a program ru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ustomize Error Handling - 2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PICE Toolkit Exception Hand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56419-1F2B-4791-B1AC-834B3995795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922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FAILED to determine whether an error has been signal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 FAILED() ) THEN 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 failed_c() ) {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FAILED after calling one or more SPICE routines in a sequ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rmally, it’s safe to call a series of SPICE routines without testing FAILED after each cal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GETMSG to retrieve short or long error mess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 GETMSG ( ‘SHORT’, SMSG 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msg_c ( “short”, LEN, smsg 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3424320" y="380520"/>
            <a:ext cx="385272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Get Error Status - 1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PICE Toolkit Exception Hand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6D6F2-C03F-4508-96BA-098F7F5F67FE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QCKTRC or TRCDEP and TRCNAM to retrieve traceback mess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CSPICE, only f2c’d versions of these routines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 value of RETURN() to determine whether routines should return on ent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y relevant if user code is designed to support RETURN m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dle error condition, then reset error statu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 RES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set_c(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y handle error condition in Icy-based applications; a reset is automatically performed by Ic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3424320" y="380520"/>
            <a:ext cx="385272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Get Error Status - 2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PICE Toolkit Exception Hand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D4E75-DDA2-41FB-8339-E871C813B8D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 long error mess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 to 1840 charac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ETMS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 SETMSG ( ‘File &lt;#&gt; was not found.’ 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msg_c    ( “File &lt;#&gt; was not found.” 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titute string, integer, or d.p values at run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ERR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 ERRCH ( ‘#’, ‘cassini.bsp’ 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ch_c    ( “#”, “cassini.bsp” 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so can use ERRINT, ERRD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Fortran, can refer to files by logical unit numbers:  ERRFN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3715920" y="380520"/>
            <a:ext cx="326700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ignal Errors - 1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PICE Toolkit Exception Hand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45D2D-EEC1-4EC9-876B-A3E8B4A55D22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692280" y="1523880"/>
            <a:ext cx="7772400" cy="457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gnal err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GERR to signal error.  Supply short error message as input to SIGER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 SIGERR ( ‘FILE OPEN FAILED’ 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gerr_c    ( “FILE OPEN FAILED” 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naling” error causes SPICE error response to occu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 messages, if enabl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 error stat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 return status, if error action is RETUR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hibit further error signaling if in RETURN m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p program if in abort m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t error status after handling err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 RESET(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et_c(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3715920" y="380520"/>
            <a:ext cx="326700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ignal Errors - 2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PICE Toolkit Exception Hand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05544-1543-4BD0-8B20-AF0C3C0E61F0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 ac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 default, a SPICE error signal stops execution of IDL scripts; a SPICE error message is displayed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ol returns to the execution level (normally the command prompt)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cy sets the CSPICE shared object library’s error handling system to RETURN mode.  No other modes are used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CSPICE error state is reset after detecting an error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 the IDL CATCH feature to respond to error condition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 stat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ue of !error_state.na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CY_M_BAD_IDL_ARGS - indicates invalid argument list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CY_M_SPICE_ERROR - indicates occurrence of a SPICE error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 mess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SPICE short, long, and traceback error messages are merged into a single, parsable,  messag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merged error message is contained in the variable !error_state.msg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SPICE_ET2UTC: SPICE(MISSINGTIMEINFO): [et2utc-&gt;ET2UTC-&gt;UNITIM]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The following, needed to convert between the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uniform time scales, could not be found in th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kernel pool: DELTET/DELTA_T_A, DELTET/K,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ELTET/EB, DELTET/M. Your program may have failed to load…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3513240" y="380520"/>
            <a:ext cx="364968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Icy Error Handling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PICE Toolkit Exception Hand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96FA8-E0D2-4AD9-B41E-4A6DD43C1DD8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838080" y="1282680"/>
            <a:ext cx="7772400" cy="542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 ac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 default, a SPICE error signal stops execution of MATLAB scripts; a SPICE error message is displayed; control returns to the execution level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e sets the CSPICE shared object library’s error handling system to RETURN mode.  No other modes are used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CSPICE error state is reset after detecting an error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 the MATLAB try/catch construct to respond to error condition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 mess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SPICE short, long, and traceback error messages are merged into a single, parsable,  messag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??? SPICE(MISSINGTIMEINFO): [et2utc-&gt;ET2UTC-&gt;UNITIM]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The following, needed to convert between the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uniform time scales, could not be found in th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kernel pool: DELTET/DELTA_T_A, DELTET/K,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ELTET/EB, DELTET/M. Your program may have failed to load…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the MATLAB function lasterror to retrieve SPICE error diagnostics. When a SPICE error occu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“message” field of the structure returned by lasterror contains the SPICE error messag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“stack” field of this structure refers to the location in the m-file from which the Mice wrapper was called (and so is generally not useful)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“identifier” field of this structure currently is not set.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3349440" y="380520"/>
            <a:ext cx="398772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Mice Error Handling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PICE Toolkit Exception Hand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4020B-4F3A-4D0D-A687-A9D77D29E12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533520" y="1447920"/>
            <a:ext cx="716256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Exceptions 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 Dependenc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 and Fortran Error Handling Feat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ror Mess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ror Handling A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ror Dev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stomize Error Handl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t Error Stat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gnal Err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cy Error Handl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ce Error Handl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632480" y="380520"/>
            <a:ext cx="143640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Topic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PICE Toolkit Exception Hand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2DA59-8AEB-40DA-A3B8-CE9ABC17955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85440" y="144756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asier problem solv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ave tracing enabled when debugging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ways test FAILED after a sequence of one or more consecutive calls to SPICE routines.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n’t throw away error output.  It may be the only reasonable clue as to what’s going wrong.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s that must suppress SPICE error output should trap it and provide a means for retrieving i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27480" indent="-1695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st FAILED to see whether an error occurred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27480" indent="-1695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 GETMSG to retrieve error messag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27480" indent="-1695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 RESET to clear the error condi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PICE error handling in your own code where appropriat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reporting errors to NAIF, have SPICE error message output availabl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e whether error output is actually from SPICE routines, from non-SPICE code, or was generated at the system level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3468240" y="380520"/>
            <a:ext cx="376236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Recommendation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PICE Toolkit Exception Hand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DD2C9-0F9A-4CB9-BAB1-9B4D32EAE892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533520" y="1441080"/>
            <a:ext cx="7772400" cy="473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 time error cond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red files not loade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ps in dat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rupted or malformed files (e.g. ftp’d in wrong mode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alid subroutine/function arguments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ing values unrecognize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eric values out of rang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type/dimension mismatch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ithmetic err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vide by zero, square root of a negative numbe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vironment proble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ufficient disk space for output fil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ck of required read/write permission/privileg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3309480" y="380520"/>
            <a:ext cx="407988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Exceptions Are… - 1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PICE Toolkit Exception Hand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1D43D-1CA7-46BE-8D5D-D4B3CC7D8A7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3352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id but unusual cond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ar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rmalize the zero vecto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d the rotation axis of the identity matrix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d the boresight intercept lat/lon for a non-intercept cas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d a substring where the end index precedes the start index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ch cases are normally not SPICE “Error Conditions”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ically must be handled by a logical bran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rors found by analysis tools, such as pars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ar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alid SQL quer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alid string representing number (borderline case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ch cases are normally not SPICE “Error Condition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ever, if a SPICE parsing routine failed because it couldn’t open a scratch file, THAT would be an “error condition.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3309480" y="380520"/>
            <a:ext cx="407988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Exceptions Are… - 2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PICE Toolkit Exception Hand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19249-A66E-434A-AA11-C3FA60DE65C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894040" y="380520"/>
            <a:ext cx="491472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Language Dependencie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28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ICELIB and CSPICE provide essentially identical error handling capabiliti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cy and Mice provide similar error handling functionality; this functionality is quite different from that of CSPICE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systems do rely on CSPICE for most error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etec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cy and Mice provide no API for customizing underlying CSPICE error handling behavio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ort, long, and traceback error messages are merged into a single, parsable,  mess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 IDL or MATLAB features to customize error handling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vent your program from stopp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pture SPICE error mess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of this tutorial deals with SPICELIB and CSPICE error handling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is a bit on Icy and Mice near the en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PICE Toolkit Exception Hand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63696-A054-4DA5-B6A8-19F904556ED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53352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ror handling in SPICE:  safety fir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p errors where they occur; don’t let them propag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n’t let errors “fall through” to the operating system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ly meaningful diagnostic mess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orporate relevant run-time dat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ly context in human-readable form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n’t depend on callers to handle err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rmally, “error flags” are not returned to caller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p unless told not t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n’t try to continue by making “smart guesses.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routine interface for error handl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face routines called within SPICE may be called by users’ application progra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1963800" y="380520"/>
            <a:ext cx="714672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Fortran and C Error Handling Features - 1</a:t>
            </a:r>
            <a:endParaRPr b="1" lang="en-US" sz="28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PICE Toolkit Exception Hand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E38AF-41FD-4F76-9F00-0AB8E71F1E4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94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gnal err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descriptive messages when and where an error is detec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rt message, long message, (explanation), traceba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nal” the error:  set error status, output mess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default, CSPICE error output goes to stdout (not stder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rieve error inform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status and error messages via subroutine call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ize error response---actions taken when an error occu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 error handling mode (“action”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 error output dev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 message selectio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ibit trac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improve run-time performance (only for thoroughly debugged cod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1934640" y="380520"/>
            <a:ext cx="714708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Fortran and C Error Handling Features - 2</a:t>
            </a:r>
            <a:endParaRPr b="1" lang="en-US" sz="28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PICE Toolkit Exception Hand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BE140-485C-4AD7-9160-84EBB792C12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53352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 mess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 to 25 character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easily be compared with expected valu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  SPICE(FILEOPENFAILED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ng mess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 to 1840 character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contain values supplied at run tim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  'The file &lt;sat077.bsp&gt; was not found.'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ceba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ws call tree above routine where error was signale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dependent on system tracing capabilit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n’t need a “crash” to obtain a traceback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3762360" y="380520"/>
            <a:ext cx="317664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Error Message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PICE Toolkit Exception Hand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6B098-5F91-44C4-A57C-023A740420D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533520" y="1441080"/>
            <a:ext cx="7772400" cy="465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igned for safet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 messages and traceback to your screen or stdou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p program; return status code if possib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use in programs that must keep running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tempts to return control to the calling applica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erves error information so calling application can respon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 messages to current error devic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 error status to “true”:  FAILED() will return “true.”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 “return” status to “true”:  RETURN() will return “true.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SPICE routines will return on entry.   Very simple routines will generally execute anywa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2768760" y="380520"/>
            <a:ext cx="51624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Error Handling Actions - 1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47760" y="6053040"/>
            <a:ext cx="103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continues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PICE Toolkit Exception Handl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A8F77-ABEC-462F-A3FC-00E2FCF5598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arles Acton</cp:lastModifiedBy>
  <dcterms:modified xsi:type="dcterms:W3CDTF">2007-10-12T23:35:42Z</dcterms:modified>
  <cp:revision>84</cp:revision>
  <dc:subject/>
  <dc:title>SPICE Toolkit Exception Handling</dc:title>
</cp:coreProperties>
</file>