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80AD1-A37C-4D1B-876D-52B5B6AC6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78D2D-7637-411B-A94A-E74398F5D4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048E2-311D-4CB6-A3A5-5C2D31FF5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8AD4-3B18-4096-938F-8636D80E01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E0310-D050-49B2-BA4E-316AC1500F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8DCD4-3721-4B36-A5BE-8A13AC730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59741-836B-4CD1-882F-5A1005DEB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9B369-5A9A-4EEF-9E87-8CE40D432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C938D-5559-4D7F-90F1-682B1CCF7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675C4-3812-494D-85A0-03B9FCC6D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18B3D-0A46-4811-ACA1-29AE1736F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998E4-A7CA-4489-B0D3-BF014D397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676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616800"/>
            <a:ext cx="289080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41760" y="6616800"/>
            <a:ext cx="190188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ADBE2A5-E401-470E-B188-A49A25531B8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8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024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072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92280" y="2285640"/>
            <a:ext cx="419112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ading FKs and IK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24040" y="380520"/>
            <a:ext cx="369540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ee The Real Stuff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may be useful for the student to examine a few existing Frames Kernels and Instrument Kernels to get a better understanding of the FK and IK tutorial information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IF suggests you use your browser to examine some of the following “real life” kerne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sin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K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://naif.jpl.nasa.gov/pub/naif/CASSINI/kernels/fk/cas_v39.txt (or whatever is the latest version availabl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K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://naif.jpl.nasa.gov/pub/naif/CASSINI/kernels/ik/&lt;any IK na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s Expres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K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://naif.jpl.nasa.gov/pub/naif/MEX/kernels/fk/MEX_V08.TF (or whatever is the latest version availabl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K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tp://naif.jpl.nasa.gov/pub/naif/MEX/kernels/ik/&lt;any IK na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ading FKs and I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2406F-7A92-4714-9439-120BDAA7C3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8T03:46:47Z</dcterms:created>
  <dc:creator>Chuck Acton</dc:creator>
  <dc:description/>
  <dc:language>en-US</dc:language>
  <cp:lastModifiedBy>Charles Acton</cp:lastModifiedBy>
  <cp:lastPrinted>2003-10-05T22:15:22Z</cp:lastPrinted>
  <dcterms:modified xsi:type="dcterms:W3CDTF">2007-10-12T23:35:26Z</dcterms:modified>
  <cp:revision>63</cp:revision>
  <dc:subject/>
  <dc:title>Primary Kernel Interfaces</dc:title>
</cp:coreProperties>
</file>