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0BBE-38A9-4759-A84C-2AF8FE6205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2DC68-A9F8-4746-BAB2-077059635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34064-55E6-4BC6-98CA-A45C2680C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0D9E-4304-4F53-A24B-F9214855E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07F0-4413-47A4-A572-0948FD252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F34B0-D995-4D20-AB0B-6DFCCF3D2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E897-31AA-4D09-8EBE-05D338463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4B92-E319-4F9A-A070-138DE3DAD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1AC0-A68B-4D66-A75E-09D102DE7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D92B-5346-4B7B-9827-82D3D5C3D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2E6E-FEED-41D9-934E-36D17549C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177B0-6359-4404-843E-D8A251CEF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1B7-6D51-4910-8DB2-2C5969BF55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61760" y="2271600"/>
            <a:ext cx="4038840" cy="1482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strument Kernel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K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62012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ther boresight nor reference vectors have to be co-aligned with one of the FOV frame’s ax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for convenience they are frequently defined to be along one of the ax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ither boresight nor corner nor reference vectors have to be unit v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they frequently are defined as unit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FOV is specified using the half angular extents method, boresight and reference vectors have to be linearly independent but they don’t have to be perpendicula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for convenience the reference vector is usually picked to be normal to the bores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angular extents for a rectangular FOV specify the angles between the boresight and the FOV sides, i.e. they are for the middle of the FO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57080" y="380520"/>
            <a:ext cx="5613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4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B3B3-0FD7-45AC-B07C-D973F93213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33360" y="1417680"/>
            <a:ext cx="7223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circular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27080" y="3676680"/>
            <a:ext cx="1409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08080" y="2971800"/>
            <a:ext cx="7785000" cy="3283560"/>
            <a:chOff x="1108080" y="2971800"/>
            <a:chExt cx="7785000" cy="3283560"/>
          </a:xfrm>
        </p:grpSpPr>
        <p:sp>
          <p:nvSpPr>
            <p:cNvPr id="136" name=""/>
            <p:cNvSpPr/>
            <p:nvPr/>
          </p:nvSpPr>
          <p:spPr>
            <a:xfrm flipV="1">
              <a:off x="2257560" y="3745080"/>
              <a:ext cx="3757320" cy="179856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106440" y="4267080"/>
              <a:ext cx="245880" cy="7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0040" y="3433680"/>
              <a:ext cx="1384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56280" y="4672080"/>
              <a:ext cx="509760" cy="56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08880" y="523404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263680" y="4854240"/>
              <a:ext cx="3227400" cy="6951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40760" y="5367240"/>
              <a:ext cx="2095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08080" y="591984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38960" y="297180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938760" y="4611240"/>
              <a:ext cx="16142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33800" y="47084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6280" y="310500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06920" y="419256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3000" y="538632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3720" y="35290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7400" y="3986280"/>
              <a:ext cx="1741320" cy="174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499000" y="4703400"/>
              <a:ext cx="700200" cy="15084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248520" y="4536720"/>
              <a:ext cx="699840" cy="1508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9640" y="39290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7040" y="479124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190520" y="2631960"/>
            <a:ext cx="935280" cy="935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20920" y="380520"/>
            <a:ext cx="4259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60" y="2135160"/>
            <a:ext cx="2400480" cy="157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58880" y="24271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09200" y="310032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4600" y="3060720"/>
            <a:ext cx="88920" cy="7452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4240" y="2209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41360" y="29541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18560" y="273528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12800" y="25718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658880" y="2604960"/>
            <a:ext cx="0" cy="208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658880" y="2943360"/>
            <a:ext cx="0" cy="1569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7760" y="3757680"/>
            <a:ext cx="2286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C55D-C558-4F36-97D6-F325C83A46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77960" y="162252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circular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3840" y="2597040"/>
            <a:ext cx="725328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SHAPE            = 'CIRC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FRAME            = 'FRAME_FOR_INS-1111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UNDARY_CORNERS = ( 0.0  1.0  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2800" y="380520"/>
            <a:ext cx="4597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299120"/>
            <a:ext cx="725328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SHAPE            = 'CIRC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FRAME            = 'FRAME_FOR_INS-11111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11111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2260440"/>
            <a:ext cx="7480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8480" y="396252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FF16-8BEB-46D1-818D-7C934AC93E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74640" y="1523880"/>
            <a:ext cx="715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n elliptical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25440" y="2833560"/>
            <a:ext cx="7785360" cy="3283560"/>
            <a:chOff x="1225440" y="2833560"/>
            <a:chExt cx="7785360" cy="3283560"/>
          </a:xfrm>
        </p:grpSpPr>
        <p:sp>
          <p:nvSpPr>
            <p:cNvPr id="177" name=""/>
            <p:cNvSpPr/>
            <p:nvPr/>
          </p:nvSpPr>
          <p:spPr>
            <a:xfrm flipV="1">
              <a:off x="2374920" y="4811400"/>
              <a:ext cx="4618080" cy="59364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3371400" y="4181400"/>
              <a:ext cx="158760" cy="80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14560" y="3321000"/>
              <a:ext cx="1384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74000" y="4533840"/>
              <a:ext cx="50940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6240" y="5095800"/>
              <a:ext cx="138456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381400" y="47163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58120" y="5229360"/>
              <a:ext cx="209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25440" y="5781600"/>
              <a:ext cx="1384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6320" y="283356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055760" y="4473360"/>
              <a:ext cx="16146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24160" y="46483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65720" y="295920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51280" y="40543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30360" y="52484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30760" y="36496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37000" y="4145040"/>
              <a:ext cx="2389320" cy="110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616720" y="4532040"/>
              <a:ext cx="855360" cy="18396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486480" y="4398480"/>
              <a:ext cx="579600" cy="12564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327400" y="4011480"/>
              <a:ext cx="3708360" cy="1417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5760" y="497988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0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27280" y="4186080"/>
              <a:ext cx="648000" cy="9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92600" y="409428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59560" y="48182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4920" y="464508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54320" y="380520"/>
            <a:ext cx="4394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2120" y="2171880"/>
            <a:ext cx="2400480" cy="157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711440" y="246384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61760" y="313704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66800" y="3097080"/>
            <a:ext cx="88920" cy="748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76440" y="224640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3920" y="29908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75680" y="277164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31320" y="2990880"/>
            <a:ext cx="676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26.57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5360" y="260820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3960" y="308448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711440" y="2666880"/>
            <a:ext cx="0" cy="208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09640" y="2990880"/>
            <a:ext cx="0" cy="1569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709640" y="3132000"/>
            <a:ext cx="169920" cy="2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93920" y="3129120"/>
            <a:ext cx="29196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960" y="3794040"/>
            <a:ext cx="2286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57 = arc tan (2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3400" y="2641680"/>
            <a:ext cx="1752480" cy="99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0745-7943-425D-AED8-720CB96017D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elliptical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93840" y="2514600"/>
            <a:ext cx="7253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SHAPE            = 'ELLIP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FRAME            = 'FRAME_FOR_INS-2222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UNDARY_CORNERS = ( 0.0  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 0.0  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992320" y="380520"/>
            <a:ext cx="472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4299120"/>
            <a:ext cx="72532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SHAPE            = 'ELLIPS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FRAME            = 'FRAME_FOR_INS-22222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CROSS_ANGLE      = 26.565051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22222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68480" y="2178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8480" y="396252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C804-0EBC-4B68-B5F9-FEB489D39CE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1525680"/>
            <a:ext cx="731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rectangular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65400" y="2981160"/>
            <a:ext cx="7785000" cy="3283560"/>
            <a:chOff x="1265400" y="2981160"/>
            <a:chExt cx="7785000" cy="3283560"/>
          </a:xfrm>
        </p:grpSpPr>
        <p:sp>
          <p:nvSpPr>
            <p:cNvPr id="226" name=""/>
            <p:cNvSpPr/>
            <p:nvPr/>
          </p:nvSpPr>
          <p:spPr>
            <a:xfrm flipV="1">
              <a:off x="2414520" y="4341960"/>
              <a:ext cx="4389480" cy="121104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228840" y="4398840"/>
              <a:ext cx="20880" cy="66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76600" y="3476520"/>
              <a:ext cx="13842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3600" y="4681440"/>
              <a:ext cx="50940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66200" y="524340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421000" y="48639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97720" y="5376960"/>
              <a:ext cx="209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5400" y="592920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95920" y="298116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4095360" y="4620960"/>
              <a:ext cx="16146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5560" y="47275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95960" y="30020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60920" y="41767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9960" y="53960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84560" y="35798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5480" y="4276800"/>
              <a:ext cx="2173320" cy="1123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656320" y="4670280"/>
              <a:ext cx="898560" cy="19368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611760" y="4546440"/>
              <a:ext cx="493920" cy="10656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436840" y="3998520"/>
              <a:ext cx="2600280" cy="1552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1920" y="38448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433600" y="5192640"/>
              <a:ext cx="273060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443320" y="5510160"/>
              <a:ext cx="4471920" cy="540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75440" y="5653080"/>
              <a:ext cx="9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92400" y="56340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46480" y="4386240"/>
              <a:ext cx="50652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55840" y="4384800"/>
              <a:ext cx="115920" cy="10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36760" y="4376880"/>
              <a:ext cx="457200" cy="11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1000" y="409248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78280" y="51926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15280" y="436716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6600" y="481320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3720" y="545940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814480" y="380520"/>
            <a:ext cx="50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ield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9120" y="2424240"/>
            <a:ext cx="2400480" cy="157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720" y="2944800"/>
            <a:ext cx="15746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468440" y="27162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18760" y="3389400"/>
            <a:ext cx="94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4160" y="3349800"/>
            <a:ext cx="88560" cy="7452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3800" y="24987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3243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89920" y="3002040"/>
            <a:ext cx="67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14.03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88320" y="3220920"/>
            <a:ext cx="676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26.57 </a:t>
            </a:r>
            <a:r>
              <a:rPr b="1" lang="en-US" sz="1200" spc="-1" strike="noStrike" baseline="30000">
                <a:solidFill>
                  <a:srgbClr val="fc0128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9440" y="374508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16160" y="29066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24080" y="375120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9440" y="2906640"/>
            <a:ext cx="88920" cy="74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467000" y="2944440"/>
            <a:ext cx="0" cy="1573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468440" y="3231720"/>
            <a:ext cx="0" cy="1573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468440" y="3392280"/>
            <a:ext cx="169920" cy="2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76480" y="3389400"/>
            <a:ext cx="19188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7320" y="4046400"/>
            <a:ext cx="2286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.03 = arc tan (1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57 = arc tan (2/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6293-25DD-4EA1-BABD-CCC8C6DECF9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rectangular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2444760"/>
            <a:ext cx="72532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SHAPE            = ’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FRAME            = 'FRAME_FOR_INS-33333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UNDARY_CORNERS = ( 2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-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-1.0  4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655360" y="380520"/>
            <a:ext cx="5402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4648320"/>
            <a:ext cx="72532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SHAPE            = ’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FRAME            = 'FRAME_FOR_INS-33333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CLASS_SPEC       = 'ANGL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REF_VECTOR       = ( 0.0  1.0  0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REF_ANGLE        = 14.036243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CROSS_ANGLE      = 26.565051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33333_FOV_ANGLE_UNITS      = 'DEGREES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8480" y="210816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8480" y="4275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half angular extents of the FOV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6DFB-7783-4477-9ADF-49E840F59A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43000" y="1525680"/>
            <a:ext cx="731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an instrument with a trapezoidal field of 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50880" y="2563920"/>
            <a:ext cx="7785000" cy="3283200"/>
            <a:chOff x="650880" y="2563920"/>
            <a:chExt cx="7785000" cy="3283200"/>
          </a:xfrm>
        </p:grpSpPr>
        <p:sp>
          <p:nvSpPr>
            <p:cNvPr id="285" name=""/>
            <p:cNvSpPr/>
            <p:nvPr/>
          </p:nvSpPr>
          <p:spPr>
            <a:xfrm flipV="1">
              <a:off x="1800360" y="3800520"/>
              <a:ext cx="4146480" cy="13348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665440" y="4024080"/>
              <a:ext cx="19512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17600" y="3144600"/>
              <a:ext cx="13845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Boundary Corner V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99080" y="4263840"/>
              <a:ext cx="509760" cy="56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51680" y="4825800"/>
              <a:ext cx="1384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Boresight V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806480" y="4446360"/>
              <a:ext cx="3227400" cy="69552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83560" y="4959360"/>
              <a:ext cx="2095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0880" y="551160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81760" y="25639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481560" y="4203360"/>
              <a:ext cx="161424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81400" y="4309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81440" y="25844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46400" y="3759120"/>
              <a:ext cx="321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55800" y="497844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0840" y="341316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1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0804800">
              <a:off x="3903840" y="3860280"/>
              <a:ext cx="2350800" cy="1104840"/>
            </a:xfrm>
            <a:custGeom>
              <a:avLst/>
              <a:gdLst>
                <a:gd name="textAreaLeft" fmla="*/ 516960 w 2350800"/>
                <a:gd name="textAreaRight" fmla="*/ 1833840 w 2350800"/>
                <a:gd name="textAreaTop" fmla="*/ 243000 h 1104840"/>
                <a:gd name="textAreaBottom" fmla="*/ 8618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041800" y="4293720"/>
              <a:ext cx="708120" cy="152280"/>
            </a:xfrm>
            <a:prstGeom prst="line">
              <a:avLst/>
            </a:prstGeom>
            <a:ln w="255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737320" y="4128840"/>
              <a:ext cx="753840" cy="16200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822320" y="3617640"/>
              <a:ext cx="3111480" cy="151596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27760" y="34272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1,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819440" y="4775040"/>
              <a:ext cx="273024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828800" y="5075280"/>
              <a:ext cx="4653000" cy="712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0920" y="5235480"/>
              <a:ext cx="9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-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78240" y="5216400"/>
              <a:ext cx="9176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2,-1,4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65600" y="4029120"/>
              <a:ext cx="307800" cy="64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757600" y="4019400"/>
              <a:ext cx="100080" cy="97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5880" y="4011480"/>
              <a:ext cx="223920" cy="11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5000" y="374472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05480" y="388440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78440" y="474984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00840" y="5025960"/>
              <a:ext cx="104760" cy="10476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18040" y="438948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906280" y="380520"/>
            <a:ext cx="4891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olygonal Fields of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FB74-9593-41D1-ACD6-BFFDC50D71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777960" y="1469880"/>
            <a:ext cx="7769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sets of keywords and values describe this polygonal field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3840" y="2590920"/>
            <a:ext cx="72532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SHAPE            = 'POLYGON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FRAME            = 'FRAME_FOR_INS-4444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BORESIGHT        = ( 0.0  0.0  1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-44444_FOV_BOUNDARY_CORNERS = ( 1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.0  1.0  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.0 -1.0  4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.0 -1.0  4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60560" y="380520"/>
            <a:ext cx="499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olygonal FOV Defini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68480" y="2178000"/>
            <a:ext cx="748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boundary vectors explicit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4589640"/>
            <a:ext cx="7480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gonal FOV cannot be specified using half angular ext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26F0-E3B7-4CE0-992E-1D79BAEBF1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K file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 angular extents from corner vectors returned by GETFO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4554360" y="380520"/>
            <a:ext cx="1595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56BE-420B-4A20-BDC4-83C41B6D0F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strument kernel serves as a repository for instrument specific information that may be useful within the SPICE contex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s for an instrument’s field-of-view size, shape, and ori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instrument timing parameters and other data relating to SPICE computations might also be placed in an I-ker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Instrument mounting alignment data are most often specified in a mission’s frames kernel (FK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K is a SPICE text kern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475160" y="380520"/>
            <a:ext cx="1752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urpo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64FA-2169-466B-AE66-305E403EE05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2281320"/>
            <a:ext cx="7542360" cy="4106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Low Energy Magnetospheric Measurements System 1 (LEMMS1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ince the MIMI_LEMMS1 detector's FOV is circular and it's diameter is 15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egrees, looking down the X-axis in the CASSINI_MIMI_LEMMS1 frame, we hav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(Note we are arbitrarily choosing a vector that terminates in the Z=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lane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^ 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  /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  /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  /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  /    o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/  7.50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x---------------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X  \        |   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 \      |     i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  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  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|-- 1.0 --|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923760" y="2271240"/>
            <a:ext cx="0" cy="388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13480" y="380880"/>
            <a:ext cx="308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IK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LEMMS1 FOV definition was taken from the Cassini MIMI IK (cas_mimi_v11.t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23760" y="2281320"/>
            <a:ext cx="753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1720" y="2281320"/>
            <a:ext cx="0" cy="3886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1160" y="6183360"/>
            <a:ext cx="0" cy="39348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51720" y="6183360"/>
            <a:ext cx="0" cy="39348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36360" y="6392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A2CE-7414-482E-A475-4D70A64619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371600" y="2157480"/>
            <a:ext cx="6450120" cy="393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he Y component of one 'boundary corner' vector i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Y Component = 1.0 * tan ( 7.50 degrees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= 0.13165249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The boundary corner vector as displayed below i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ormalized to unit length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FRAME  = 'CASSINI_MIMI_LEMMS1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SHAPE  = 'CIRCLE'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BORESIGHT  = 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.0000000000000000   0.0000000000000000  +1.0000000000000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-82762_FOV_BOUNDARY_CORNERS = (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0.0000000000000000  +0.1305261922200500  +0.9914448613738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187632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21720" y="1876320"/>
            <a:ext cx="0" cy="2811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371600" y="2157480"/>
            <a:ext cx="0" cy="395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821720" y="2157480"/>
            <a:ext cx="0" cy="3959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71600" y="6116760"/>
            <a:ext cx="64501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240" y="152568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V definition from the Cassini MIMI IK (continue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13480" y="380880"/>
            <a:ext cx="3085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ample IK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7472-A88D-4870-AA38-80224152C5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separation between the boundary corner vector and the boresight is the angula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240" y="2440080"/>
            <a:ext cx="776952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FOV parameter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GETFOV(-11111, 1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iz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ANGSIZ = VSEP( BSGHT, BNDS(1,1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ield of view parameter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11111, 1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siz = vsep_c( bsght, &amp;(bnds[0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58680" y="380520"/>
            <a:ext cx="51865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ircular FOV Angular Siz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3D73-1E6A-4B50-99A0-51AFDE193B4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7240" y="1525680"/>
            <a:ext cx="776952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sizes are the angular separations between the boresight and the boundary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2440080"/>
            <a:ext cx="776952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the FOV parameters from the kernel pool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CALL GETFOV(-22222, 2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eparation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ANG1   = VSEP( BSGHT, BNDS(1,1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  = VSEP( BSGHT, BNDS(1,2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The angle along the semi-major axis is the l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of the two separations compu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MAX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MLANG = MIN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396880" y="380520"/>
            <a:ext cx="5908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Angular Siz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5F98-1153-4D74-BA63-A2561D2313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7240" y="1444680"/>
            <a:ext cx="776952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OV parameters from the kernel pool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22222, 2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= vsep_c( bsght, &amp;(bnds[0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= vsep_c( bsght, &amp;(bnds[1][0]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The angle along the semi-major axis is the larger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wo separations computed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ang1 &gt; ang2 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1; smlang = ang2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2; smlang = ang1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396880" y="380520"/>
            <a:ext cx="5908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lliptical FOV Angular Siz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A3DA-39F7-483F-971B-DCB9CCD4FD8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687240" y="1525680"/>
            <a:ext cx="7769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gular extents of the FOV are computed by calculating the angle between the bisector of adjacent unit boundary vectors and the bor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76040" y="3218040"/>
            <a:ext cx="6176880" cy="2464200"/>
            <a:chOff x="176040" y="3218040"/>
            <a:chExt cx="6176880" cy="2464200"/>
          </a:xfrm>
        </p:grpSpPr>
        <p:sp>
          <p:nvSpPr>
            <p:cNvPr id="352" name=""/>
            <p:cNvSpPr/>
            <p:nvPr/>
          </p:nvSpPr>
          <p:spPr>
            <a:xfrm flipV="1">
              <a:off x="1325520" y="3758760"/>
              <a:ext cx="4389120" cy="12114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1331640" y="4281120"/>
              <a:ext cx="3227400" cy="6951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6040" y="534672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06560" y="3693960"/>
              <a:ext cx="0" cy="571680"/>
            </a:xfrm>
            <a:prstGeom prst="line">
              <a:avLst/>
            </a:prstGeom>
            <a:ln w="3816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20960" y="4275000"/>
              <a:ext cx="844560" cy="123840"/>
            </a:xfrm>
            <a:prstGeom prst="line">
              <a:avLst/>
            </a:prstGeom>
            <a:ln w="3816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960" y="4813200"/>
              <a:ext cx="841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0,0,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6120" y="3693960"/>
              <a:ext cx="2173320" cy="1124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4566960" y="4087800"/>
              <a:ext cx="898560" cy="193680"/>
            </a:xfrm>
            <a:prstGeom prst="line">
              <a:avLst/>
            </a:prstGeom>
            <a:ln w="3816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522760" y="3963960"/>
              <a:ext cx="493560" cy="106560"/>
            </a:xfrm>
            <a:prstGeom prst="line">
              <a:avLst/>
            </a:prstGeom>
            <a:ln w="381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347480" y="3416400"/>
              <a:ext cx="2600280" cy="155232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344240" y="4610160"/>
              <a:ext cx="2730600" cy="35568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1353960" y="4927680"/>
              <a:ext cx="4471920" cy="54000"/>
            </a:xfrm>
            <a:prstGeom prst="line">
              <a:avLst/>
            </a:prstGeom>
            <a:ln w="19080">
              <a:solidFill>
                <a:srgbClr val="fc012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57600" y="3638520"/>
              <a:ext cx="104760" cy="104760"/>
            </a:xfrm>
            <a:prstGeom prst="ellipse">
              <a:avLst/>
            </a:prstGeom>
            <a:solidFill>
              <a:srgbClr val="00aa0c"/>
            </a:solidFill>
            <a:ln w="1260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51120" y="4367160"/>
              <a:ext cx="104760" cy="104760"/>
            </a:xfrm>
            <a:prstGeom prst="ellipse">
              <a:avLst/>
            </a:prstGeom>
            <a:solidFill>
              <a:srgbClr val="00aa0c"/>
            </a:solidFill>
            <a:ln w="12600">
              <a:solidFill>
                <a:srgbClr val="00aa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7600" y="4230720"/>
              <a:ext cx="10476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352520" y="3224160"/>
              <a:ext cx="4431960" cy="1751040"/>
            </a:xfrm>
            <a:prstGeom prst="line">
              <a:avLst/>
            </a:prstGeom>
            <a:ln w="38160">
              <a:solidFill>
                <a:srgbClr val="00aa0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1385640" y="4295520"/>
              <a:ext cx="4967280" cy="669960"/>
            </a:xfrm>
            <a:prstGeom prst="line">
              <a:avLst/>
            </a:prstGeom>
            <a:ln w="38160">
              <a:solidFill>
                <a:srgbClr val="00aa0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2880" y="3218040"/>
              <a:ext cx="1384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a0c"/>
                  </a:solidFill>
                  <a:latin typeface="Arial"/>
                </a:rPr>
                <a:t>Bisec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88800" y="3562200"/>
              <a:ext cx="524160" cy="82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7080" y="3570120"/>
              <a:ext cx="1322280" cy="10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451560" y="3351240"/>
            <a:ext cx="2552760" cy="1562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35840" y="3689280"/>
            <a:ext cx="1469880" cy="88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32800" y="4089240"/>
            <a:ext cx="46080" cy="46080"/>
          </a:xfrm>
          <a:prstGeom prst="ellipse">
            <a:avLst/>
          </a:prstGeom>
          <a:solidFill>
            <a:srgbClr val="063de8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7752960" y="3700080"/>
            <a:ext cx="3240" cy="436680"/>
          </a:xfrm>
          <a:prstGeom prst="line">
            <a:avLst/>
          </a:prstGeom>
          <a:ln w="28440">
            <a:solidFill>
              <a:srgbClr val="00aa0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37480" y="4093560"/>
            <a:ext cx="754200" cy="2880"/>
          </a:xfrm>
          <a:prstGeom prst="line">
            <a:avLst/>
          </a:prstGeom>
          <a:ln w="28440">
            <a:solidFill>
              <a:srgbClr val="00aa0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37640" y="375444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sml_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21360" y="41846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lrg_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37600" y="3700440"/>
            <a:ext cx="2880" cy="123840"/>
          </a:xfrm>
          <a:prstGeom prst="line">
            <a:avLst/>
          </a:prstGeom>
          <a:ln w="12600">
            <a:solidFill>
              <a:srgbClr val="fc0128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42280" y="3990960"/>
            <a:ext cx="3240" cy="166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7759440" y="4231800"/>
            <a:ext cx="734760" cy="1800"/>
          </a:xfrm>
          <a:prstGeom prst="line">
            <a:avLst/>
          </a:prstGeom>
          <a:ln w="12600">
            <a:solidFill>
              <a:srgbClr val="fc0128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92240" y="5057640"/>
            <a:ext cx="24408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tended field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D209-7D1E-41EC-BD6B-B49C1F120B7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7240" y="1488960"/>
            <a:ext cx="7769520" cy="46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FORTR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Retrieve FOV parameters from the kernel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GETFOV(-33333, 4, SHAPE, FRAME, BSGHT, N, B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Normalize the 3 boundary vector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CALL UNORM(BNDS(1,1), UNTBND(1,1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UNORM(BNDS(1,2), UNTBND(1,2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UNORM(BNDS(1,3), UNTBND(1,3), MA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ver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ADD(UNTBND(1,1), UNTBND(1,2), VE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SCL(0.5, VEC1, VEC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ADD(UNTBND(1,2), UNTBND(1,3), VEC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 VSCL(0.5, VEC2, VEC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Compute the angular sepa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  = VSEP( BSGHT, VEC1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  = VSEP( BSGHT, VEC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    Separate the larger and smaller angle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LRGANG = MAX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MLANG = MIN( ANG1, ANG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3A9A-AA55-460E-B76E-C77982E96B0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7240" y="1257480"/>
            <a:ext cx="77695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c0128"/>
                </a:solidFill>
                <a:uFillTx/>
                <a:latin typeface="Courier New"/>
              </a:rPr>
              <a:t>C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Define the string length parameter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define STRSIZ        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Retrieve the FOV parameters from the kernel pool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etfov_c(-33333, 4, STRSIZ, STRSIZ, shape, fr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sght, &amp;n, bnd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Normalize the 3 boundary vector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0][0]), &amp;(untbnd[0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1][0]), &amp;(untbnd[1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orm_c(&amp;(bnds[2][0]), &amp;(untbnd[2][0]), &amp;ma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verages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dd_c(&amp;(untbnd[0][0]), &amp;(untbnd[1][0])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cl_c(0.5, vec1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dd_c(&amp;(untbnd[1][0]), &amp;(untbnd[2][0])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scl_c(0.5, vec2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Compute the angular separation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1 = vsep_c( bsght, vec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2 = vsep_c( bsght, vec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*  Separate the larger and smaller angles. *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ang1 &gt; ang2 ) 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1; smlang = ang2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rgang = ang2; smlang = ang1;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058840" y="380520"/>
            <a:ext cx="6585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tangular FOV Angular Siz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EE6B-0042-4D00-8968-B0E5206A9565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2133720"/>
            <a:ext cx="701064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PL/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ments describing the keywords and 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 follow, as well as any other pertin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yword = Valu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descriptive com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Keyword = Value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re comments, followed by more data, etc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7240" y="1641600"/>
            <a:ext cx="77695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rmat and structure of a typical I-Kernel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83080" y="380520"/>
            <a:ext cx="355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Structur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C519-E1FF-454D-86C1-F9707D90F7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irements on keywords in an IK are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must begin with INS[#], where [#] is replaced with the NAIF instrument ID code (which is a negative number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tal length of the keyword must be less than 32 characte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are case-sensitive. (Keyword != KEY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examples of IK keywor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GS MOC NA focal length: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94031_FOCAL_LENG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 HRSC SRC pixel angular size: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41220_IFO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 ASPERA NPI number of sector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-41130_NUMBER_OF_S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 SPICE does not require any specific keywords to be  present in an 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exception is a set of keywords defining an instrument’s FOV if the NAIF Toolkit’s GETFOV routine is planned to be used to retrieve the FOV attribu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s required by GETFOV will be covered later in this tutori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298320" y="380520"/>
            <a:ext cx="411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Content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2959-006E-4FAA-A5CD-48E0AE53F9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Ks usually contain extensive comments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over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 source(s) for the data included in the I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s/IDs assigned to the instrument and its pa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anation of each keyword included in the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FOV and detector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descriptions of the algorithms in which parameters provided in the IK are used, and even fragments of source code implementing these algorit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 optical distortion models or timing algorith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ocumentation exists primarily to assist users in integrating I-Kernel data into their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needs to know the keyword name to get its value from the loaded IK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needs to know what that value means in order to use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98320" y="380520"/>
            <a:ext cx="4116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Content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70CA-C8B9-4B31-B429-A05608ED842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with any SPICE kernel, IK files are loaded using FURN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FURNSH ( ’ik_file_name.ti’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knowing the name and type (DP, integer, or character) of a keyword of interest, the value(s) associated with that keyword can be retrieved using G*POOL rout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D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I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CPOOL ( NAME, START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N, VALUES, FOU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instrument’s FOV is defined in the IK using a special set of keywords discussed later in this tutorial, the FOV shape, reference frame, boresight vector, and boundary vectors can be retrieved by calling the GETFOV rout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GETFOV ( INSTID, ROOM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SHAPE, FRAME, BSIGHT, N, BOUND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709720" y="380520"/>
            <a:ext cx="52898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-Kernel Interface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2F504-2D47-4B85-9197-DE9C68FF4C6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922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llowing keywords defining FOV attributes for the instrument with NAIF ID (#) must be present in the IK if the NAIF Toolkit’s GETFOV module will be u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shape of the FO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SHAPE     = 'CIRCLE' or 'ELLIPSE' 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RECTANGLE' or 'POLYGON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reference frame with respect to which the boresight vector and FOV boundary vectors are spec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FRAME     = 'frame name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word defining the boresight vec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#_FOV_BORESIGHT = ( X, Y, Z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560320" y="380520"/>
            <a:ext cx="56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C409-49BC-4241-8C83-359439BE873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75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(s) defining FOV boundary vectors, in either of two w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specifying boundary vectors explici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LASS_SPEC       = 'CORNERS' (optiona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BOUNDARY_CORNER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= ( X(1), Y(1), Z(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…     …     …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(n), Y(n), Z(n)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BOUNDARY_CORN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provides an array of vectors that point to the "corners" of the instrument field of view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60320" y="380520"/>
            <a:ext cx="5605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5BDE-8730-4970-9493-7FB83E68F6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75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providing half angular extents of the FOV (possible only for circular, elliptical or rectangular FOV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LASS_SPEC        = 'ANGLES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REF_VECTOR        = ( X, Y, Z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REF_ANGLE         = halfangle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CROSS_ANGLE       = halfangle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#_FOV_ANGLE_UNITS       = 'DEGREES' 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RADIANS’ or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REF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specifies a reference vector that together with the boresight vector defines the plane in which the half angle give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REF_ANG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yword is measured. The other half angle given in th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V_CROSS_ANG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word is measured in the plane normal to this plane and containing the boresight ve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2557080" y="380520"/>
            <a:ext cx="5613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V Definition Keywords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rument Kerne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C5E5-0F19-4635-9DFA-B5EFA0DF87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1-02-22T06:40:46Z</cp:lastPrinted>
  <dcterms:modified xsi:type="dcterms:W3CDTF">2007-10-12T23:35:12Z</dcterms:modified>
  <cp:revision>61</cp:revision>
  <dc:subject/>
  <dc:title>Instrument Kernels</dc:title>
</cp:coreProperties>
</file>