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mention of: Logic unit utilities, Symbol tables, Numerical functions and </a:t>
            </a: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deci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rithmetic function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d ‘process the line read’ comment below the RDTEXT c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C265E-A469-4942-883A-ACBABC80A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DEAEA-8F42-41FE-8168-0E6DAF511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D4F7C-E95F-4B96-BA3C-D2707B591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3E4E-CADC-4DD1-A112-E3748CBAF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BB87-2A36-40E7-B2BC-3628245670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D098A-C35E-4D96-908F-621F4C205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9481-AAAD-463B-AA67-6AA8776D4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30F9-1B73-472F-93C2-3E201FBF3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A0D8-AAAA-47B6-AF98-E36FF9732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43B0-2FDF-431B-90A7-8B6586861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4475-C481-4C6F-8809-A0C84CE26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D4B0-18FB-4762-9AA4-2B7925B17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58E5-5C0F-41D1-871B-DBC440A8CB7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14200" y="2433600"/>
            <a:ext cx="518148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Other Useful Functions</a:t>
            </a:r>
            <a:br>
              <a:rPr sz="36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(Using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Examples)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89240" y="4750920"/>
            <a:ext cx="64008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“Blank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C: Replace a marker with a character st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C ( ‘The file was: #’, '#', ‘foo.bar', OUT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file was: foo.bar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I: Replace a marker with an integ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I ( ‘The value is: #’,  '#',           7, OUT 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value is: 7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D: Replace a marker with a double precision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D ( ‘The value is: #’,  '#’,  3.141592654D0, 10, OUT 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The value is: 3.141592654E+00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OT: Replace a marker with the text representation of an ordinal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REPMOT ( ‘It was the # term.’,  '#’, ‘L’,  2, OUT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becomes ‘It was the second term.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FA92-FBDF-4F6F-B068-ED9556DFA1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“Blank”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MCT: Replace a marker with the text representation of a cardinal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REPMCT ( ‘Hit # errors.’, '#', 6,   'L', OU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becomes ‘Hit six errors.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 Forma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PFMT: Using a format template, create a formatted string that represents a double precision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DPFMT ( PI(), 'xxx.yyyy', OUT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becomes ‘  3.1416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: DPSTR, INTSTR, INTTXT, INT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CAA11-CE09-4B9B-9790-1D36341C4D5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ma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ICTR: Given a sample time string, create a time format picture suitable for use by the routine TIM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OUT: Converts an input epoch to a character string formatted to the specifications of a user's format pic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CASE: Convert all characters in string to upper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CASE: Convert all characters in string to lowerc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str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FFIX: add a suffix to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IX: add a prefix to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084400" y="380520"/>
            <a:ext cx="65390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Creating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EE42-C8A6-4D6C-8314-A3BC8AB6805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062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C, SHELLI, SHELLD, ORDERI, ORDERC, ORDERD, REORDC, REORDI, REORD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 ordered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RCHC, BSRCHI, BSRCHD, LSTLEC, LSTLEI, LSTLED, LSTLTC, LSTLTI, LSTLTD, BSCH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 unordered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RCHC, ISRCHI, ISRCHD, ESRCH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ing portions of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AC, CYCLAD, CYCL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ng and removing arra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LAC, INSLAD, INSLAI, REMLAC, REMLAD, REML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728800" y="151920"/>
            <a:ext cx="5238720" cy="100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arching, Sorting and Other Array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nipulations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5B75-3117-4E77-A81B-2018D7943F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686880" y="2362320"/>
            <a:ext cx="7949160" cy="2850480"/>
            <a:chOff x="686880" y="2362320"/>
            <a:chExt cx="7949160" cy="2850480"/>
          </a:xfrm>
        </p:grpSpPr>
        <p:grpSp>
          <p:nvGrpSpPr>
            <p:cNvPr id="228" name=""/>
            <p:cNvGrpSpPr/>
            <p:nvPr/>
          </p:nvGrpSpPr>
          <p:grpSpPr>
            <a:xfrm>
              <a:off x="686880" y="2362320"/>
              <a:ext cx="2081880" cy="2850480"/>
              <a:chOff x="686880" y="2362320"/>
              <a:chExt cx="2081880" cy="2850480"/>
            </a:xfrm>
          </p:grpSpPr>
          <p:sp>
            <p:nvSpPr>
              <p:cNvPr id="229" name=""/>
              <p:cNvSpPr/>
              <p:nvPr/>
            </p:nvSpPr>
            <p:spPr>
              <a:xfrm>
                <a:off x="686880" y="2411280"/>
                <a:ext cx="1005840" cy="280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ercu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ve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a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jupi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a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ura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eptu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plu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65880" y="2411280"/>
                <a:ext cx="8780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45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7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98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.5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.4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.1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20.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0.09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1.0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690480" y="2362320"/>
                <a:ext cx="1036800" cy="2701440"/>
                <a:chOff x="690480" y="2362320"/>
                <a:chExt cx="1036800" cy="27014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90480" y="2362320"/>
                  <a:ext cx="1036800" cy="2701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92280" y="26571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92280" y="29620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2280" y="3193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92280" y="3457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92280" y="3688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92280" y="3936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92280" y="4168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92280" y="4400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2280" y="46954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731960" y="2362320"/>
                <a:ext cx="1036800" cy="2701440"/>
                <a:chOff x="1731960" y="2362320"/>
                <a:chExt cx="1036800" cy="270144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731960" y="2362320"/>
                  <a:ext cx="1036800" cy="2701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33400" y="26571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733400" y="29620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733400" y="3193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733400" y="3457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733400" y="36889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33400" y="3936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33400" y="41684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33400" y="4400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33400" y="46954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6554160" y="2440080"/>
              <a:ext cx="2081880" cy="2701800"/>
              <a:chOff x="6554160" y="2440080"/>
              <a:chExt cx="2081880" cy="2701800"/>
            </a:xfrm>
          </p:grpSpPr>
          <p:sp>
            <p:nvSpPr>
              <p:cNvPr id="254" name=""/>
              <p:cNvSpPr/>
              <p:nvPr/>
            </p:nvSpPr>
            <p:spPr>
              <a:xfrm>
                <a:off x="6554160" y="2489400"/>
                <a:ext cx="10058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ar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jupi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ar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mercu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eptu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plu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atur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ura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venu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733520" y="2489400"/>
                <a:ext cx="87804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98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.44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.53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44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0.09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31.05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.1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20.7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0.7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6558120" y="2440080"/>
                <a:ext cx="1036440" cy="2701800"/>
                <a:chOff x="6558120" y="2440080"/>
                <a:chExt cx="1036440" cy="270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58120" y="2440080"/>
                  <a:ext cx="1036440" cy="2701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559560" y="2735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59560" y="30402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59560" y="3272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59560" y="3535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559560" y="3767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59560" y="40147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59560" y="4246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59560" y="44784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59560" y="4773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7599240" y="2440080"/>
                <a:ext cx="1036800" cy="2701800"/>
                <a:chOff x="7599240" y="2440080"/>
                <a:chExt cx="1036800" cy="2701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599240" y="2440080"/>
                  <a:ext cx="1036800" cy="27018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01040" y="273528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601040" y="30402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01040" y="3272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01040" y="3535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601040" y="376704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601040" y="401472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01040" y="424656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601040" y="44784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601040" y="4773600"/>
                  <a:ext cx="101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2984400" y="3359160"/>
              <a:ext cx="1244880" cy="863640"/>
              <a:chOff x="2984400" y="3359160"/>
              <a:chExt cx="1244880" cy="863640"/>
            </a:xfrm>
          </p:grpSpPr>
          <p:sp>
            <p:nvSpPr>
              <p:cNvPr id="279" name=""/>
              <p:cNvSpPr/>
              <p:nvPr/>
            </p:nvSpPr>
            <p:spPr>
              <a:xfrm>
                <a:off x="2984400" y="3359160"/>
                <a:ext cx="1244880" cy="863640"/>
              </a:xfrm>
              <a:prstGeom prst="rightArrow">
                <a:avLst>
                  <a:gd name="adj1" fmla="val 50000"/>
                  <a:gd name="adj2" fmla="val 72098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56040" y="3640320"/>
                <a:ext cx="891720" cy="335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rder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5200560" y="3359160"/>
              <a:ext cx="1244520" cy="863640"/>
              <a:chOff x="5200560" y="3359160"/>
              <a:chExt cx="1244520" cy="863640"/>
            </a:xfrm>
          </p:grpSpPr>
          <p:sp>
            <p:nvSpPr>
              <p:cNvPr id="282" name=""/>
              <p:cNvSpPr/>
              <p:nvPr/>
            </p:nvSpPr>
            <p:spPr>
              <a:xfrm>
                <a:off x="5200560" y="3359160"/>
                <a:ext cx="1244520" cy="863640"/>
              </a:xfrm>
              <a:prstGeom prst="rightArrow">
                <a:avLst>
                  <a:gd name="adj1" fmla="val 50000"/>
                  <a:gd name="adj2" fmla="val 72077"/>
                </a:avLst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30800" y="3630600"/>
                <a:ext cx="10958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ordc,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373640" y="2463840"/>
              <a:ext cx="434520" cy="2654280"/>
              <a:chOff x="4373640" y="2463840"/>
              <a:chExt cx="434520" cy="2654280"/>
            </a:xfrm>
          </p:grpSpPr>
          <p:sp>
            <p:nvSpPr>
              <p:cNvPr id="285" name=""/>
              <p:cNvSpPr/>
              <p:nvPr/>
            </p:nvSpPr>
            <p:spPr>
              <a:xfrm>
                <a:off x="4373640" y="2481480"/>
                <a:ext cx="434520" cy="255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390920" y="2463840"/>
                <a:ext cx="400320" cy="2654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28800" y="151920"/>
            <a:ext cx="5238720" cy="1005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arching, Sorting and Other Array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nipulations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5120" y="20563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54800" y="205632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0" lang="en-US" sz="14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1280" y="5256720"/>
            <a:ext cx="319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 of ‘Body’ indexes represent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ist sorted in alphabetical or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553080" y="19036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96600" y="21326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U.</a:t>
            </a:r>
            <a:r>
              <a:rPr b="0" lang="en-US" sz="14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8640" y="6187320"/>
            <a:ext cx="251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istance in A.U. at Jan 01,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F37D-7FB1-4516-ADC5-B7536CDE7C0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7967880" cy="454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are collections of ordered, disjoint intervals of double precision nu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contains a family of routines for creating windows and performing “set arithmetic” on th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tly used to specify intervals of time when some set of user constraints are satisf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window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Behi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tain intervals of time when Huygens is not behind Saturn as seen from eart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 window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old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tain intervals of time when Huygens is above the Goldstone horiz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ygens can be tracked from Goldstone during the intersection of these two windows 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ck = NotBehind * Gold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indows.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more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187880" y="2162160"/>
            <a:ext cx="3481200" cy="79560"/>
            <a:chOff x="4187880" y="2162160"/>
            <a:chExt cx="3481200" cy="79560"/>
          </a:xfrm>
        </p:grpSpPr>
        <p:grpSp>
          <p:nvGrpSpPr>
            <p:cNvPr id="296" name=""/>
            <p:cNvGrpSpPr/>
            <p:nvPr/>
          </p:nvGrpSpPr>
          <p:grpSpPr>
            <a:xfrm>
              <a:off x="5084640" y="2162160"/>
              <a:ext cx="2244960" cy="77760"/>
              <a:chOff x="5084640" y="2162160"/>
              <a:chExt cx="2244960" cy="77760"/>
            </a:xfrm>
          </p:grpSpPr>
          <p:sp>
            <p:nvSpPr>
              <p:cNvPr id="297" name=""/>
              <p:cNvSpPr/>
              <p:nvPr/>
            </p:nvSpPr>
            <p:spPr>
              <a:xfrm>
                <a:off x="5775480" y="2162160"/>
                <a:ext cx="4474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78480" y="2162160"/>
                <a:ext cx="68256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284960" y="2162160"/>
                <a:ext cx="4464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46720" y="2162160"/>
                <a:ext cx="2872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84640" y="2162160"/>
                <a:ext cx="101880" cy="77760"/>
              </a:xfrm>
              <a:prstGeom prst="rect">
                <a:avLst/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4187880" y="2228760"/>
              <a:ext cx="348120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317840" y="380520"/>
            <a:ext cx="2068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*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79960" y="6171120"/>
            <a:ext cx="43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sometimes referred to a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9A503-5432-4BE4-812B-0CDD594D7A0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09480" y="1295280"/>
            <a:ext cx="7543800" cy="518184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83440" y="5162400"/>
            <a:ext cx="5977800" cy="978120"/>
            <a:chOff x="883440" y="5162400"/>
            <a:chExt cx="5977800" cy="978120"/>
          </a:xfrm>
        </p:grpSpPr>
        <p:sp>
          <p:nvSpPr>
            <p:cNvPr id="307" name=""/>
            <p:cNvSpPr/>
            <p:nvPr/>
          </p:nvSpPr>
          <p:spPr>
            <a:xfrm>
              <a:off x="883440" y="5802480"/>
              <a:ext cx="129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365200" y="5162400"/>
              <a:ext cx="4496040" cy="978120"/>
              <a:chOff x="2365200" y="5162400"/>
              <a:chExt cx="4496040" cy="97812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2365200" y="6004080"/>
                <a:ext cx="4496040" cy="136440"/>
                <a:chOff x="2365200" y="6004080"/>
                <a:chExt cx="4496040" cy="136440"/>
              </a:xfrm>
            </p:grpSpPr>
            <p:grpSp>
              <p:nvGrpSpPr>
                <p:cNvPr id="310" name=""/>
                <p:cNvGrpSpPr/>
                <p:nvPr/>
              </p:nvGrpSpPr>
              <p:grpSpPr>
                <a:xfrm>
                  <a:off x="2365200" y="6004080"/>
                  <a:ext cx="4496040" cy="136440"/>
                  <a:chOff x="2365200" y="6004080"/>
                  <a:chExt cx="4496040" cy="1364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2365200" y="6111720"/>
                    <a:ext cx="4496040" cy="28800"/>
                  </a:xfrm>
                  <a:prstGeom prst="rect">
                    <a:avLst/>
                  </a:prstGeom>
                  <a:solidFill>
                    <a:srgbClr val="04ab2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2970360" y="6004080"/>
                    <a:ext cx="3698640" cy="136440"/>
                    <a:chOff x="2970360" y="6004080"/>
                    <a:chExt cx="3698640" cy="1364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2970360" y="6004080"/>
                      <a:ext cx="2458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486240" y="6004080"/>
                      <a:ext cx="25056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097160" y="6004080"/>
                      <a:ext cx="74772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5438880" y="6004080"/>
                      <a:ext cx="856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5823000" y="6004080"/>
                      <a:ext cx="11592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127920" y="6004080"/>
                      <a:ext cx="541080" cy="136440"/>
                    </a:xfrm>
                    <a:prstGeom prst="rect">
                      <a:avLst/>
                    </a:prstGeom>
                    <a:solidFill>
                      <a:srgbClr val="04ab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2550960" y="6004080"/>
                  <a:ext cx="4211640" cy="136440"/>
                  <a:chOff x="2550960" y="6004080"/>
                  <a:chExt cx="4211640" cy="13644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2550960" y="6004080"/>
                    <a:ext cx="88740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3681360" y="6004080"/>
                    <a:ext cx="19548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487680" y="6004080"/>
                    <a:ext cx="10332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4111560" y="6004080"/>
                    <a:ext cx="54144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815000" y="6004080"/>
                    <a:ext cx="1983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216400" y="6004080"/>
                    <a:ext cx="12099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576840" y="6004080"/>
                    <a:ext cx="185760" cy="136440"/>
                  </a:xfrm>
                  <a:prstGeom prst="rect">
                    <a:avLst/>
                  </a:prstGeom>
                  <a:solidFill>
                    <a:srgbClr val="f8f8f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7" name=""/>
                <p:cNvSpPr/>
                <p:nvPr/>
              </p:nvSpPr>
              <p:spPr>
                <a:xfrm>
                  <a:off x="2365200" y="611172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365200" y="5162400"/>
                <a:ext cx="4496040" cy="381240"/>
                <a:chOff x="2365200" y="5162400"/>
                <a:chExt cx="4496040" cy="38124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2970360" y="5162400"/>
                  <a:ext cx="3698640" cy="136800"/>
                  <a:chOff x="2970360" y="5162400"/>
                  <a:chExt cx="3698640" cy="1368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2970360" y="5162400"/>
                    <a:ext cx="2458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3486240" y="5162400"/>
                    <a:ext cx="25056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097160" y="5162400"/>
                    <a:ext cx="74772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438880" y="5162400"/>
                    <a:ext cx="856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3000" y="5162400"/>
                    <a:ext cx="11592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6127920" y="5162400"/>
                    <a:ext cx="541080" cy="136800"/>
                  </a:xfrm>
                  <a:prstGeom prst="rect">
                    <a:avLst/>
                  </a:prstGeom>
                  <a:solidFill>
                    <a:srgbClr val="fc01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550960" y="5407200"/>
                  <a:ext cx="4211640" cy="136440"/>
                  <a:chOff x="2550960" y="5407200"/>
                  <a:chExt cx="4211640" cy="136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550960" y="5407200"/>
                    <a:ext cx="88740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3681360" y="5407200"/>
                    <a:ext cx="19548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487680" y="5407200"/>
                    <a:ext cx="10332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4111560" y="5407200"/>
                    <a:ext cx="54144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4815000" y="5407200"/>
                    <a:ext cx="1983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5216400" y="5407200"/>
                    <a:ext cx="12099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576840" y="5407200"/>
                    <a:ext cx="185760" cy="136440"/>
                  </a:xfrm>
                  <a:prstGeom prst="rect">
                    <a:avLst/>
                  </a:prstGeom>
                  <a:solidFill>
                    <a:srgbClr val="063de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2365200" y="527040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365200" y="5514840"/>
                  <a:ext cx="4496040" cy="28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46" name=""/>
          <p:cNvGrpSpPr/>
          <p:nvPr/>
        </p:nvGrpSpPr>
        <p:grpSpPr>
          <a:xfrm>
            <a:off x="882720" y="3384720"/>
            <a:ext cx="5978520" cy="857160"/>
            <a:chOff x="882720" y="3384720"/>
            <a:chExt cx="5978520" cy="857160"/>
          </a:xfrm>
        </p:grpSpPr>
        <p:sp>
          <p:nvSpPr>
            <p:cNvPr id="347" name=""/>
            <p:cNvSpPr/>
            <p:nvPr/>
          </p:nvSpPr>
          <p:spPr>
            <a:xfrm>
              <a:off x="882720" y="3903840"/>
              <a:ext cx="1476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Inters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2365200" y="3384720"/>
              <a:ext cx="4496040" cy="857160"/>
              <a:chOff x="2365200" y="3384720"/>
              <a:chExt cx="4496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2367000" y="421308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71800" y="4105440"/>
                <a:ext cx="2462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440320" y="4105440"/>
                <a:ext cx="856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23000" y="4105440"/>
                <a:ext cx="1173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83160" y="4105440"/>
                <a:ext cx="568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89480" y="4105440"/>
                <a:ext cx="1029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13360" y="4105440"/>
                <a:ext cx="5396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16440" y="4105440"/>
                <a:ext cx="3024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127920" y="4105440"/>
                <a:ext cx="29988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578640" y="4105440"/>
                <a:ext cx="92160" cy="136440"/>
              </a:xfrm>
              <a:prstGeom prst="rect">
                <a:avLst/>
              </a:prstGeom>
              <a:solidFill>
                <a:srgbClr val="04ab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2970360" y="3384720"/>
                <a:ext cx="3698640" cy="136440"/>
                <a:chOff x="2970360" y="3384720"/>
                <a:chExt cx="3698640" cy="1364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970360" y="3384720"/>
                  <a:ext cx="2458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86240" y="3384720"/>
                  <a:ext cx="25056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097160" y="3384720"/>
                  <a:ext cx="7477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438880" y="3384720"/>
                  <a:ext cx="856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823000" y="3384720"/>
                  <a:ext cx="1159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127920" y="3384720"/>
                  <a:ext cx="5410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550960" y="3629160"/>
                <a:ext cx="4211640" cy="136440"/>
                <a:chOff x="2550960" y="3629160"/>
                <a:chExt cx="4211640" cy="1364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550960" y="3629160"/>
                  <a:ext cx="88740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681360" y="3629160"/>
                  <a:ext cx="19548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87680" y="3629160"/>
                  <a:ext cx="10332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11560" y="3629160"/>
                  <a:ext cx="54144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815000" y="3629160"/>
                  <a:ext cx="1983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216400" y="3629160"/>
                  <a:ext cx="12099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576840" y="3629160"/>
                  <a:ext cx="1857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2367000" y="421308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365200" y="3492360"/>
                <a:ext cx="44960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365200" y="3736800"/>
                <a:ext cx="44960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7" name=""/>
          <p:cNvGrpSpPr/>
          <p:nvPr/>
        </p:nvGrpSpPr>
        <p:grpSpPr>
          <a:xfrm>
            <a:off x="882000" y="1508040"/>
            <a:ext cx="5979240" cy="939960"/>
            <a:chOff x="882000" y="1508040"/>
            <a:chExt cx="5979240" cy="939960"/>
          </a:xfrm>
        </p:grpSpPr>
        <p:sp>
          <p:nvSpPr>
            <p:cNvPr id="378" name=""/>
            <p:cNvSpPr/>
            <p:nvPr/>
          </p:nvSpPr>
          <p:spPr>
            <a:xfrm>
              <a:off x="882000" y="2109960"/>
              <a:ext cx="830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1d58"/>
                  </a:solidFill>
                  <a:latin typeface="Arial"/>
                </a:rPr>
                <a:t>Un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365200" y="1508040"/>
              <a:ext cx="4496040" cy="939960"/>
              <a:chOff x="2365200" y="1508040"/>
              <a:chExt cx="4496040" cy="9399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2970360" y="1508040"/>
                <a:ext cx="3698640" cy="136440"/>
                <a:chOff x="2970360" y="1508040"/>
                <a:chExt cx="3698640" cy="136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2970360" y="1508040"/>
                  <a:ext cx="2458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6240" y="1508040"/>
                  <a:ext cx="25056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097160" y="1508040"/>
                  <a:ext cx="7477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38880" y="1508040"/>
                  <a:ext cx="856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823000" y="1508040"/>
                  <a:ext cx="11592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127920" y="1508040"/>
                  <a:ext cx="541080" cy="1364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550960" y="1704960"/>
                <a:ext cx="4211640" cy="136440"/>
                <a:chOff x="2550960" y="1704960"/>
                <a:chExt cx="4211640" cy="1364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550960" y="1704960"/>
                  <a:ext cx="88740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681360" y="1704960"/>
                  <a:ext cx="19548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3487680" y="1704960"/>
                  <a:ext cx="10332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111560" y="1704960"/>
                  <a:ext cx="54144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815000" y="1704960"/>
                  <a:ext cx="1983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216400" y="1704960"/>
                  <a:ext cx="12099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76840" y="1704960"/>
                  <a:ext cx="185760" cy="136440"/>
                </a:xfrm>
                <a:prstGeom prst="rect">
                  <a:avLst/>
                </a:pr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367000" y="241920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971800" y="2311560"/>
                <a:ext cx="3697200" cy="136440"/>
                <a:chOff x="2971800" y="2311560"/>
                <a:chExt cx="3697200" cy="136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971800" y="2311560"/>
                  <a:ext cx="2462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487680" y="2311560"/>
                  <a:ext cx="2509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98960" y="2311560"/>
                  <a:ext cx="7477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440320" y="2311560"/>
                  <a:ext cx="8568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823000" y="2311560"/>
                  <a:ext cx="1173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29360" y="2311560"/>
                  <a:ext cx="5396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2552760" y="2311560"/>
                <a:ext cx="4211640" cy="136440"/>
                <a:chOff x="2552760" y="2311560"/>
                <a:chExt cx="4211640" cy="13644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2552760" y="2311560"/>
                  <a:ext cx="88740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683160" y="2311560"/>
                  <a:ext cx="1951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489480" y="2311560"/>
                  <a:ext cx="1029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113360" y="2311560"/>
                  <a:ext cx="53964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816440" y="2311560"/>
                  <a:ext cx="19692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218200" y="2311560"/>
                  <a:ext cx="120960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578640" y="2311560"/>
                  <a:ext cx="185760" cy="136440"/>
                </a:xfrm>
                <a:prstGeom prst="rect">
                  <a:avLst/>
                </a:prstGeom>
                <a:solidFill>
                  <a:srgbClr val="04ab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>
                <a:off x="2365200" y="1616040"/>
                <a:ext cx="4496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365200" y="1812960"/>
                <a:ext cx="4496040" cy="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67000" y="2419200"/>
                <a:ext cx="449424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65320" y="380520"/>
            <a:ext cx="2971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 Math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6F83-02A1-465C-A273-6FC2838F224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associate a set of names with collections of associated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olkit supports the use of associative arrays through the use of “structures” (associative arrays/hashes) called symbol tab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s associated with a name are exclusively character, exclusively integer or exclusively double prec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 to manipulate a symbol table have the form SY***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where &lt;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 is the data type of the values (C, D, or I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/Pop a value onto the list of values associated with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/Sort values associated with a symb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mbols.re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3854160" y="380520"/>
            <a:ext cx="2995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ymbol Tab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05D44-6EA8-4C71-9081-A6DD0791F54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65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are arrays that “know” how many addresses are available for use and how many are currently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ines that use cells typically have simpler interfaces than routines that use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Precision, Integer, and Character string cell types supported in the Toolk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lls.re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mo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are cells that contain no duplicate elements and whose elements are ordered in ascending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Sets can be: intersected, unioned, differenced, differenced symmetrically (union - intersec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ts.re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 mo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897360" y="380520"/>
            <a:ext cx="29052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ts and Cel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214E-94F5-4060-B861-D343D80664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673280" y="4998960"/>
            <a:ext cx="59421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ourier New"/>
              </a:rPr>
              <a:t>CALL UNIONC ( CASSINI, MGS,      PROJE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Courier New"/>
              </a:rPr>
              <a:t>CALL DIFFC  ( NAIF,    PROJECTS, OTHER  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762120" y="1627920"/>
            <a:ext cx="7792920" cy="2863440"/>
            <a:chOff x="762120" y="1627920"/>
            <a:chExt cx="7792920" cy="2863440"/>
          </a:xfrm>
        </p:grpSpPr>
        <p:grpSp>
          <p:nvGrpSpPr>
            <p:cNvPr id="421" name=""/>
            <p:cNvGrpSpPr/>
            <p:nvPr/>
          </p:nvGrpSpPr>
          <p:grpSpPr>
            <a:xfrm>
              <a:off x="2721960" y="2184480"/>
              <a:ext cx="1019880" cy="1844640"/>
              <a:chOff x="2721960" y="2184480"/>
              <a:chExt cx="1019880" cy="1844640"/>
            </a:xfrm>
          </p:grpSpPr>
          <p:sp>
            <p:nvSpPr>
              <p:cNvPr id="422" name=""/>
              <p:cNvSpPr/>
              <p:nvPr/>
            </p:nvSpPr>
            <p:spPr>
              <a:xfrm>
                <a:off x="2721960" y="2202120"/>
                <a:ext cx="928080" cy="15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assi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Bor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hu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70200" y="2184480"/>
                <a:ext cx="971640" cy="1844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70200" y="2184480"/>
                <a:ext cx="97164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4181400" y="2487600"/>
              <a:ext cx="206208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M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Bor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1d58"/>
                  </a:solidFill>
                  <a:latin typeface="Arial"/>
                </a:rPr>
                <a:t>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62120" y="1903680"/>
              <a:ext cx="971280" cy="2406600"/>
              <a:chOff x="762120" y="1903680"/>
              <a:chExt cx="971280" cy="2406600"/>
            </a:xfrm>
          </p:grpSpPr>
          <p:sp>
            <p:nvSpPr>
              <p:cNvPr id="427" name=""/>
              <p:cNvSpPr/>
              <p:nvPr/>
            </p:nvSpPr>
            <p:spPr>
              <a:xfrm>
                <a:off x="830520" y="1974960"/>
                <a:ext cx="827640" cy="18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I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Bor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Chuc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N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L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120" y="1903680"/>
                <a:ext cx="971280" cy="240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120" y="1903680"/>
                <a:ext cx="97128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2462400" y="1627920"/>
              <a:ext cx="608760" cy="286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695" y="20789"/>
                  </a:moveTo>
                  <a:arcTo wR="10800" hR="10800" stAng="6740502" swAng="7600249"/>
                  <a:lnTo>
                    <a:pt x="10800" y="10800"/>
                  </a:lnTo>
                  <a:close/>
                </a:path>
                <a:path fill="none" w="21600" h="21600">
                  <a:moveTo>
                    <a:pt x="6695" y="20789"/>
                  </a:moveTo>
                  <a:arcTo wR="10800" hR="10800" stAng="6740502" swAng="7600249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40800" y="1628640"/>
              <a:ext cx="608760" cy="286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311" y="1512"/>
                  </a:moveTo>
                  <a:arcTo wR="10800" hR="10800" stAng="-3559177" swAng="76735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6311" y="1512"/>
                  </a:moveTo>
                  <a:arcTo wR="10800" hR="10800" stAng="-3559177" swAng="767359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28880" y="3097440"/>
              <a:ext cx="241200" cy="19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3863880" y="2986200"/>
              <a:ext cx="241560" cy="241200"/>
              <a:chOff x="3863880" y="2986200"/>
              <a:chExt cx="241560" cy="241200"/>
            </a:xfrm>
          </p:grpSpPr>
          <p:sp>
            <p:nvSpPr>
              <p:cNvPr id="434" name=""/>
              <p:cNvSpPr/>
              <p:nvPr/>
            </p:nvSpPr>
            <p:spPr>
              <a:xfrm>
                <a:off x="3863880" y="3097440"/>
                <a:ext cx="24156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975120" y="2986200"/>
                <a:ext cx="19080" cy="241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7583400" y="2468520"/>
              <a:ext cx="971640" cy="1276560"/>
              <a:chOff x="7583400" y="2468520"/>
              <a:chExt cx="971640" cy="1276560"/>
            </a:xfrm>
          </p:grpSpPr>
          <p:sp>
            <p:nvSpPr>
              <p:cNvPr id="437" name=""/>
              <p:cNvSpPr/>
              <p:nvPr/>
            </p:nvSpPr>
            <p:spPr>
              <a:xfrm>
                <a:off x="7651440" y="2540160"/>
                <a:ext cx="75312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Oth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81d58"/>
                    </a:solidFill>
                    <a:latin typeface="Arial"/>
                  </a:rPr>
                  <a:t>Le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583400" y="2468520"/>
                <a:ext cx="971640" cy="1276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83400" y="2468520"/>
                <a:ext cx="971640" cy="416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6970680" y="3060720"/>
              <a:ext cx="241200" cy="92160"/>
              <a:chOff x="6970680" y="3060720"/>
              <a:chExt cx="241200" cy="9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970680" y="3060720"/>
                <a:ext cx="24120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970680" y="3133800"/>
                <a:ext cx="24120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226040" y="2486160"/>
              <a:ext cx="2033640" cy="1297080"/>
              <a:chOff x="4226040" y="2486160"/>
              <a:chExt cx="2033640" cy="1297080"/>
            </a:xfrm>
          </p:grpSpPr>
          <p:sp>
            <p:nvSpPr>
              <p:cNvPr id="444" name=""/>
              <p:cNvSpPr/>
              <p:nvPr/>
            </p:nvSpPr>
            <p:spPr>
              <a:xfrm>
                <a:off x="4226040" y="2486160"/>
                <a:ext cx="2033640" cy="41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26040" y="2486160"/>
                <a:ext cx="2033640" cy="1297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03240" y="380520"/>
            <a:ext cx="349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ts and Cell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2A5B-E249-43CC-B88C-0FFDB00779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5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-specific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 I/O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Operations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ing Manipulation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, Sorting and Other Array Manipul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(also referred to as schedul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ive Arr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s and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 and Unit Conver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ical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38300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35080" y="6171480"/>
            <a:ext cx="619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se routines provide capabilities similar to some of Perl’s text manipulation fun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FAEC-3FFA-4F37-8D9A-9DE141C10DD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ants are implemented in the Toolkit as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 the changing of a constant by NAIF requires only relinking by the Toolkit user–not recompi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s should NOT change constant functions in the Toolk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PMIN, DPMAX, INTMIN, INTMA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, HALFPI, TWOPI, RPD (radians/degree), DPR(degrees/radia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Const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GHT, SPD, TYEAR, JYE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c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2000,J1950, J1900, J2100, B1900, B195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Conversion of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2249640" y="380520"/>
            <a:ext cx="62006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stants and Unit Convers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DDD64-78C7-462E-A091-DDA69FBDF8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routines are provided to assist with numeric computations and comparis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be root: DCB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ic Functions: DACOSH, DATAN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nomial Interpolation and Evaluation: LGRESP, LGRINT, LGRIND, POLYDS, HRMESP, HRM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byshev Polynomial Evaluation: CHBDER, CHBVAL, CHB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al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or opposite sign (Boolean): SAMSGN, OPPS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e a value into a range (bracket): BRCKTD, BRCKT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arity of integers (Boolean): ODD, EVE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uncate conditionally: EX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est common divisor: GC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ve remainder: RMAINI, RMAI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3279240" y="380520"/>
            <a:ext cx="4146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al Func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9C14-6474-4759-A72E-59572B677323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67040" y="380520"/>
            <a:ext cx="4983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SPICE and Icy Vers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f the routines described in this tutorial have a CSPICE API equivalent (a CSPICE “wrapp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s ar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unit util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bol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erical functions and decisions (other than bracke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ithmetic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/O support (other than rdtext_c and prompt_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ay operations (other than searching and sortin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all routines have an Icy or Mice equivalent at pre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is slowly adding more “wrappers” to the CSPICE library and interface routines to Icy and M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C013F-E158-44FC-9F0F-8CE727C48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4132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files provide a simple, human readable mechanism for sharing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olkit contains several utility routines to assist with the creation and parsing of text, and with the reading and writing of text fi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67080" y="3200400"/>
            <a:ext cx="467208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TEXT: read a line of text from a text fi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STDO: write a line of text to standard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PT: display a prompt, wait for and return user’s respon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XTOPN: open a new text file returning a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LN: write a line of text to the file attached to a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title"/>
          </p:nvPr>
        </p:nvSpPr>
        <p:spPr>
          <a:xfrm>
            <a:off x="4541760" y="380520"/>
            <a:ext cx="1617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I/O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267080"/>
            <a:ext cx="1828800" cy="723960"/>
          </a:xfrm>
          <a:custGeom>
            <a:avLst/>
            <a:gdLst/>
            <a:ahLst/>
            <a:rect l="l" t="t" r="r" b="b"/>
            <a:pathLst>
              <a:path w="1152" h="456">
                <a:moveTo>
                  <a:pt x="0" y="144"/>
                </a:moveTo>
                <a:cubicBezTo>
                  <a:pt x="168" y="300"/>
                  <a:pt x="336" y="456"/>
                  <a:pt x="528" y="432"/>
                </a:cubicBezTo>
                <a:cubicBezTo>
                  <a:pt x="720" y="408"/>
                  <a:pt x="936" y="204"/>
                  <a:pt x="1152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E6AA-7FE9-455C-8641-463A488387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17880" y="2587680"/>
            <a:ext cx="5180040" cy="3639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4960" y="1650960"/>
            <a:ext cx="5608800" cy="622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" y="1795320"/>
            <a:ext cx="4662000" cy="32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PROMPT ( ‘Filename? ’, NAM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TOSTDO ( ‘You specified the file: ‘// NAM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Now that we have the filename, 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and process its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DTEXT ( NAME, LINE,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 WHILE ( .NOT.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ess the line jus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RDTEXT ( NAME, LINE, EOF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013280" y="2666880"/>
            <a:ext cx="4954680" cy="3435480"/>
            <a:chOff x="4013280" y="2666880"/>
            <a:chExt cx="4954680" cy="3435480"/>
          </a:xfrm>
        </p:grpSpPr>
        <p:grpSp>
          <p:nvGrpSpPr>
            <p:cNvPr id="130" name=""/>
            <p:cNvGrpSpPr/>
            <p:nvPr/>
          </p:nvGrpSpPr>
          <p:grpSpPr>
            <a:xfrm>
              <a:off x="4013280" y="2666880"/>
              <a:ext cx="4954680" cy="3435480"/>
              <a:chOff x="4013280" y="2666880"/>
              <a:chExt cx="4954680" cy="343548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4013280" y="2666880"/>
                <a:ext cx="4954680" cy="3435480"/>
                <a:chOff x="4013280" y="2666880"/>
                <a:chExt cx="4954680" cy="3435480"/>
              </a:xfrm>
            </p:grpSpPr>
            <p:grpSp>
              <p:nvGrpSpPr>
                <p:cNvPr id="132" name=""/>
                <p:cNvGrpSpPr/>
                <p:nvPr/>
              </p:nvGrpSpPr>
              <p:grpSpPr>
                <a:xfrm>
                  <a:off x="4013280" y="2666880"/>
                  <a:ext cx="4954680" cy="3435480"/>
                  <a:chOff x="4013280" y="2666880"/>
                  <a:chExt cx="4954680" cy="343548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4013280" y="2666880"/>
                    <a:ext cx="4954680" cy="3435480"/>
                    <a:chOff x="4013280" y="2666880"/>
                    <a:chExt cx="4954680" cy="34354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4013280" y="2876400"/>
                      <a:ext cx="4954680" cy="3224520"/>
                    </a:xfrm>
                    <a:prstGeom prst="rect">
                      <a:avLst/>
                    </a:prstGeom>
                    <a:solidFill>
                      <a:srgbClr val="6f6f6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4238640" y="2800440"/>
                      <a:ext cx="4729320" cy="33019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013280" y="2666880"/>
                      <a:ext cx="4954680" cy="2080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013280" y="6046920"/>
                      <a:ext cx="4954680" cy="55440"/>
                    </a:xfrm>
                    <a:prstGeom prst="rect">
                      <a:avLst/>
                    </a:prstGeom>
                    <a:solidFill>
                      <a:srgbClr val="ababab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238640" y="6046920"/>
                      <a:ext cx="4524480" cy="55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030560" y="2689200"/>
                      <a:ext cx="4918320" cy="163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0" name=""/>
                  <p:cNvSpPr/>
                  <p:nvPr/>
                </p:nvSpPr>
                <p:spPr>
                  <a:xfrm>
                    <a:off x="5997600" y="2687760"/>
                    <a:ext cx="892080" cy="16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2560" rIns="52560" tIns="27000" bIns="27000" anchor="t">
                    <a:sp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289080"/>
                        <a:tab algn="l" pos="577800"/>
                        <a:tab algn="l" pos="866880"/>
                        <a:tab algn="l" pos="1155600"/>
                        <a:tab algn="l" pos="1444680"/>
                        <a:tab algn="l" pos="1733400"/>
                        <a:tab algn="l" pos="2022480"/>
                        <a:tab algn="l" pos="2311560"/>
                        <a:tab algn="l" pos="2600280"/>
                        <a:tab algn="l" pos="2889360"/>
                        <a:tab algn="l" pos="3178080"/>
                        <a:tab algn="l" pos="3467160"/>
                        <a:tab algn="l" pos="3755880"/>
                        <a:tab algn="l" pos="4044960"/>
                        <a:tab algn="l" pos="4334040"/>
                        <a:tab algn="l" pos="4622760"/>
                        <a:tab algn="l" pos="4911840"/>
                        <a:tab algn="l" pos="5200560"/>
                        <a:tab algn="l" pos="5489640"/>
                        <a:tab algn="l" pos="5778360"/>
                      </a:tabLst>
                    </a:pPr>
                    <a:r>
                      <a:rPr b="0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Terminal Window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4024440" y="3900600"/>
                  <a:ext cx="171360" cy="1538280"/>
                  <a:chOff x="4024440" y="3900600"/>
                  <a:chExt cx="171360" cy="153828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4024440" y="3900600"/>
                    <a:ext cx="171360" cy="1538280"/>
                    <a:chOff x="4024440" y="3900600"/>
                    <a:chExt cx="171360" cy="153828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037040" y="3908520"/>
                      <a:ext cx="156960" cy="151740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4" name=""/>
                    <p:cNvGrpSpPr/>
                    <p:nvPr/>
                  </p:nvGrpSpPr>
                  <p:grpSpPr>
                    <a:xfrm>
                      <a:off x="4024440" y="3900600"/>
                      <a:ext cx="171360" cy="1538280"/>
                      <a:chOff x="4024440" y="3900600"/>
                      <a:chExt cx="171360" cy="1538280"/>
                    </a:xfrm>
                  </p:grpSpPr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4024440" y="3900600"/>
                        <a:ext cx="0" cy="153360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4027320" y="5438880"/>
                        <a:ext cx="16848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111560" y="4654440"/>
                    <a:ext cx="22320" cy="27000"/>
                    <a:chOff x="4111560" y="4654440"/>
                    <a:chExt cx="22320" cy="2700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111560" y="4654440"/>
                      <a:ext cx="2232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111560" y="4656240"/>
                      <a:ext cx="17640" cy="20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4024440" y="5584680"/>
                  <a:ext cx="172800" cy="427320"/>
                  <a:chOff x="4024440" y="5584680"/>
                  <a:chExt cx="172800" cy="42732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4024440" y="5815080"/>
                    <a:ext cx="172800" cy="196920"/>
                    <a:chOff x="4024440" y="5815080"/>
                    <a:chExt cx="172800" cy="19692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4037040" y="5818320"/>
                      <a:ext cx="156960" cy="18072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4024440" y="5815080"/>
                      <a:ext cx="172800" cy="196920"/>
                      <a:chOff x="4024440" y="5815080"/>
                      <a:chExt cx="172800" cy="196920"/>
                    </a:xfrm>
                  </p:grpSpPr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4024440" y="581508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4027320" y="6012000"/>
                        <a:ext cx="169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4024440" y="5584680"/>
                    <a:ext cx="172800" cy="198720"/>
                    <a:chOff x="4024440" y="5584680"/>
                    <a:chExt cx="172800" cy="19872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4037040" y="5589720"/>
                      <a:ext cx="156960" cy="180720"/>
                    </a:xfrm>
                    <a:prstGeom prst="rect">
                      <a:avLst/>
                    </a:prstGeom>
                    <a:solidFill>
                      <a:srgbClr val="919191"/>
                    </a:solidFill>
                    <a:ln w="25560">
                      <a:solidFill>
                        <a:srgbClr val="081d5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4024440" y="5584680"/>
                      <a:ext cx="172800" cy="198720"/>
                      <a:chOff x="4024440" y="5584680"/>
                      <a:chExt cx="172800" cy="198720"/>
                    </a:xfrm>
                  </p:grpSpPr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4024440" y="5584680"/>
                        <a:ext cx="0" cy="19224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4027320" y="5783400"/>
                        <a:ext cx="1699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1" name=""/>
                  <p:cNvSpPr/>
                  <p:nvPr/>
                </p:nvSpPr>
                <p:spPr>
                  <a:xfrm>
                    <a:off x="4087800" y="5864400"/>
                    <a:ext cx="66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9">
                        <a:moveTo>
                          <a:pt x="19" y="0"/>
                        </a:moveTo>
                        <a:lnTo>
                          <a:pt x="0" y="58"/>
                        </a:lnTo>
                        <a:lnTo>
                          <a:pt x="41" y="58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4086360" y="5634000"/>
                    <a:ext cx="66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9">
                        <a:moveTo>
                          <a:pt x="20" y="58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20" y="58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3" name=""/>
              <p:cNvGrpSpPr/>
              <p:nvPr/>
            </p:nvGrpSpPr>
            <p:grpSpPr>
              <a:xfrm>
                <a:off x="4041720" y="2701800"/>
                <a:ext cx="111240" cy="123840"/>
                <a:chOff x="4041720" y="2701800"/>
                <a:chExt cx="111240" cy="12384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048200" y="2701800"/>
                  <a:ext cx="104760" cy="117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"/>
                <p:cNvGrpSpPr/>
                <p:nvPr/>
              </p:nvGrpSpPr>
              <p:grpSpPr>
                <a:xfrm>
                  <a:off x="4041720" y="2703600"/>
                  <a:ext cx="106560" cy="122040"/>
                  <a:chOff x="4041720" y="2703600"/>
                  <a:chExt cx="106560" cy="12204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4041720" y="2703600"/>
                    <a:ext cx="0" cy="1173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4049640" y="2825640"/>
                    <a:ext cx="9864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4073400" y="2728800"/>
                  <a:ext cx="54000" cy="68400"/>
                  <a:chOff x="4073400" y="2728800"/>
                  <a:chExt cx="54000" cy="684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4073400" y="2728800"/>
                    <a:ext cx="54000" cy="684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4073400" y="2728800"/>
                    <a:ext cx="5400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8813880" y="2708280"/>
                <a:ext cx="109440" cy="123840"/>
                <a:chOff x="8813880" y="2708280"/>
                <a:chExt cx="109440" cy="12384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8813880" y="2708280"/>
                  <a:ext cx="109440" cy="123840"/>
                  <a:chOff x="8813880" y="2708280"/>
                  <a:chExt cx="109440" cy="1238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8820000" y="2708280"/>
                    <a:ext cx="103320" cy="11736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8813880" y="2708280"/>
                    <a:ext cx="109440" cy="123840"/>
                    <a:chOff x="8813880" y="2708280"/>
                    <a:chExt cx="109440" cy="123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8813880" y="2708280"/>
                      <a:ext cx="0" cy="11736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8821800" y="2832120"/>
                      <a:ext cx="1015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8836200" y="2708280"/>
                  <a:ext cx="71280" cy="114480"/>
                  <a:chOff x="8836200" y="2708280"/>
                  <a:chExt cx="71280" cy="1144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8836200" y="2722680"/>
                    <a:ext cx="7128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 flipV="1">
                    <a:off x="8836200" y="2708280"/>
                    <a:ext cx="7128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0" name=""/>
            <p:cNvSpPr/>
            <p:nvPr/>
          </p:nvSpPr>
          <p:spPr>
            <a:xfrm>
              <a:off x="4269960" y="2941560"/>
              <a:ext cx="2772720" cy="3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7000" bIns="270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89080"/>
                  <a:tab algn="l" pos="577800"/>
                  <a:tab algn="l" pos="866880"/>
                  <a:tab algn="l" pos="1155600"/>
                  <a:tab algn="l" pos="1444680"/>
                  <a:tab algn="l" pos="1733400"/>
                  <a:tab algn="l" pos="2022480"/>
                  <a:tab algn="l" pos="2311560"/>
                  <a:tab algn="l" pos="2600280"/>
                  <a:tab algn="l" pos="2889360"/>
                  <a:tab algn="l" pos="3178080"/>
                  <a:tab algn="l" pos="3467160"/>
                  <a:tab algn="l" pos="3755880"/>
                  <a:tab algn="l" pos="4044960"/>
                  <a:tab algn="l" pos="4334040"/>
                  <a:tab algn="l" pos="4622760"/>
                  <a:tab algn="l" pos="4911840"/>
                  <a:tab algn="l" pos="5200560"/>
                  <a:tab algn="l" pos="5489640"/>
                  <a:tab algn="l" pos="5778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ilename?</a:t>
              </a:r>
              <a:r>
                <a:rPr b="0" lang="en-US" sz="1000" spc="-1" strike="noStrike">
                  <a:solidFill>
                    <a:srgbClr val="081d58"/>
                  </a:solidFill>
                  <a:latin typeface="Courier New"/>
                </a:rPr>
                <a:t> </a:t>
              </a:r>
              <a:r>
                <a:rPr b="1" lang="en-US" sz="1000" spc="-1" strike="noStrike">
                  <a:solidFill>
                    <a:srgbClr val="fc0128"/>
                  </a:solidFill>
                  <a:latin typeface="Courier New"/>
                </a:rPr>
                <a:t>mydata.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89080"/>
                  <a:tab algn="l" pos="577800"/>
                  <a:tab algn="l" pos="866880"/>
                  <a:tab algn="l" pos="1155600"/>
                  <a:tab algn="l" pos="1444680"/>
                  <a:tab algn="l" pos="1733400"/>
                  <a:tab algn="l" pos="2022480"/>
                  <a:tab algn="l" pos="2311560"/>
                  <a:tab algn="l" pos="2600280"/>
                  <a:tab algn="l" pos="2889360"/>
                  <a:tab algn="l" pos="3178080"/>
                  <a:tab algn="l" pos="3467160"/>
                  <a:tab algn="l" pos="3755880"/>
                  <a:tab algn="l" pos="4044960"/>
                  <a:tab algn="l" pos="4334040"/>
                  <a:tab algn="l" pos="4622760"/>
                  <a:tab algn="l" pos="4911840"/>
                  <a:tab algn="l" pos="5200560"/>
                  <a:tab algn="l" pos="5489640"/>
                  <a:tab algn="l" pos="577836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You specified the file: mydata.f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065560" y="1973160"/>
            <a:ext cx="201600" cy="900360"/>
          </a:xfrm>
          <a:prstGeom prst="line">
            <a:avLst/>
          </a:prstGeom>
          <a:ln w="507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48000" y="380520"/>
            <a:ext cx="220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ext I/O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4A8F9-809B-4AF2-AF23-8C5E6EB958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al unit management - applicable to FORTR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LUN:  (reserve logical unit) prohibits SPICE systems from using specified un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LUN:  (free logical unit) places “reserved” units back into service for 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LUN:  (get logical unit) locates an unused, unreserved logic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whether or not a file ex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oolean): EXISTS 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ing an existing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FIL (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le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7000" y="380520"/>
            <a:ext cx="3085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AB12-A508-4BBC-88D6-39CEFA5C50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ing apart a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RSE: parses a list of items delimited by a single charac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RSM: parses a list of items separated by multiple delimi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WD: returns the next word in a given character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HWD: returns the nth word in a string and the location of the word in the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XTRCT: extracts a substring starting with a keyword</a:t>
            </a:r>
            <a:r>
              <a:rPr b="1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ing unwanted parts of a st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PRSS: compresses a character string by removing instances of more than N consecutive occurrences of a specified charac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TRIP: removes a set ASCII characters from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SUB: removes a substring from a st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96800" y="380520"/>
            <a:ext cx="6110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EF97-C457-495B-A5EE-CD7E83B7DE9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ng substr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 the location of the leftmost or rightmost non-blank charac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TRIM, RTRI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e substring or member of specified character set searching forward or backwa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, CPOS, POSR, CPOSR, NCPOS, NCPOS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tern ma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I: matches a string against a wildcard template, case insensi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W: matches a string against a wildcard template, case sensi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ing numeric and tim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PARSD, NPARSI, PRSDP, PRSINT, DXTRCT, TPARSE, TPART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vy duty par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96800" y="380520"/>
            <a:ext cx="6110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FCFB-1D7C-4164-A528-9D28DEB330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61920" y="1833480"/>
            <a:ext cx="2467440" cy="2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200" spc="-1" strike="noStrike">
                <a:solidFill>
                  <a:srgbClr val="081d58"/>
                </a:solidFill>
                <a:latin typeface="Courier New"/>
              </a:rPr>
              <a:t>a dog, a cat, and a cow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6600" y="1235160"/>
            <a:ext cx="1773000" cy="1288800"/>
          </a:xfrm>
          <a:prstGeom prst="rightArrow">
            <a:avLst>
              <a:gd name="adj1" fmla="val 50000"/>
              <a:gd name="adj2" fmla="val 69364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40360" y="1801800"/>
            <a:ext cx="9129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lpar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31080" y="1500120"/>
            <a:ext cx="1482480" cy="854640"/>
            <a:chOff x="6031080" y="1500120"/>
            <a:chExt cx="1482480" cy="854640"/>
          </a:xfrm>
        </p:grpSpPr>
        <p:sp>
          <p:nvSpPr>
            <p:cNvPr id="193" name=""/>
            <p:cNvSpPr/>
            <p:nvPr/>
          </p:nvSpPr>
          <p:spPr>
            <a:xfrm>
              <a:off x="6031080" y="1500120"/>
              <a:ext cx="118728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 dog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 cat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and a cow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35760" y="153684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35760" y="178452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35760" y="2048040"/>
              <a:ext cx="147780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6160" y="1758960"/>
            <a:ext cx="2543040" cy="28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240" y="3441600"/>
            <a:ext cx="310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Remove   extra  spac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2880" y="2927520"/>
            <a:ext cx="1719360" cy="1288800"/>
          </a:xfrm>
          <a:prstGeom prst="rightArrow">
            <a:avLst>
              <a:gd name="adj1" fmla="val 50000"/>
              <a:gd name="adj2" fmla="val 6726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21200" y="3441600"/>
            <a:ext cx="1141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lvl="2" marL="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cmpr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8320" y="3425760"/>
            <a:ext cx="3084840" cy="32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3403440"/>
            <a:ext cx="274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‘</a:t>
            </a: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Remove extra spac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05640" y="3394080"/>
            <a:ext cx="2678040" cy="31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94120" y="4737240"/>
            <a:ext cx="1719360" cy="1288800"/>
          </a:xfrm>
          <a:prstGeom prst="rightArrow">
            <a:avLst>
              <a:gd name="adj1" fmla="val 50000"/>
              <a:gd name="adj2" fmla="val 6726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78280" y="5178600"/>
            <a:ext cx="16444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1d58"/>
                </a:solidFill>
                <a:latin typeface="Courier New"/>
              </a:rPr>
              <a:t>matchi( *g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97360" y="4951440"/>
            <a:ext cx="3433320" cy="800640"/>
            <a:chOff x="297360" y="4951440"/>
            <a:chExt cx="3433320" cy="800640"/>
          </a:xfrm>
        </p:grpSpPr>
        <p:sp>
          <p:nvSpPr>
            <p:cNvPr id="207" name=""/>
            <p:cNvSpPr/>
            <p:nvPr/>
          </p:nvSpPr>
          <p:spPr>
            <a:xfrm>
              <a:off x="297360" y="4951440"/>
              <a:ext cx="310752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Green eggs and ham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the cat in the hat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how the grinch stole Christmas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301680" y="4975200"/>
              <a:ext cx="3429000" cy="752400"/>
              <a:chOff x="301680" y="4975200"/>
              <a:chExt cx="3429000" cy="752400"/>
            </a:xfrm>
          </p:grpSpPr>
          <p:sp>
            <p:nvSpPr>
              <p:cNvPr id="209" name=""/>
              <p:cNvSpPr/>
              <p:nvPr/>
            </p:nvSpPr>
            <p:spPr>
              <a:xfrm>
                <a:off x="301680" y="497520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01680" y="522288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01680" y="5486400"/>
                <a:ext cx="3429000" cy="241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5683680" y="5167440"/>
            <a:ext cx="3350880" cy="563400"/>
            <a:chOff x="5683680" y="5167440"/>
            <a:chExt cx="3350880" cy="563400"/>
          </a:xfrm>
        </p:grpSpPr>
        <p:sp>
          <p:nvSpPr>
            <p:cNvPr id="213" name=""/>
            <p:cNvSpPr/>
            <p:nvPr/>
          </p:nvSpPr>
          <p:spPr>
            <a:xfrm>
              <a:off x="5683680" y="5167440"/>
              <a:ext cx="31075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green eggs and ham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‘</a:t>
              </a:r>
              <a:r>
                <a:rPr b="1" lang="en-US" sz="1200" spc="-1" strike="noStrike">
                  <a:solidFill>
                    <a:srgbClr val="081d58"/>
                  </a:solidFill>
                  <a:latin typeface="Courier New"/>
                </a:rPr>
                <a:t>how the grinch stole Christmas’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8000" y="5191200"/>
              <a:ext cx="33465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88000" y="5438880"/>
              <a:ext cx="3346560" cy="241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65280" y="380520"/>
            <a:ext cx="5772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tring Manipulation - Pars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88000" y="2437560"/>
            <a:ext cx="16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plit on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3000" y="6019200"/>
            <a:ext cx="319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tch any string containing a ‘g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ther Useful Func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D665-FDE1-41C0-A909-F80AD41C73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3-11T22:55:54Z</cp:lastPrinted>
  <dcterms:modified xsi:type="dcterms:W3CDTF">2007-10-12T23:34:19Z</dcterms:modified>
  <cp:revision>110</cp:revision>
  <dc:subject/>
  <dc:title>Other Useful Functions</dc:title>
</cp:coreProperties>
</file>