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9480" y="695160"/>
            <a:ext cx="4559040" cy="34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2360" y="695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6880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 04-OCT-2001 (JP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DD18-20EA-4583-9BDE-9ED8C197BD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709C-05B1-4500-B774-3673354E9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E15B-7F05-414C-9E06-DD17DB54D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39FC-D830-453D-936D-475D2D40C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9F3D-0AD2-471B-B971-E2856018F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1287-DD40-40AC-8DBA-1C369223C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F5DE2-F314-4641-B1E7-8A22AB64E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537B-4DA6-45EA-AE89-19452704B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88EB-8DEF-4A0E-8D40-500949669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7105-9114-4AE7-9EE7-6D14C9E8D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1691F-3042-4CE3-A5DF-7C0C47E8C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4F19-2232-42B6-9370-B38B18E34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DBB-2EDA-4FD2-8B2B-3C6F054D9D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88680" y="2428920"/>
            <a:ext cx="6095880" cy="1482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lanetary Constants Kernel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PC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895120" y="4876560"/>
            <a:ext cx="35816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09120" y="1282320"/>
            <a:ext cx="8153640" cy="54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system stores high-accuracy orientation models in binary PCK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 PCKs are implemented using the DAF file architecture (as are SPK fi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 PCKs are not human-read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API routines enable applications to</a:t>
            </a:r>
            <a:r>
              <a:rPr b="1" lang="en-US" sz="16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binary PCKs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oolkit utilities enable reading and writing comments, summarizing, and porting binary PC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 SPK files, binary PCKs support multiple data representations (“data types”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2: Chebyshev polynomials for Euler angles,  angular velocity obtained by differentiation, constant interval leng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3: Separate Chebyshev polynomials for Euler angles and their derivatives, variable interval leng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PCKs are limited to storing orientation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 that require shape data must also load a text PC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 PCKs are available for the Earth and Mo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rientation data provided by these kernels are much more accurate than those provided by generic text PCKs based on the IAU/IAG repor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kernels are the topic of the tutorial on high-accuracy orientation data and associated frames for the Earth and Mo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672000" y="380520"/>
            <a:ext cx="3402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inary PCK Fi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D51E5-ABB8-4DFF-A538-ADB8F6626D8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FURNSH to load PCK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 UNLOAD or KCLEAR to unload th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SXFORM to return a state trans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s 6x6 matrix (attitude and angular velocit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PXFORM to return a position trans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s 3x3 matrix (attitude onl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lder routines TISBOD, TIPBOD, and BODMAT are still supported, but NAIF recommends users not call them directly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43040" y="2546280"/>
            <a:ext cx="61819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XFORM ( FROM, TO, ET, XFORM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xform_c    ( from, to, et, xform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sxform, from, to, et, x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form = cspice_sxform ( from, to, et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89040" y="4532400"/>
            <a:ext cx="52563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PXFORM ( FROM, TO, ET, RMA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xform_c    ( from, to, et, rma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pxform, from, to, et, 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mat = cspice_pxform ( from, to, e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231720" y="380520"/>
            <a:ext cx="4259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erface Routin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29F6E-D4E1-4026-996C-81A71DA2A0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BODVRD or BODVCD to retrieve constants associated with a body. For exampl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se calls retrieve values associated with the variable BODY699_RADII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ariable name is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case-sensi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so the string “RADII” above must be in upper case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also use general kernel pool fetch routines to fetch data assigned to non-standard nam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CPOOL, GDPOOL, GIPO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2000" y="2133720"/>
            <a:ext cx="74725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BODVRD ( 'SATURN',  'RADII', 3     N,  RADII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BODVCD ( 699,       'RADII', 3     N,  RADII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vrd_c    ( "SATURN",  "RADII", 3     &amp;n, radii 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vcd_c    ( 699,       "RADII", 3     &amp;n, radii 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bodvrd, ‘SATURN’, item, 3, ra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spice_bodvcd, 699,      item, 3, ra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dii = cspice_bodvrd ( ‘SATURN’, item, 3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dii = cspice_bodvcd ( 699,      item, 3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228840" y="380520"/>
            <a:ext cx="42595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erface Routin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9032-C4E4-4944-97A4-07D4400881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PCK reference frame specifications are built-in to SP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 add orientation data” (load PCK files) to use these frames. Exampl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U frames: IAU_SATURN, IAU_TITAN, IAU_EARTH, IAU_MOON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RS frames: ITRF9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PCK frames are not built in and must be specified at run time by loading frame kernels, for examp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 fixed frames for asteroids or “newer” natural satelli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the Frames Required Reading for information on creating frame kernels that specify PCK reference fram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nar body-fixed frames: MOON_ME, MOON_P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the tutorial on “high-accuracy orientation data and associated frames for the Earth and Moon” for detai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makes default associations between bodies and built-in PCK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the default PCK frames for the planets are IAU_MERCURY, IAU_VENUS, IAU_EARTH, etc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2836440" y="380520"/>
            <a:ext cx="50958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CK Reference Frame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62485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3315-E7FC-42EA-BEBA-44D3B0551F7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can look up the default PCK frame associated with a body by calling CNMFRM or CIDFR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Icy, only CNMFRM is currently avail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ither is yet available in beta version of M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SPICE routines use the default PCK fram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PT, SUBSOL, ILLUM, SRFXPT, ET2L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icitly used in some dynamic fram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change the default PCK frame associated with a body by loading a frame kernel that assigns a new default frame to that bod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Earth or Moon, you can load a “frame association kernel” provided by NAI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any body, you can load a frame kernel containing the assign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BJECT_&lt;body name&gt;_FRAME = ‘&lt;new default frame name&gt;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BJECT_MOON_FRAME = ‘MOON_ME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high-accuracy work involving the Earth or Moon and any SPICE routines that use the default PCK frames, you normally would override the SPICE default frames by loading frame association kernels</a:t>
            </a:r>
            <a:r>
              <a:rPr b="1" lang="en-US" sz="1800" spc="-1" strike="noStrike">
                <a:solidFill>
                  <a:srgbClr val="000000"/>
                </a:solidFill>
                <a:latin typeface="ヒラギノ角ゴ Pro W3"/>
              </a:rPr>
              <a:t>_x0013_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 the tutorial on “high-accuracy orientation data and associated frames for the Earth and Moon” for detail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782440" y="380520"/>
            <a:ext cx="5208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CK Reference Fram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AC37-31E1-40B9-8887-3179F1C83079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52480" y="2133720"/>
            <a:ext cx="5708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P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P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AU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ary P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 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K Reference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4040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2A266-C26E-49D6-8F21-B992867635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_constants kernel (PCK or PcK) is logically a part of the “planet kernel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PCK data consist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entation (also known as “rotation”) models for extended, natural solar system bodies:  sun, planets, natural satellites, a few asteroi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of the pole and prime meri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xis directions of a body-fixed, body-centered reference fram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n r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ysical and cartographic consta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s of radii for triaxial shape mod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items could be included, such 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me meridian offset from the principal ax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etic dipole lo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vity parameters:  GM, J2, higher order gravity field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ng model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K data files are called “PCK kernels,” “PCKs” or “PCK file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CK subsystem supports text and binary PCK file forma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PCKs may contain orientation, shape, and other cartographic or physical dat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ary PCKs are used for high-accuracy orientation data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ary PCKs are available only for the earth and the mo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394160" y="380520"/>
            <a:ext cx="193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2DA9-8942-47F8-A155-B03FE4FE22D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PCKs using FURNS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entation data from a binary PCK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way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ersedes orientation data (for the same object) obtained from a text PCK, no matter the order in which the kernels are loa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K orientation data are usually accessed via Frame system or SPK c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 Get the IAU_SATURN body-fixed reference frame to J2000 position or state transformation matrix at ET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PXFORM ( ‘IAU_SATURN’, ‘J2000’, ET, RMAT  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SXFORM ( ‘IAU_SATURN’, ‘J2000’, ET, XFORM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 Get state of Saturn relative to Cassini in the IAU_Saturn body-fixed reference fram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SPKEZR ( ‘SATURN’, ET, ‘IAU_SATURN’, ‘LT+S’, CASSINI, STATE, LT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 Get state of Cassini relative to the DSN station DSS-13 in the J2000 inertial reference fram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L SPKEZR ( ‘CASSINI, ET, ‘J2000’, ‘LT+S’, ‘DSS-13’, STATE, LT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Earth PCK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mus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e loaded in order for this call to work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 though the specified reference frame is iner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call, in the course of its work, converts the position of the DSN station relative to the Earth’s center from an Earth-fixed, earth-centered frame to the J200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to PCK shape and other data is discussed in the section titled “Interface Routin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142880" y="380520"/>
            <a:ext cx="2452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PCK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E94A-5F0B-431A-ACE6-D1964987B3F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PCK files may contain orientation, shape and other data associated with natural solar system bod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creates and distributes “generic” text PCK files based on IAU/IAG reports, published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CAR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PCKs contain orientation and shape data provided by the repor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PCK software is designed to use these data to compute orientation of body-fixed fram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provides a “masses” PCK containing GM values for the Sun and planetary sys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s from this file may be used with SPICE osculating element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PCKs are sometimes produced by NASA flight projects and others; not only by NAI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580920" y="380520"/>
            <a:ext cx="35593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PCK File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0F76-81E2-4CE2-A1F3-CC4112BA43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PIC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ex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ernel mechanism is used to implement generic PCK fi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may easily visually inspect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may (carefully!) modify text PCKs with a text edi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or comments may be added, deleted, or chang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s should be added to explain chang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variables contain the mathematical terms  appearing in rotation or shape mod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Y699_RADII   = ( 60268   60268  54364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DY699_POLE_RA = ( 40.58  -0.036     0.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user may include additional kernel variables to change the base frame or reference epo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variable names ar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se-sensi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IF uses only upper case for variable names; we suggest you do the sa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580920" y="380520"/>
            <a:ext cx="35593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PCK File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272B5-5614-4CA1-B19C-3999F2A014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84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shape models use data from the IAU/IAG (formerly IAU/IAG/COSPAR) Working Group Report, as published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CAR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est full report used by NAIF was issued in 2000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AU rotation models are provid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sun and plane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AU models use low-degree (typically linear) polynomials to represent RA and DEC of the pole  (body-fixed +Z-axis) as a function of ti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ime meridian is also represented by a low-degree polynomi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gonometric polynomial terms are supported by SPIC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are rarely used in IAU models for planet orient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natural satellit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trigonometric polynomial terms are used to more accurately represent precession and n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ew satellites exhibit chaotic rotation and so are not model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ome major asteroids (e.g. Ida, Eros, Gaspra, Vest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017880" y="380520"/>
            <a:ext cx="4687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AU Rotation Model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F02D7-6C55-4229-AA87-9E55091F86E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AU body-fixed frames are planetocentr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-axis is aligned with +/- spin axis.  The positive Z-axis points toward the north side of the invariable plane of the solar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variable plane is normal to the solar system’s angular momentum vector. It 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roximately the same as Jupiter’s orbital pla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ghly parallel to the ecliptic pla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axis defines the prime meridian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axis completes the right-handed fra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AU base frame is the IERS-defined International Celestial Reference Frame (ICRF)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reats the ICRF as equivalent to J2000 (EME2000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AU reference epoch is J2000 (2000 Jan 1 12:00:00 TDB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17880" y="380520"/>
            <a:ext cx="4687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AU Rotation Model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D9025-FDCB-4F6E-B532-F54E044D90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AU shape models are nominally triaxial ellipsoi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xial ellipsoid shape models have the for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many bodies, two of the axes (equatorial axes) have the same value (spheroida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some bodies, one or more radii have not been determin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many bodies are in fact modeled by spheroids or oblate spheroids, SPICE deals with the general, triaxial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eption:  SPICE supports geodetic coordinate transformations only for bodies modeled as spheroids or oblate spheroid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GEO and GEOREC are the modules performing these transformation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ception: SPICE supports planetographic coordinate transformations only for bodies modeled as spheroids or oblate spheroid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GRREC, RECPGR, DPGRDR and DRDPGR are the modules supporting these transformation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52480" y="2362320"/>
            <a:ext cx="3480120" cy="916920"/>
            <a:chOff x="1752480" y="2362320"/>
            <a:chExt cx="3480120" cy="916920"/>
          </a:xfrm>
        </p:grpSpPr>
        <p:grpSp>
          <p:nvGrpSpPr>
            <p:cNvPr id="133" name=""/>
            <p:cNvGrpSpPr/>
            <p:nvPr/>
          </p:nvGrpSpPr>
          <p:grpSpPr>
            <a:xfrm>
              <a:off x="1752480" y="2362320"/>
              <a:ext cx="511200" cy="916920"/>
              <a:chOff x="1752480" y="2362320"/>
              <a:chExt cx="511200" cy="91692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2480" y="23623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28195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52480" y="28195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884760" y="2362320"/>
              <a:ext cx="511200" cy="916920"/>
              <a:chOff x="3884760" y="2362320"/>
              <a:chExt cx="511200" cy="916920"/>
            </a:xfrm>
          </p:grpSpPr>
          <p:sp>
            <p:nvSpPr>
              <p:cNvPr id="138" name=""/>
              <p:cNvSpPr/>
              <p:nvPr/>
            </p:nvSpPr>
            <p:spPr>
              <a:xfrm>
                <a:off x="3884760" y="23623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84760" y="28195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84760" y="28195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2817720" y="2362320"/>
              <a:ext cx="511200" cy="916920"/>
              <a:chOff x="2817720" y="2362320"/>
              <a:chExt cx="511200" cy="916920"/>
            </a:xfrm>
          </p:grpSpPr>
          <p:sp>
            <p:nvSpPr>
              <p:cNvPr id="142" name=""/>
              <p:cNvSpPr/>
              <p:nvPr/>
            </p:nvSpPr>
            <p:spPr>
              <a:xfrm>
                <a:off x="2817720" y="23623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17720" y="2819520"/>
                <a:ext cx="51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i="1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17720" y="2819520"/>
                <a:ext cx="380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36340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30080" y="2590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97120" y="2590920"/>
              <a:ext cx="73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525840" y="380520"/>
            <a:ext cx="3672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AU Shape Mod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cK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641C-ECE0-455B-99D7-3609D4CF08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10-04T20:50:11Z</cp:lastPrinted>
  <dcterms:modified xsi:type="dcterms:W3CDTF">2007-09-22T22:34:31Z</dcterms:modified>
  <cp:revision>243</cp:revision>
  <dc:subject/>
  <dc:title>Planetary Constants Kernel PcK</dc:title>
</cp:coreProperties>
</file>