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25AF-66AD-4DAB-8EA7-867811D62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C819-2797-42A9-9BBD-C6E130E25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0885-21E4-4BB0-B5B0-A86188D6A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51E6-C148-4993-8425-4563BBE74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2AB0-2313-40A3-B8ED-2178B84BC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1DB1-15EB-467F-8A70-CDABD39C8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391B-B8DC-438A-AE9A-652733081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E8396-BBCA-41A6-88F2-6E2AAF4AF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BB97-DCFB-4F96-BBA4-031C149C2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0AB9-63AD-4186-A52B-2D8DE0F82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2779-B86A-4D3A-ABC2-F583140CC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0B8D-5229-4D24-A095-E139DC39F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29400"/>
            <a:ext cx="4038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278-4515-4FB4-AA8D-F884293152A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826400" cy="1962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eapseconds and Spacecraft Clock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Kernel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LSK and SCL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371600"/>
            <a:ext cx="7769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alileo spacecraft SCLK time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s of five fields separated by delim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92360"/>
            <a:ext cx="3352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16777214:90:9: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690560" y="2895120"/>
            <a:ext cx="1204920" cy="838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2895120"/>
            <a:ext cx="304920" cy="175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095880" y="2819520"/>
            <a:ext cx="1067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040" y="3735360"/>
            <a:ext cx="31975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: Accounts for clock resets or counter roll-ov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4724280"/>
            <a:ext cx="35035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ignificant Clock Fiel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16777214. Nominally 60 2/3rd second inc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6760" y="312408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st Significant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7. Nominally 1/120th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24120" y="2133720"/>
            <a:ext cx="2569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Field Delimi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362320"/>
            <a:ext cx="0" cy="27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211120" y="2362320"/>
            <a:ext cx="988920" cy="29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7600" y="2440080"/>
            <a:ext cx="1158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26880" y="380520"/>
            <a:ext cx="4665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876920" y="2362320"/>
            <a:ext cx="1434960" cy="290520"/>
            <a:chOff x="4876920" y="2362320"/>
            <a:chExt cx="1434960" cy="290520"/>
          </a:xfrm>
        </p:grpSpPr>
        <p:sp>
          <p:nvSpPr>
            <p:cNvPr id="180" name=""/>
            <p:cNvSpPr/>
            <p:nvPr/>
          </p:nvSpPr>
          <p:spPr>
            <a:xfrm>
              <a:off x="487692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90960" y="2362320"/>
              <a:ext cx="142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2362320"/>
              <a:ext cx="0" cy="29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105520" y="419112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9. Nominally 1/15th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410080" y="2971440"/>
            <a:ext cx="15264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334120"/>
            <a:ext cx="35798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mediate Clock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s from 0 to 90. Nominally 2/3rd of a seco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495680" y="2971800"/>
            <a:ext cx="609840" cy="2362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E5A1-E71C-46FE-B181-BF31879EAC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27160" y="380520"/>
            <a:ext cx="4887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259092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si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334314108.13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7532406.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il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6777214:90:9: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66230496.20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55931592.10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447920"/>
            <a:ext cx="60944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are examples of SCLK strings* from missions using SP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2438280"/>
            <a:ext cx="25905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559627908.0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ner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11542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Odyss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87231994.0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404097219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d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697451990.0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438280"/>
            <a:ext cx="259092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king 1&amp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322336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yager 1&amp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05812:00: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0090979196.297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us 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033264000.508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/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101519975.651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1240" y="5562720"/>
            <a:ext cx="783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clock strings are used as arguments in modules they must be contained in quot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ingle quotes for For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ouble quotes fo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ingle quotes for IDL and 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66ED-CD20-4F3E-BA14-218F57293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24379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pacecraft clock values represent “ticks since spacecraft clock start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me corresponding to tick “0” is mission dependent and does not necessarily relate to launch time. In fact it is often an arbitrary epoch occurring before laun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ick is the smallest increment of time that a spacecraft clock measures.  For example, in the case of the Cassini orbiter this is nominally 1/256th of a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ded SCLK increases continuously independent of leapseconds, clock resets, and counter rollov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371600"/>
            <a:ext cx="7769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presentation of SCLK time in the SPICE system is a double precision encoding of a SCLK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117600" y="380520"/>
            <a:ext cx="4484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ncoded SCLK (Ticks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AAC28-2AC8-4D62-8787-BF9E9EFE488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6104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S2E (SC, SCLKCH, ET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CLK String   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S (SC, ET, SCLKCH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SCLK Str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 (SC, SCLKDP, ET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coded SCLK   E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C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SC, ET, SCLKDP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Continuous Encoded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2T (SC, ET, SCLKDP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T   Discrete Encoded SCL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ENCD(SC, SCLKCH, SCLKDP)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ncode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DECD(SC, SCLKDP, SCLKCH)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ecode SCL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152568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 SCLK times using the following rou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90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CLK Interface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2720" y="5791320"/>
            <a:ext cx="43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e SCE2C (not SCE2T) for C-kernel data ac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289548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505320"/>
            <a:ext cx="152280" cy="759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622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44960" y="3827520"/>
            <a:ext cx="152640" cy="76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86280" y="4118040"/>
            <a:ext cx="152280" cy="759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20FA-5220-42BE-99B8-B0AA0539A928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92280" y="2819160"/>
            <a:ext cx="7772400" cy="32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K - The leapseconds kernel is used in conversions between ephemeris time (ET/TDB) and Coordinated Universal Time (UT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- The spacecraft clock kernel is used in conversions between spacecraft clock time (SCLK) and ephemeris time (ET/TD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’s possible there could be two or more clocks associated with a given spacecraft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525680"/>
            <a:ext cx="838224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 one or two kernel files are needed to perform conversions between supported tim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178000" y="380520"/>
            <a:ext cx="63612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Time Conversion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411D4-8363-4460-BEDA-F41C89DF4AD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ET    UTC and in ET    SCLK conver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ty programs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spkmer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chron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pac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routines:        STR2ET, ET2UTC, TIMOUT, etc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with all SPICE kernels, load it using FURN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updates the LSK when a new leapsecond is announced by the International Earth Rotation Service (IER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test LSK file is always available from the NAIF serv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tes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best one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ouncement of each new LSK is made using the “spice_announce”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naif.jpl.nasa.gov/mailman/listinfo/spice_annou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295280"/>
            <a:ext cx="83059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apseconds kernel contains a tabulation of all the leapseconds that have occurred, plus additional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95360" y="380520"/>
            <a:ext cx="6134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Leapseconds Kernel (LSK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9080" y="2203560"/>
            <a:ext cx="304560" cy="75960"/>
          </a:xfrm>
          <a:prstGeom prst="leftRightArrow">
            <a:avLst>
              <a:gd name="adj1" fmla="val 50000"/>
              <a:gd name="adj2" fmla="val 7981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4760" y="2216160"/>
            <a:ext cx="304560" cy="76320"/>
          </a:xfrm>
          <a:prstGeom prst="leftRightArrow">
            <a:avLst>
              <a:gd name="adj1" fmla="val 50000"/>
              <a:gd name="adj2" fmla="val 794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AA49E-936C-436C-AEE7-051C7D6604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9228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ut-of-date leapseconds kernel can be used successfully for conversions that occur at epoch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r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epoch of the first missing leapseco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any conversions of epochs occurring after the epoch of a missing leapsecond will introduce inaccuracies in multiples of one second per missed leapsec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latest leapseconds kernel to perform conversions at epochs more than six months ahead of the last leapsecond listed may result in an error if, later on, a new leapsecond is declared for a time prior to the epochs you proces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622320" y="380520"/>
            <a:ext cx="3468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ut of Date LS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2282-F719-4D92-AB68-D39B79F454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776628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acecraft clock kernel contains data to perform conversions from SCLK to other time syste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required by Toolkit utilities and routines that utilize SCLK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the SPICE CK subsystem makes heavy use of spacecraft clock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ith all SPICE kernels, use FURNS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oad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you have the correct version of the SCLK file for your spacecraft since this kernel may be updated rather frequen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LK files are usually maintained on a flight project’s databa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JPL operated missions they can usually be found on the NAIF server as wel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using a CK, “correct SCLK” means compatible with that 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reconstructed CKs, this is most likely the latest version of the SCL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“predict” CKs, this is probably the SCLK kernel used when the CK was produc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989000" y="380520"/>
            <a:ext cx="71186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Spacecraft Clock Kernel (SCLK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70B61-91B2-4A96-BF15-C01119726C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7240" y="1525680"/>
            <a:ext cx="77695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KERNEL_ID           = ( @1999-08-02/10:53:19.7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DATA_TYPE_82        = ( 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TIME_SYSTEM_82    = (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N_FIELDS_82       = (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MODULI_82         = ( 4294967296 256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OFFSETS_82        = ( 0 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OUTPUT_DELIM_82   = ( 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PARTITION_START_82  = ( 1.7772134886400E+1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PARTITION_END_82    = ( 1.0995116277750E+1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01_COEFFICIENTS_82   = 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0000000000000E+00     -6.3119514881600E+08     1.00014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2098765056000E+10     -5.8393434781600E+08     1.00009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0171981312000E+10     -5.5239834681600E+08     1.00012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.8245197568000E+10     -5.2086234581600E+08     1.0001100000000E+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4.4413748224000E+10     -4.5770394481600E+08     1.0000800000000E+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                       .             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43400" y="380520"/>
            <a:ext cx="383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CLK File Exampl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38640" y="548964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LK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362320" y="4876560"/>
            <a:ext cx="3808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548640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T or TDB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sponding to SCLK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4495320" y="48765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54864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onds per most significant compon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781320" y="48765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37480" y="2222640"/>
            <a:ext cx="2481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ystem 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 --&gt; TDB, Barycentric Dynamical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 --&gt; TDT, Terrestrial Dynamic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733920" y="23623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640" y="1523880"/>
            <a:ext cx="2997360" cy="838440"/>
          </a:xfrm>
          <a:custGeom>
            <a:avLst/>
            <a:gdLst/>
            <a:ahLst/>
            <a:rect l="l" t="t" r="r" b="b"/>
            <a:pathLst>
              <a:path w="1888" h="528">
                <a:moveTo>
                  <a:pt x="1888" y="336"/>
                </a:moveTo>
                <a:cubicBezTo>
                  <a:pt x="1852" y="264"/>
                  <a:pt x="1816" y="192"/>
                  <a:pt x="1744" y="144"/>
                </a:cubicBezTo>
                <a:cubicBezTo>
                  <a:pt x="1672" y="96"/>
                  <a:pt x="1640" y="72"/>
                  <a:pt x="1456" y="48"/>
                </a:cubicBezTo>
                <a:cubicBezTo>
                  <a:pt x="1272" y="24"/>
                  <a:pt x="856" y="0"/>
                  <a:pt x="640" y="0"/>
                </a:cubicBezTo>
                <a:cubicBezTo>
                  <a:pt x="424" y="0"/>
                  <a:pt x="264" y="16"/>
                  <a:pt x="160" y="48"/>
                </a:cubicBezTo>
                <a:cubicBezTo>
                  <a:pt x="56" y="80"/>
                  <a:pt x="32" y="136"/>
                  <a:pt x="16" y="192"/>
                </a:cubicBezTo>
                <a:cubicBezTo>
                  <a:pt x="0" y="248"/>
                  <a:pt x="24" y="336"/>
                  <a:pt x="64" y="384"/>
                </a:cubicBezTo>
                <a:cubicBezTo>
                  <a:pt x="104" y="432"/>
                  <a:pt x="200" y="456"/>
                  <a:pt x="256" y="480"/>
                </a:cubicBezTo>
                <a:cubicBezTo>
                  <a:pt x="312" y="504"/>
                  <a:pt x="376" y="520"/>
                  <a:pt x="400" y="528"/>
                </a:cubicBezTo>
              </a:path>
            </a:pathLst>
          </a:custGeom>
          <a:noFill/>
          <a:ln w="1260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68520" y="2079720"/>
            <a:ext cx="228600" cy="228600"/>
          </a:xfrm>
          <a:prstGeom prst="ellipse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2480" y="2259000"/>
            <a:ext cx="228600" cy="228600"/>
          </a:xfrm>
          <a:prstGeom prst="ellipse">
            <a:avLst/>
          </a:pr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1760" y="219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0574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ck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94280" y="3165480"/>
            <a:ext cx="20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ded clock readings at partition start and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10080" y="3352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C55E-F272-4E5B-B0B1-FE46663514F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LK time in SPICE is represented in two different way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haracter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uble precision (DP) number called “tick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LK character string is composed of one or more cascading integer numbers – similar to a digital cloc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orm is what is generally found in downlinked telemetry, whether for science or engineering/husekeeping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LK value encoded as a double precision (DP) number (called “ticks”) is used internal to SPICE because it’s easy to convert this to other time systems, such as ephemeris time (E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829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ms of SCLK Time Within SPI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806F-07F4-411E-9DE9-4563ACAF8A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371600"/>
            <a:ext cx="7769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ssini orbiter SCLK time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s of three fields separated by delimi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1840" y="2592360"/>
            <a:ext cx="2587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4132564.0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0560" y="2897280"/>
            <a:ext cx="1497240" cy="836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14800" y="2973240"/>
            <a:ext cx="811080" cy="228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563800" y="2896920"/>
            <a:ext cx="60804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0040" y="3735360"/>
            <a:ext cx="3197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: Accounts for clock resets or counter roll-o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6360" y="5335560"/>
            <a:ext cx="59421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Significant Clock Fiel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s from 0 to 4294967295 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). Nominally 1 second inc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3962520"/>
            <a:ext cx="50259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st Significant Clock Fiel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s from 0 to 255. Nominally 1/256th of a second incre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37636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3600" y="2362320"/>
            <a:ext cx="97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133720"/>
            <a:ext cx="2895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ck Field Delimiter* (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decimal 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300400"/>
            <a:ext cx="0" cy="27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211120" y="2300400"/>
            <a:ext cx="1369800" cy="35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880" y="2440080"/>
            <a:ext cx="1269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26880" y="380520"/>
            <a:ext cx="46659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SCLK String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5638680"/>
            <a:ext cx="2619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everal SCLK delimiter characters are available in SPICE. See “SCLK Required Reading” for detai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946BD-1659-4A1B-A060-C41D8A4074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06320" y="380520"/>
            <a:ext cx="3915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is a Partition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0200" y="3789360"/>
            <a:ext cx="7772400" cy="185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ition is a NAIF-created construct to handle spacecraft clock rollovers or re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referring to epochs in the first partition, the leading ‘1/’ may be omit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 spacecraft rarely use a partition other than 1/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1840" y="1676520"/>
            <a:ext cx="2587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/4132564.0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52960" y="1652760"/>
            <a:ext cx="447480" cy="423720"/>
          </a:xfrm>
          <a:prstGeom prst="ellipse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509920"/>
            <a:ext cx="7769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rtion of the SCLK string circled above indicates the partition to which the remaining portion of the string is re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eapseconds (LSK) and Spacecraft Clock (SCLK)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8833-A21F-4FE3-B4CA-21AEBDC57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1T19:32:27Z</cp:lastPrinted>
  <dcterms:modified xsi:type="dcterms:W3CDTF">2007-10-12T23:30:53Z</dcterms:modified>
  <cp:revision>67</cp:revision>
  <dc:subject/>
  <dc:title>Leapseconds and Spacecraft Clock Kernels  LSK and SCLK</dc:title>
</cp:coreProperties>
</file>