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7222-984C-449E-93BF-5DAB5BB94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80900-EF3F-4F77-99C6-F9C3403910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DB9BE-BDEE-4A0D-B101-285CA2CE2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593B5-BC0B-41CC-8086-27E2A52A8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9FEA3-B561-4F01-B044-8A1326BC9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9C4A-B736-453B-9F01-B2796D86D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B44DE-AA20-4BE2-93B4-5D19A697E8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B0F94-C2F7-4CAE-A682-5CE3EBF27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6EA9E-810B-467B-9AC0-C7B026C3D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EF091-8936-4FFB-9CF2-74911EE16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FD96D-B781-46B8-8592-95C2F8985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F232A-E029-46FC-98E1-3E2EC83E6A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B1D6-0920-4BDD-B77E-50BD028E67A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76280" y="2733480"/>
            <a:ext cx="4902120" cy="1006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Time Conversion and 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Time Format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3683160" y="3475080"/>
            <a:ext cx="1442880" cy="828360"/>
            <a:chOff x="3683160" y="3475080"/>
            <a:chExt cx="1442880" cy="828360"/>
          </a:xfrm>
        </p:grpSpPr>
        <p:sp>
          <p:nvSpPr>
            <p:cNvPr id="150" name=""/>
            <p:cNvSpPr/>
            <p:nvPr/>
          </p:nvSpPr>
          <p:spPr>
            <a:xfrm>
              <a:off x="3711600" y="3475080"/>
              <a:ext cx="1393920" cy="77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83160" y="3576600"/>
              <a:ext cx="144288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Barycentr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Dynamical 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(TDB or E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683160" y="5448240"/>
            <a:ext cx="1442880" cy="828360"/>
            <a:chOff x="3683160" y="5448240"/>
            <a:chExt cx="1442880" cy="828360"/>
          </a:xfrm>
        </p:grpSpPr>
        <p:sp>
          <p:nvSpPr>
            <p:cNvPr id="153" name=""/>
            <p:cNvSpPr/>
            <p:nvPr/>
          </p:nvSpPr>
          <p:spPr>
            <a:xfrm>
              <a:off x="3711600" y="5448240"/>
              <a:ext cx="1393920" cy="773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83160" y="5549760"/>
              <a:ext cx="144288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Encod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Spacecraft Cl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(Tick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74680" y="3160800"/>
            <a:ext cx="1442880" cy="828360"/>
            <a:chOff x="274680" y="3160800"/>
            <a:chExt cx="1442880" cy="828360"/>
          </a:xfrm>
        </p:grpSpPr>
        <p:sp>
          <p:nvSpPr>
            <p:cNvPr id="156" name=""/>
            <p:cNvSpPr/>
            <p:nvPr/>
          </p:nvSpPr>
          <p:spPr>
            <a:xfrm>
              <a:off x="303120" y="3160800"/>
              <a:ext cx="1393920" cy="77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4680" y="3262320"/>
              <a:ext cx="144288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Coordin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Universal 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(UT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116000" y="4505400"/>
            <a:ext cx="907920" cy="47952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2640" y="4572000"/>
            <a:ext cx="7743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TIM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ET2U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93880" y="4029120"/>
            <a:ext cx="0" cy="142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324080" y="400644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095560" y="3863520"/>
            <a:ext cx="1515960" cy="81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668600" y="4026960"/>
            <a:ext cx="2055600" cy="1731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391520" y="5369040"/>
            <a:ext cx="1442880" cy="828360"/>
            <a:chOff x="7391520" y="5369040"/>
            <a:chExt cx="1442880" cy="828360"/>
          </a:xfrm>
        </p:grpSpPr>
        <p:sp>
          <p:nvSpPr>
            <p:cNvPr id="165" name=""/>
            <p:cNvSpPr/>
            <p:nvPr/>
          </p:nvSpPr>
          <p:spPr>
            <a:xfrm>
              <a:off x="7419960" y="5369040"/>
              <a:ext cx="1393920" cy="77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91520" y="5470560"/>
              <a:ext cx="144288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Spacecra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Cl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(SCLK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373880" y="3524400"/>
            <a:ext cx="909720" cy="431640"/>
            <a:chOff x="7373880" y="3524400"/>
            <a:chExt cx="909720" cy="431640"/>
          </a:xfrm>
        </p:grpSpPr>
        <p:sp>
          <p:nvSpPr>
            <p:cNvPr id="168" name=""/>
            <p:cNvSpPr/>
            <p:nvPr/>
          </p:nvSpPr>
          <p:spPr>
            <a:xfrm>
              <a:off x="7373880" y="3524400"/>
              <a:ext cx="909720" cy="431640"/>
            </a:xfrm>
            <a:prstGeom prst="octagon">
              <a:avLst>
                <a:gd name="adj" fmla="val 29273"/>
              </a:avLst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87280" y="3613320"/>
              <a:ext cx="68292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SCE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804000" y="4022640"/>
            <a:ext cx="909720" cy="432000"/>
            <a:chOff x="6804000" y="4022640"/>
            <a:chExt cx="909720" cy="432000"/>
          </a:xfrm>
        </p:grpSpPr>
        <p:sp>
          <p:nvSpPr>
            <p:cNvPr id="171" name=""/>
            <p:cNvSpPr/>
            <p:nvPr/>
          </p:nvSpPr>
          <p:spPr>
            <a:xfrm>
              <a:off x="6804000" y="4022640"/>
              <a:ext cx="909720" cy="432000"/>
            </a:xfrm>
            <a:prstGeom prst="octagon">
              <a:avLst>
                <a:gd name="adj" fmla="val 29273"/>
              </a:avLst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17400" y="4111560"/>
              <a:ext cx="68292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SCS2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243400" y="3800520"/>
            <a:ext cx="1989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20160" y="4037040"/>
            <a:ext cx="0" cy="12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116320" y="3973320"/>
            <a:ext cx="1617480" cy="23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7475040" y="4522320"/>
            <a:ext cx="320760" cy="830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653080" y="5865840"/>
            <a:ext cx="1289160" cy="749160"/>
            <a:chOff x="5653080" y="5865840"/>
            <a:chExt cx="1289160" cy="749160"/>
          </a:xfrm>
        </p:grpSpPr>
        <p:sp>
          <p:nvSpPr>
            <p:cNvPr id="178" name=""/>
            <p:cNvSpPr/>
            <p:nvPr/>
          </p:nvSpPr>
          <p:spPr>
            <a:xfrm>
              <a:off x="5653080" y="5865840"/>
              <a:ext cx="1289160" cy="749160"/>
            </a:xfrm>
            <a:prstGeom prst="diamond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86360" y="6113520"/>
              <a:ext cx="82440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SCENC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653080" y="4997520"/>
            <a:ext cx="1289160" cy="749160"/>
            <a:chOff x="5653080" y="4997520"/>
            <a:chExt cx="1289160" cy="749160"/>
          </a:xfrm>
        </p:grpSpPr>
        <p:sp>
          <p:nvSpPr>
            <p:cNvPr id="181" name=""/>
            <p:cNvSpPr/>
            <p:nvPr/>
          </p:nvSpPr>
          <p:spPr>
            <a:xfrm>
              <a:off x="5653080" y="4997520"/>
              <a:ext cx="1289160" cy="749160"/>
            </a:xfrm>
            <a:prstGeom prst="diamond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86360" y="5245200"/>
              <a:ext cx="82440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SCDEC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126040" y="6014880"/>
            <a:ext cx="439560" cy="217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993000" y="5951160"/>
            <a:ext cx="439560" cy="268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125680" y="5421240"/>
            <a:ext cx="490680" cy="217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992640" y="5357520"/>
            <a:ext cx="398520" cy="204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34640" y="1346040"/>
            <a:ext cx="8276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</a:rPr>
              <a:t>needs l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34640" y="1725480"/>
            <a:ext cx="9039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</a:rPr>
              <a:t>needs s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92920" y="2125800"/>
            <a:ext cx="419040" cy="241200"/>
          </a:xfrm>
          <a:prstGeom prst="octagon">
            <a:avLst>
              <a:gd name="adj" fmla="val 29273"/>
            </a:avLst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33200" y="2119320"/>
            <a:ext cx="14310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</a:rPr>
              <a:t>needs lsk and s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92920" y="1360440"/>
            <a:ext cx="336600" cy="22536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92920" y="1724040"/>
            <a:ext cx="384120" cy="257040"/>
          </a:xfrm>
          <a:prstGeom prst="diamond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930480" y="5106960"/>
            <a:ext cx="946440" cy="357120"/>
            <a:chOff x="3930480" y="5106960"/>
            <a:chExt cx="946440" cy="357120"/>
          </a:xfrm>
        </p:grpSpPr>
        <p:sp>
          <p:nvSpPr>
            <p:cNvPr id="194" name=""/>
            <p:cNvSpPr/>
            <p:nvPr/>
          </p:nvSpPr>
          <p:spPr>
            <a:xfrm flipV="1">
              <a:off x="4876920" y="510696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30480" y="513252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930480" y="4227480"/>
            <a:ext cx="946440" cy="357120"/>
            <a:chOff x="3930480" y="4227480"/>
            <a:chExt cx="946440" cy="357120"/>
          </a:xfrm>
        </p:grpSpPr>
        <p:sp>
          <p:nvSpPr>
            <p:cNvPr id="197" name=""/>
            <p:cNvSpPr/>
            <p:nvPr/>
          </p:nvSpPr>
          <p:spPr>
            <a:xfrm flipV="1">
              <a:off x="4876920" y="422748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30480" y="425304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03240" y="380520"/>
            <a:ext cx="5298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ayout of the Time Syste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652920" y="1285920"/>
            <a:ext cx="1442880" cy="828720"/>
            <a:chOff x="3652920" y="1285920"/>
            <a:chExt cx="1442880" cy="828720"/>
          </a:xfrm>
        </p:grpSpPr>
        <p:sp>
          <p:nvSpPr>
            <p:cNvPr id="201" name=""/>
            <p:cNvSpPr/>
            <p:nvPr/>
          </p:nvSpPr>
          <p:spPr>
            <a:xfrm>
              <a:off x="3681360" y="1285920"/>
              <a:ext cx="1393920" cy="773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2920" y="1387800"/>
              <a:ext cx="144288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Lo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So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 flipV="1">
            <a:off x="4381560" y="2057040"/>
            <a:ext cx="0" cy="30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384800" y="2876400"/>
            <a:ext cx="0" cy="5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75120" y="2386080"/>
            <a:ext cx="888840" cy="457200"/>
          </a:xfrm>
          <a:prstGeom prst="roundRect">
            <a:avLst>
              <a:gd name="adj" fmla="val 25000"/>
            </a:avLst>
          </a:prstGeom>
          <a:solidFill>
            <a:srgbClr val="e991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07320" y="2573280"/>
            <a:ext cx="415800" cy="214200"/>
          </a:xfrm>
          <a:prstGeom prst="roundRect">
            <a:avLst>
              <a:gd name="adj" fmla="val 25000"/>
            </a:avLst>
          </a:prstGeom>
          <a:solidFill>
            <a:srgbClr val="e991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71000" y="2563920"/>
            <a:ext cx="14587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1d58"/>
                </a:solidFill>
                <a:latin typeface="Arial"/>
              </a:rPr>
              <a:t>needs pck and sp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6320" y="247032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T2L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76360" y="2119320"/>
            <a:ext cx="1452600" cy="941760"/>
            <a:chOff x="576360" y="2119320"/>
            <a:chExt cx="1452600" cy="941760"/>
          </a:xfrm>
        </p:grpSpPr>
        <p:sp>
          <p:nvSpPr>
            <p:cNvPr id="210" name=""/>
            <p:cNvSpPr/>
            <p:nvPr/>
          </p:nvSpPr>
          <p:spPr>
            <a:xfrm>
              <a:off x="576360" y="2119320"/>
              <a:ext cx="1393920" cy="77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6080" y="2170080"/>
              <a:ext cx="1442880" cy="8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Uniform time systems (TDT,TAI, JED, JDTD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919160" y="2782800"/>
            <a:ext cx="416160" cy="252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84720" y="3397320"/>
            <a:ext cx="390240" cy="206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292720" y="2736720"/>
            <a:ext cx="907920" cy="479160"/>
            <a:chOff x="5292720" y="2736720"/>
            <a:chExt cx="907920" cy="479160"/>
          </a:xfrm>
        </p:grpSpPr>
        <p:sp>
          <p:nvSpPr>
            <p:cNvPr id="215" name=""/>
            <p:cNvSpPr/>
            <p:nvPr/>
          </p:nvSpPr>
          <p:spPr>
            <a:xfrm>
              <a:off x="5292720" y="2736720"/>
              <a:ext cx="907920" cy="47916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63640" y="2849400"/>
              <a:ext cx="774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DELT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421000" y="3049560"/>
            <a:ext cx="907920" cy="479160"/>
            <a:chOff x="2421000" y="3049560"/>
            <a:chExt cx="907920" cy="479160"/>
          </a:xfrm>
        </p:grpSpPr>
        <p:sp>
          <p:nvSpPr>
            <p:cNvPr id="218" name=""/>
            <p:cNvSpPr/>
            <p:nvPr/>
          </p:nvSpPr>
          <p:spPr>
            <a:xfrm>
              <a:off x="2421000" y="3049560"/>
              <a:ext cx="907920" cy="47916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92640" y="3162240"/>
              <a:ext cx="70560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UNIT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689040" y="5543640"/>
            <a:ext cx="907920" cy="479160"/>
            <a:chOff x="689040" y="5543640"/>
            <a:chExt cx="907920" cy="479160"/>
          </a:xfrm>
        </p:grpSpPr>
        <p:sp>
          <p:nvSpPr>
            <p:cNvPr id="221" name=""/>
            <p:cNvSpPr/>
            <p:nvPr/>
          </p:nvSpPr>
          <p:spPr>
            <a:xfrm>
              <a:off x="689040" y="5543640"/>
              <a:ext cx="907920" cy="47916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9600" y="5656320"/>
              <a:ext cx="76680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STR2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357880" y="1465200"/>
            <a:ext cx="1442880" cy="773280"/>
            <a:chOff x="5357880" y="1465200"/>
            <a:chExt cx="1442880" cy="773280"/>
          </a:xfrm>
        </p:grpSpPr>
        <p:sp>
          <p:nvSpPr>
            <p:cNvPr id="224" name=""/>
            <p:cNvSpPr/>
            <p:nvPr/>
          </p:nvSpPr>
          <p:spPr>
            <a:xfrm>
              <a:off x="5373360" y="1465200"/>
              <a:ext cx="1393560" cy="773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57880" y="1655640"/>
              <a:ext cx="144288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UTC seconds past J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5791320" y="2292480"/>
            <a:ext cx="108000" cy="349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054760" y="3308040"/>
            <a:ext cx="398160" cy="298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865160" y="1395360"/>
            <a:ext cx="1442880" cy="773280"/>
            <a:chOff x="1865160" y="1395360"/>
            <a:chExt cx="1442880" cy="773280"/>
          </a:xfrm>
        </p:grpSpPr>
        <p:sp>
          <p:nvSpPr>
            <p:cNvPr id="229" name=""/>
            <p:cNvSpPr/>
            <p:nvPr/>
          </p:nvSpPr>
          <p:spPr>
            <a:xfrm>
              <a:off x="1893600" y="1395360"/>
              <a:ext cx="1393920" cy="773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65160" y="1497240"/>
              <a:ext cx="144288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840" rIns="69840" tIns="34920" bIns="349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L-sub-S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r>
                <a:rPr b="1" lang="en-US" sz="900" spc="-1" strike="noStrike">
                  <a:solidFill>
                    <a:srgbClr val="081d58"/>
                  </a:solidFill>
                  <a:latin typeface="Arial"/>
                </a:rPr>
                <a:t>(planetocentric longitude of the su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514440"/>
                  <a:tab algn="l" pos="1028880"/>
                  <a:tab algn="l" pos="1542960"/>
                  <a:tab algn="l" pos="2057400"/>
                  <a:tab algn="l" pos="2571840"/>
                  <a:tab algn="l" pos="3086280"/>
                  <a:tab algn="l" pos="3600360"/>
                  <a:tab algn="l" pos="4114800"/>
                  <a:tab algn="l" pos="4629240"/>
                  <a:tab algn="l" pos="5143680"/>
                  <a:tab algn="l" pos="5657760"/>
                  <a:tab algn="l" pos="6172200"/>
                  <a:tab algn="l" pos="6686640"/>
                  <a:tab algn="l" pos="7201080"/>
                  <a:tab algn="l" pos="7715160"/>
                  <a:tab algn="l" pos="8229600"/>
                  <a:tab algn="l" pos="8744040"/>
                  <a:tab algn="l" pos="9258480"/>
                  <a:tab algn="l" pos="9772560"/>
                  <a:tab algn="l" pos="102870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957400" y="2376360"/>
            <a:ext cx="888840" cy="457200"/>
            <a:chOff x="2957400" y="2376360"/>
            <a:chExt cx="888840" cy="457200"/>
          </a:xfrm>
        </p:grpSpPr>
        <p:sp>
          <p:nvSpPr>
            <p:cNvPr id="232" name=""/>
            <p:cNvSpPr/>
            <p:nvPr/>
          </p:nvSpPr>
          <p:spPr>
            <a:xfrm>
              <a:off x="2957400" y="2376360"/>
              <a:ext cx="888840" cy="457200"/>
            </a:xfrm>
            <a:prstGeom prst="roundRect">
              <a:avLst>
                <a:gd name="adj" fmla="val 25000"/>
              </a:avLst>
            </a:prstGeom>
            <a:solidFill>
              <a:srgbClr val="e99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42720" y="2493720"/>
              <a:ext cx="69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SPC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 flipH="1" flipV="1">
            <a:off x="3597120" y="2846160"/>
            <a:ext cx="425520" cy="633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057480" y="2103120"/>
            <a:ext cx="18576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398760" y="4632480"/>
            <a:ext cx="2062080" cy="452880"/>
            <a:chOff x="3398760" y="4632480"/>
            <a:chExt cx="2062080" cy="452880"/>
          </a:xfrm>
        </p:grpSpPr>
        <p:sp>
          <p:nvSpPr>
            <p:cNvPr id="237" name=""/>
            <p:cNvSpPr/>
            <p:nvPr/>
          </p:nvSpPr>
          <p:spPr>
            <a:xfrm>
              <a:off x="3398760" y="4632480"/>
              <a:ext cx="909360" cy="431640"/>
            </a:xfrm>
            <a:prstGeom prst="octagon">
              <a:avLst>
                <a:gd name="adj" fmla="val 29273"/>
              </a:avLst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508200" y="4632480"/>
              <a:ext cx="1952640" cy="452880"/>
              <a:chOff x="3508200" y="4632480"/>
              <a:chExt cx="1952640" cy="45288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4551120" y="4632480"/>
                <a:ext cx="909720" cy="431640"/>
                <a:chOff x="4551120" y="4632480"/>
                <a:chExt cx="909720" cy="4316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551120" y="4632480"/>
                  <a:ext cx="909720" cy="431640"/>
                </a:xfrm>
                <a:prstGeom prst="octagon">
                  <a:avLst>
                    <a:gd name="adj" fmla="val 29273"/>
                  </a:avLst>
                </a:prstGeom>
                <a:solidFill>
                  <a:srgbClr val="99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669200" y="4721400"/>
                  <a:ext cx="67356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81d58"/>
                      </a:solidFill>
                      <a:latin typeface="Arial"/>
                    </a:rPr>
                    <a:t>SCT2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3508200" y="4649760"/>
                <a:ext cx="1814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3520440" y="470520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Arial"/>
              </a:rPr>
              <a:t>SCE2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0CB81-A597-4A5B-914D-5C76C1B8468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23360" y="1299960"/>
            <a:ext cx="4118040" cy="47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ystems and Kern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ting Tim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r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endar, DOY* and Julian Date Strings to Ephemeris 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craft Clock String to Ephemeris Ti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craft Clock String to Encoded Spacecraft Clock (aka “Ticks”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mer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s -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phemeris Time to Calendar, DOY and Julian Date Strin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mer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s -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Calendar, DOY and Julian Date Strings and the Corresponding Format Pi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384440" y="380520"/>
            <a:ext cx="1935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16280" y="1308240"/>
            <a:ext cx="413712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mer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s -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phemeris Time to Spacecraft Clock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oded Spacecraft Clock to Spacecraft Clock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phemeris Time to Local Solar Time 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izing the Tim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a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st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ctorial layout of the Tim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9400" y="601200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OY = Day Of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5104-82A6-485C-A9E5-2C5199323EF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58440" y="1379520"/>
            <a:ext cx="809460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time systems are commonly used in SPICE for inputs and outputs in SPICE application program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ordinated Universal Time (UT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craft Clock (SCLK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phemeris Time (ET, also referred to as Barycentric Dynamical Time, TD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time systems are commonly used in SPICE for kernel data look-ups or for compu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phemeris Time (ET, TD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d in SPK, frames, P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d in high-level geometry interfa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oded Spacecraft Clock (Tick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d in the intermediate level CK interfa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ICE Leapseconds Kernel and Spacecraft Clock Kernel capture the relationships betwe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C and ET (Leapseconds Kerne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TC or ET and SCLK (SCLK Kerne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ong-term relationships between these systems cannot be accurately predic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711160" y="380520"/>
            <a:ext cx="5298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ime Systems and Kernel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74908-39F4-40D9-AAFA-7AA42030341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29920" y="1510920"/>
            <a:ext cx="8217000" cy="45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C, TDB, or TDT (TT) String to Ephemeris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2ET (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s any string in a format recognized by SPICE, excepting SCL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Leapseconds Kernel (LS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cecraft Clock String to Ephemeris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S2E (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sc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Spacecraft Clock Kernel (SCL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ly requires Leapseconds Kernel (LSK) as w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12000" indent="-1677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handle a very small (~2 msec.) difference between TDB and T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cecraft Clock String to Encoded Spacecraft Clock (used in the mid-level interfaces of the C-kernel 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ENCD (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sci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st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SCLKD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Spacecraft Clock Kernel (SCL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3142800" y="380520"/>
            <a:ext cx="48466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nverting Time String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91440" y="1244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667DC-7A99-41E7-B939-FFE0FD0E069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7360" y="1260000"/>
            <a:ext cx="8259840" cy="52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hemeris Time to Calendar, DOY or Julian Date St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OUT ( </a:t>
            </a:r>
            <a:r>
              <a:rPr b="1" i="1" lang="en-US" sz="1600" spc="-1" strike="noStrike">
                <a:solidFill>
                  <a:srgbClr val="fc0128"/>
                </a:solidFill>
                <a:latin typeface="Arial"/>
              </a:rPr>
              <a:t>e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fc0128"/>
                </a:solidFill>
                <a:latin typeface="Arial"/>
              </a:rPr>
              <a:t>fmtpic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STR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put </a:t>
            </a:r>
            <a:r>
              <a:rPr b="1" i="1" lang="en-US" sz="1600" spc="-1" strike="noStrike">
                <a:solidFill>
                  <a:srgbClr val="fc0128"/>
                </a:solidFill>
                <a:latin typeface="Arial"/>
              </a:rPr>
              <a:t>fmtp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 specification giving the user great flexibility in setting the appearance of the output time string, and the time system used (UTC, TDB, TDT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YYY Mon DD, HR:MN:SC.### ::UT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9 Jan 12,  23:28:28.28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YYY Mon DD, AP:MN:SC.### ampm ::UTC-8 (PST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9 Jan 12,  03:28:28.289 p.m. (PST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e the header for the TIMOUT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dule TPICTR may be useful in constructing a format picture specification from a sample st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s Leapseconds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2UTC ( </a:t>
            </a:r>
            <a:r>
              <a:rPr b="1" i="1" lang="en-US" sz="1600" spc="-1" strike="noStrike">
                <a:solidFill>
                  <a:srgbClr val="fc0128"/>
                </a:solidFill>
                <a:latin typeface="Arial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fc0128"/>
                </a:solidFill>
                <a:latin typeface="Arial"/>
              </a:rPr>
              <a:t>form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fc0128"/>
                </a:solidFill>
                <a:latin typeface="Arial"/>
              </a:rPr>
              <a:t>pre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UTCST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600" spc="-1" strike="noStrike">
                <a:solidFill>
                  <a:srgbClr val="fc0128"/>
                </a:solidFill>
                <a:latin typeface="Arial"/>
              </a:rPr>
              <a:t>form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put specifies calendar, DOY, or Julian Date format for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UTCST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s Leapseconds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AL ( </a:t>
            </a:r>
            <a:r>
              <a:rPr b="1" i="1" lang="en-US" sz="1600" spc="-1" strike="noStrike">
                <a:solidFill>
                  <a:srgbClr val="fc0128"/>
                </a:solidFill>
                <a:latin typeface="Arial"/>
              </a:rPr>
              <a:t>e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STR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STR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fixed format ephemeris calendar time 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Leapseconds Kernel is requir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619000" y="380520"/>
            <a:ext cx="58863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nverting Numeric Time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91440" y="1244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3230E-F131-4C14-9075-1DB38EBB407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82600" y="4832280"/>
            <a:ext cx="862488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2600" y="4505400"/>
            <a:ext cx="862488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2600" y="4156200"/>
            <a:ext cx="862488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2600" y="3790800"/>
            <a:ext cx="862488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2600" y="3483000"/>
            <a:ext cx="862488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2600" y="3117960"/>
            <a:ext cx="862488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2600" y="2778120"/>
            <a:ext cx="862488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2600" y="2416320"/>
            <a:ext cx="862488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9360" y="1987560"/>
            <a:ext cx="4235400" cy="36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St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99-283T12:28:29 (UT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99-283T12:29:33 (T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ed Nov 03, 19:29:05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465 B.C. Jan 12 03:15:23 p.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87-11-03T04:29: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4:28:55 A.M. June 12, 198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ursday November 04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C 31, 15:59:60.12 1998 (P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450297.1994 JDU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37080" y="2025720"/>
            <a:ext cx="446580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 Picture Used (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fmtp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YYY-DOYTHR:MN:SC (UT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YYY-DOYTHR:MN:SC (TDB) ::T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kd Mon DD, HR:MN:SC YYY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YYY ERA Mon DD AP:MN:SC am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YYY-MM-DDTHR:MN: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:MN:SC AMPM Month DD, YYY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eekday Month DD, YYY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N DD, HR:MN:SC YYYY (PST)::UTC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62800" indent="-26280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ULIAND.#### JDU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3240" y="1476360"/>
            <a:ext cx="7863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Time Strings and the Corresponding Format Pi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19000" y="380520"/>
            <a:ext cx="58849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nverting Numeric Time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6120" y="5168880"/>
            <a:ext cx="862488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C3F53-A77F-434F-B4DE-AD27261A44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92280" y="1272960"/>
            <a:ext cx="7772400" cy="46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hemeris Time to Spacecraft Clock 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E2S (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sc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SCLK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both LSK and SCL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ded Spacecraft Clock to Spacecraft Clock 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DECD (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sc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sclkd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SCLK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SCL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LK string examples*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1487147147.203  (Cassini, M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/05812:00:001    (Voyager 1 and 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phemeris Time to Local Solar Time 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2LST(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bod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H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M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S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AMP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SPK, P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619000" y="380520"/>
            <a:ext cx="58849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nverting Numeric Times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82520" y="5835600"/>
            <a:ext cx="674784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en literal clock strings are used as arguments in modules they must be contained in qu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ingle quotes for For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uble quotes for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ingle quotes for IDL to be s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ingle or double quotes for MAT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C4FC-8918-42E7-83B7-80A71B6BEA9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98720" y="124920"/>
            <a:ext cx="5611680" cy="7938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Conversion Between Uniform Time System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88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sion between numeric representations of TAI, TDB(ET), TDT, JDTDB(JED), JDTD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63de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Return val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UNITIM (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epo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ins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outs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AD51F-8931-4F7F-9EF3-EDED76D9B7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92280" y="138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digit year (a bad idea but supported):1969-206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System: U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endar: Gregor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ne hundred year interval to which two digit years belong may be set.  For example 1980-207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Systems: UTC, TDB, TT (Terrestrial Tim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endar: Gregorian, Julian, or Mix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TIMDEF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ime Required R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time.req) for deta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398320" y="380520"/>
            <a:ext cx="59086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ustomizing the Time Syste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ime Conversion and Forma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5A159-078D-4FBE-8026-357FDF867DD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6-03-07T18:52:32Z</cp:lastPrinted>
  <dcterms:modified xsi:type="dcterms:W3CDTF">2007-10-12T23:30:40Z</dcterms:modified>
  <cp:revision>125</cp:revision>
  <dc:subject/>
  <dc:title>Time Conversion and Formats</dc:title>
</cp:coreProperties>
</file>