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4874A-1406-406A-9A2D-FBB4D77B6B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776304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0480" y="4129560"/>
            <a:ext cx="776304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8F03B-3064-4A7A-910F-B69D5160DA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0480" y="412956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68480" y="412956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FBD97-C5EC-40BE-84BE-312DBE76DB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5240" y="198432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0000" y="198432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0480" y="412956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15240" y="412956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0000" y="412956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6910D-65B9-4EEC-9F15-1F5A10F352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0480" y="1984320"/>
            <a:ext cx="7763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776304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79680" y="380520"/>
            <a:ext cx="5727600" cy="416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0480" y="412956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0480" y="1984320"/>
            <a:ext cx="7763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3E72F-42CB-4074-A0EE-F56640EE12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68480" y="412956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0480" y="4129560"/>
            <a:ext cx="776304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776304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0480" y="4129560"/>
            <a:ext cx="776304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0480" y="412956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68480" y="412956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15240" y="198432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0000" y="198432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0480" y="412956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15240" y="412956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0000" y="412956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776304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C12BC-9988-478B-ADCB-ACAB891EA2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FA164-B722-44F9-A634-9D5B51E498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BCA30-A8A3-4299-A953-9CACB8B8FB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79680" y="380520"/>
            <a:ext cx="5727600" cy="416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97CBC-0057-4BFD-A22C-3894ACDFBA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0480" y="412956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9B2DA-2FEC-4DA1-A6E3-9A688CAB2A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8480" y="412956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2A661-C2B2-4CE6-88FD-7C7E85A11B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0480" y="4129560"/>
            <a:ext cx="776304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019BD-1139-4B05-964E-591FFDEA15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54160" y="919080"/>
            <a:ext cx="65754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59920" y="969840"/>
            <a:ext cx="3903840" cy="2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0480" y="1984320"/>
            <a:ext cx="776304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39720" indent="-1695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9692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9692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9692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2600" y="6518160"/>
            <a:ext cx="2095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0" y="6616800"/>
            <a:ext cx="2890800" cy="24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41760" y="6616800"/>
            <a:ext cx="1901880" cy="24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94DF39C-4EDB-45B5-A375-A739555EFAF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227520" y="182520"/>
            <a:ext cx="2226240" cy="894960"/>
            <a:chOff x="-227520" y="182520"/>
            <a:chExt cx="2226240" cy="894960"/>
          </a:xfrm>
        </p:grpSpPr>
        <p:sp>
          <p:nvSpPr>
            <p:cNvPr id="8" name=""/>
            <p:cNvSpPr/>
            <p:nvPr/>
          </p:nvSpPr>
          <p:spPr>
            <a:xfrm flipH="1">
              <a:off x="1005480" y="326520"/>
              <a:ext cx="124920" cy="1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7840" y="462960"/>
              <a:ext cx="1820880" cy="61452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1520" y="559440"/>
              <a:ext cx="310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1066680" y="511560"/>
              <a:ext cx="0" cy="9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4880" y="638640"/>
              <a:ext cx="731880" cy="246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-227160" y="367200"/>
              <a:ext cx="2204640" cy="51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2440" y="849600"/>
              <a:ext cx="74160" cy="7416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7200" bIns="72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16200" y="567360"/>
              <a:ext cx="74160" cy="7416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7200" bIns="72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>
              <a:off x="1069920" y="240480"/>
              <a:ext cx="0" cy="68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7400" y="370800"/>
              <a:ext cx="369360" cy="39744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1069920" y="304200"/>
              <a:ext cx="0" cy="12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90240" y="182520"/>
              <a:ext cx="5868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70720" y="182520"/>
              <a:ext cx="6796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03520" y="22813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4160" y="919080"/>
            <a:ext cx="65754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57400" y="969840"/>
            <a:ext cx="3903840" cy="2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12600" y="6518160"/>
            <a:ext cx="2095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-227520" y="182520"/>
            <a:ext cx="2226240" cy="894960"/>
            <a:chOff x="-227520" y="182520"/>
            <a:chExt cx="2226240" cy="894960"/>
          </a:xfrm>
        </p:grpSpPr>
        <p:sp>
          <p:nvSpPr>
            <p:cNvPr id="62" name=""/>
            <p:cNvSpPr/>
            <p:nvPr/>
          </p:nvSpPr>
          <p:spPr>
            <a:xfrm flipH="1">
              <a:off x="1005480" y="326520"/>
              <a:ext cx="124920" cy="1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7840" y="462960"/>
              <a:ext cx="1820880" cy="61452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1520" y="559440"/>
              <a:ext cx="310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066680" y="511560"/>
              <a:ext cx="0" cy="9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880" y="638640"/>
              <a:ext cx="731880" cy="246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-227160" y="367200"/>
              <a:ext cx="2204640" cy="51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92440" y="849600"/>
              <a:ext cx="74160" cy="7416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7200" bIns="72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16200" y="567360"/>
              <a:ext cx="74160" cy="7416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7200" bIns="72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069920" y="240480"/>
              <a:ext cx="0" cy="68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87400" y="370800"/>
              <a:ext cx="369360" cy="39744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069920" y="304200"/>
              <a:ext cx="0" cy="12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1320" y="182520"/>
              <a:ext cx="5868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71440" y="182520"/>
              <a:ext cx="6796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296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016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556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55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55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86040" y="2438280"/>
            <a:ext cx="5433840" cy="1321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reparing for Programming</a:t>
            </a:r>
            <a:br>
              <a:rPr sz="3200"/>
            </a:b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Using the SPICE Toolki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4876560"/>
            <a:ext cx="6391440" cy="61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October 200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306520" y="380520"/>
            <a:ext cx="607392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Setting Path to Toolkit Executables</a:t>
            </a:r>
            <a:endParaRPr b="1" lang="en-US" sz="28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sh, tcsh: Use the set command to add the location of toolkit executables to your path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t path = ($path /</a:t>
            </a:r>
            <a:r>
              <a:rPr b="1" i="1" lang="en-US" sz="1400" spc="-1" strike="noStrike">
                <a:solidFill>
                  <a:srgbClr val="063de8"/>
                </a:solidFill>
                <a:latin typeface="Arial"/>
              </a:rPr>
              <a:t>my_director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/toolkit/exe)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t path = ($path /</a:t>
            </a:r>
            <a:r>
              <a:rPr b="1" i="1" lang="en-US" sz="1400" spc="-1" strike="noStrike">
                <a:solidFill>
                  <a:srgbClr val="063de8"/>
                </a:solidFill>
                <a:latin typeface="Arial"/>
              </a:rPr>
              <a:t>my_director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/cspice/ex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t path = ($path /</a:t>
            </a:r>
            <a:r>
              <a:rPr b="1" i="1" lang="en-US" sz="1400" spc="-1" strike="noStrike">
                <a:solidFill>
                  <a:srgbClr val="063de8"/>
                </a:solidFill>
                <a:latin typeface="Arial"/>
              </a:rPr>
              <a:t>my_director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/icy/ex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t path = ($path /</a:t>
            </a:r>
            <a:r>
              <a:rPr b="1" i="1" lang="en-US" sz="1400" spc="-1" strike="noStrike">
                <a:solidFill>
                  <a:srgbClr val="063de8"/>
                </a:solidFill>
                <a:latin typeface="Arial"/>
              </a:rPr>
              <a:t>my_director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/mice/ex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s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TH=$PATH:/</a:t>
            </a:r>
            <a:r>
              <a:rPr b="1" i="1" lang="en-US" sz="1400" spc="-1" strike="noStrike">
                <a:solidFill>
                  <a:srgbClr val="063de8"/>
                </a:solidFill>
                <a:latin typeface="Arial"/>
              </a:rPr>
              <a:t>my_director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/toolkit/ex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TH=$PATH:/</a:t>
            </a:r>
            <a:r>
              <a:rPr b="1" i="1" lang="en-US" sz="1400" spc="-1" strike="noStrike">
                <a:solidFill>
                  <a:srgbClr val="063de8"/>
                </a:solidFill>
                <a:latin typeface="Arial"/>
              </a:rPr>
              <a:t>my_director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/cspice/ex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TH=$PATH:/</a:t>
            </a:r>
            <a:r>
              <a:rPr b="1" i="1" lang="en-US" sz="1400" spc="-1" strike="noStrike">
                <a:solidFill>
                  <a:srgbClr val="063de8"/>
                </a:solidFill>
                <a:latin typeface="Arial"/>
              </a:rPr>
              <a:t>my_director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/icy/ex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TH=$PATH:/</a:t>
            </a:r>
            <a:r>
              <a:rPr b="1" i="1" lang="en-US" sz="1400" spc="-1" strike="noStrike">
                <a:solidFill>
                  <a:srgbClr val="063de8"/>
                </a:solidFill>
                <a:latin typeface="Arial"/>
              </a:rPr>
              <a:t>my_director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/mice/ex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 location of toolki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ecutable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to the environment variable PATH from the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dvanc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pane on the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System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ol Panel (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ontrol Panel-&gt;System-&gt;Advanc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8600">
              <a:lnSpc>
                <a:spcPct val="80000"/>
              </a:lnSpc>
              <a:spcBef>
                <a:spcPts val="524"/>
              </a:spcBef>
              <a:buClr>
                <a:srgbClr val="063de8"/>
              </a:buClr>
              <a:buFont typeface="Arial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400" spc="-1" strike="noStrike">
                <a:solidFill>
                  <a:srgbClr val="063de8"/>
                </a:solidFill>
                <a:latin typeface="Arial"/>
              </a:rPr>
              <a:t>drive:\my_director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\toolkit\ex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8600">
              <a:lnSpc>
                <a:spcPct val="80000"/>
              </a:lnSpc>
              <a:spcBef>
                <a:spcPts val="524"/>
              </a:spcBef>
              <a:buClr>
                <a:srgbClr val="063de8"/>
              </a:buClr>
              <a:buFont typeface="Arial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400" spc="-1" strike="noStrike">
                <a:solidFill>
                  <a:srgbClr val="063de8"/>
                </a:solidFill>
                <a:latin typeface="Arial"/>
              </a:rPr>
              <a:t>drive:\my_director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\cspice\ex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8600">
              <a:lnSpc>
                <a:spcPct val="80000"/>
              </a:lnSpc>
              <a:spcBef>
                <a:spcPts val="524"/>
              </a:spcBef>
              <a:buClr>
                <a:srgbClr val="063de8"/>
              </a:buClr>
              <a:buFont typeface="Arial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400" spc="-1" strike="noStrike">
                <a:solidFill>
                  <a:srgbClr val="063de8"/>
                </a:solidFill>
                <a:latin typeface="Arial"/>
              </a:rPr>
              <a:t>drive:\my_director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\icy\ex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8600">
              <a:lnSpc>
                <a:spcPct val="80000"/>
              </a:lnSpc>
              <a:spcBef>
                <a:spcPts val="524"/>
              </a:spcBef>
              <a:buClr>
                <a:srgbClr val="063de8"/>
              </a:buClr>
              <a:buFont typeface="Arial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1400" spc="-1" strike="noStrike">
                <a:solidFill>
                  <a:srgbClr val="063de8"/>
                </a:solidFill>
                <a:latin typeface="Arial"/>
              </a:rPr>
              <a:t>drive:\my_director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\mice\ex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6248520"/>
            <a:ext cx="77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lace the </a:t>
            </a:r>
            <a:r>
              <a:rPr b="0" i="1" lang="en-US" sz="1600" spc="-1" strike="noStrike">
                <a:solidFill>
                  <a:srgbClr val="063de8"/>
                </a:solidFill>
                <a:latin typeface="Arial"/>
              </a:rPr>
              <a:t>italic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ith the path in which you installed the toolkit on your compu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34400" y="1219320"/>
            <a:ext cx="40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Recommended for all langu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tting Up Compu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A0452-0043-4AF9-8105-105526000BD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ile and link an application, say </a:t>
            </a:r>
            <a:r>
              <a:rPr b="1" i="1" lang="en-US" sz="2000" spc="-1" strike="noStrike">
                <a:solidFill>
                  <a:srgbClr val="063de8"/>
                </a:solidFill>
                <a:latin typeface="Arial"/>
              </a:rPr>
              <a:t>progra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against the SPICELIB/CSPICE librar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ume SPICE is installed at </a:t>
            </a:r>
            <a:r>
              <a:rPr b="0" lang="en-US" sz="1600" spc="-1" strike="noStrike">
                <a:solidFill>
                  <a:srgbClr val="063de8"/>
                </a:solidFill>
                <a:latin typeface="Courier New"/>
              </a:rPr>
              <a:t>/naif/toolkit/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r CSPICE is installed at </a:t>
            </a:r>
            <a:r>
              <a:rPr b="0" lang="en-US" sz="1600" spc="-1" strike="noStrike">
                <a:solidFill>
                  <a:srgbClr val="063de8"/>
                </a:solidFill>
                <a:latin typeface="Courier New"/>
              </a:rPr>
              <a:t>/naif/cspice/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cc </a:t>
            </a:r>
            <a:r>
              <a:rPr b="0" i="1" lang="en-US" sz="1200" spc="-1" strike="noStrike">
                <a:solidFill>
                  <a:srgbClr val="063de8"/>
                </a:solidFill>
                <a:latin typeface="Courier New"/>
              </a:rPr>
              <a:t>program.c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-I</a:t>
            </a:r>
            <a:r>
              <a:rPr b="0" lang="en-US" sz="1200" spc="-1" strike="noStrike">
                <a:solidFill>
                  <a:srgbClr val="063de8"/>
                </a:solidFill>
                <a:latin typeface="Courier New"/>
              </a:rPr>
              <a:t>/naif/cspice/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clude </a:t>
            </a:r>
            <a:r>
              <a:rPr b="0" lang="en-US" sz="1200" spc="-1" strike="noStrike">
                <a:solidFill>
                  <a:srgbClr val="063de8"/>
                </a:solidFill>
                <a:latin typeface="Courier New"/>
              </a:rPr>
              <a:t>/naif/cspice/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ib/csupport.a \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1200" spc="-1" strike="noStrike">
                <a:solidFill>
                  <a:srgbClr val="063de8"/>
                </a:solidFill>
                <a:latin typeface="Courier New"/>
              </a:rPr>
              <a:t>/naif/cspice/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ib/cspice.a -l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TR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$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77 </a:t>
            </a:r>
            <a:r>
              <a:rPr b="0" i="1" lang="en-US" sz="1200" spc="-1" strike="noStrike">
                <a:solidFill>
                  <a:srgbClr val="063de8"/>
                </a:solidFill>
                <a:latin typeface="Courier New"/>
              </a:rPr>
              <a:t>program.f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63de8"/>
                </a:solidFill>
                <a:latin typeface="Courier New"/>
              </a:rPr>
              <a:t>/naif/toolkit/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pport.a </a:t>
            </a:r>
            <a:r>
              <a:rPr b="0" lang="en-US" sz="1200" spc="-1" strike="noStrike">
                <a:solidFill>
                  <a:srgbClr val="063de8"/>
                </a:solidFill>
                <a:latin typeface="Courier New"/>
              </a:rPr>
              <a:t>/naif/toolkit/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picelib.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FORTRAN compilers (e.g. Absoft) require an additional flag "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lU7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"  when linking against SPICELIB to pull in the standard Unix symb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efault SPICE library names do not conform to the UNIX conventio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b</a:t>
            </a:r>
            <a:r>
              <a:rPr b="0" i="1" lang="en-US" sz="1600" spc="-1" strike="noStrike">
                <a:solidFill>
                  <a:srgbClr val="063de8"/>
                </a:solidFill>
                <a:latin typeface="Courier New"/>
              </a:rPr>
              <a:t>nam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a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o you cannot use the library path/name option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L/</a:t>
            </a:r>
            <a:r>
              <a:rPr b="0" i="1" lang="en-US" sz="1600" spc="-1" strike="noStrike">
                <a:solidFill>
                  <a:srgbClr val="063de8"/>
                </a:solidFill>
                <a:latin typeface="Courier New"/>
              </a:rPr>
              <a:t>path_to_lib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l</a:t>
            </a:r>
            <a:r>
              <a:rPr b="0" i="1" lang="en-US" sz="1600" spc="-1" strike="noStrike">
                <a:solidFill>
                  <a:srgbClr val="063de8"/>
                </a:solidFill>
                <a:latin typeface="Courier New"/>
              </a:rPr>
              <a:t>na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unless you rename the SPICE librar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3635280" y="380520"/>
            <a:ext cx="346896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Unix/Linux: Build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tting Up Compu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441D0-8395-4D89-A7ED-94E293372AC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tandard installation of Microsoft Visual Studio or Visual Toolkit may not update environment variables needed to use the C compiler (cl) from the standard DOS shell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vironment variables for "cl" - Visual Studio 7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CLUD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39720" indent="-169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:\Program Files\Microsoft Visual Studio .NET\Vc7\include\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39720" indent="-169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:\Program Files\Microsoft Visual Studio .NET\FrameworkSDK\include\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I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39720" indent="-169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:\Program Files\Microsoft Visual Studio .NET\Vc7\lib\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39720" indent="-169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:\Program Files\Microsoft Visual Studio .NET\FrameworkSDK\Lib\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AT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39720" indent="-169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:\Program Files\Microsoft Visual Studio .NET\Vc7\bin\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2565000" y="380520"/>
            <a:ext cx="559116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Windows: Compiler setting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tting Up Compu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EFC9D-4234-4815-8695-83B9E71FA94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me SPICE is installed at </a:t>
            </a:r>
            <a:r>
              <a:rPr b="0" lang="en-US" sz="1600" spc="-1" strike="noStrike">
                <a:solidFill>
                  <a:srgbClr val="063de8"/>
                </a:solidFill>
                <a:latin typeface="Courier New"/>
              </a:rPr>
              <a:t>C:\naif\toolkit\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ith CSPICE installed at </a:t>
            </a:r>
            <a:r>
              <a:rPr b="0" lang="en-US" sz="1600" spc="-1" strike="noStrike">
                <a:solidFill>
                  <a:srgbClr val="063de8"/>
                </a:solidFill>
                <a:latin typeface="Courier New"/>
              </a:rPr>
              <a:t>C:\naif\cspice\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ile and link an application, say </a:t>
            </a:r>
            <a:r>
              <a:rPr b="1" i="1" lang="en-US" sz="1600" spc="-1" strike="noStrike">
                <a:solidFill>
                  <a:srgbClr val="063de8"/>
                </a:solidFill>
                <a:latin typeface="Arial"/>
              </a:rPr>
              <a:t>progra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against the SPICELIB/CSPI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gt; cl </a:t>
            </a:r>
            <a:r>
              <a:rPr b="0" i="1" lang="en-US" sz="1200" spc="-1" strike="noStrike">
                <a:solidFill>
                  <a:srgbClr val="063de8"/>
                </a:solidFill>
                <a:latin typeface="Courier New"/>
              </a:rPr>
              <a:t>program.c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-I</a:t>
            </a:r>
            <a:r>
              <a:rPr b="0" lang="en-US" sz="1200" spc="-1" strike="noStrike">
                <a:solidFill>
                  <a:srgbClr val="063de8"/>
                </a:solidFill>
                <a:latin typeface="Courier New"/>
              </a:rPr>
              <a:t>C:\naif\cspice\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clude </a:t>
            </a:r>
            <a:r>
              <a:rPr b="0" lang="en-US" sz="1200" spc="-1" strike="noStrike">
                <a:solidFill>
                  <a:srgbClr val="063de8"/>
                </a:solidFill>
                <a:latin typeface="Courier New"/>
              </a:rPr>
              <a:t>C:\naif\cspice\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ib\csupport.lib \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63de8"/>
                </a:solidFill>
                <a:latin typeface="Courier New"/>
              </a:rPr>
              <a:t>C:\naif\cspice\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ib\cspice.li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TRA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gt; df </a:t>
            </a:r>
            <a:r>
              <a:rPr b="0" i="1" lang="en-US" sz="1200" spc="-1" strike="noStrike">
                <a:solidFill>
                  <a:srgbClr val="063de8"/>
                </a:solidFill>
                <a:latin typeface="Courier New"/>
              </a:rPr>
              <a:t>program.f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63de8"/>
                </a:solidFill>
                <a:latin typeface="Courier New"/>
              </a:rPr>
              <a:t>C:\naif\toolkit\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ib\SUPPORT.LIB \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063de8"/>
                </a:solidFill>
                <a:latin typeface="Courier New"/>
              </a:rPr>
              <a:t>C:\naif\toolkit\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ib\SPICELIB.LI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3663720" y="380520"/>
            <a:ext cx="34002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Windows: Build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tting Up Compu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9254D-8844-4BFD-B324-F7CB81ADEA6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46400" y="380520"/>
            <a:ext cx="6224400" cy="474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Icy: Register the Icy DLM to IDL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76920" indent="-3769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x: do one of the following three th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rt the IDL application from a shell in the directory containing both icy.dlm and icy.s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t the IDL_DLM_PATH environment variable to include the directory containing icy.dlm and icy.so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05280" indent="-30132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env IDL_DLM_PATH  </a:t>
            </a:r>
            <a:r>
              <a:rPr b="0" lang="en-US" sz="1400" spc="-1" strike="noStrike">
                <a:solidFill>
                  <a:srgbClr val="063de8"/>
                </a:solidFill>
                <a:latin typeface="Courier New"/>
              </a:rPr>
              <a:t>&lt;path to icy.dlm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 the IDL register comma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05280" indent="-30132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DL&gt; dlm_register, </a:t>
            </a:r>
            <a:r>
              <a:rPr b="0" lang="en-US" sz="1400" spc="-1" strike="noStrike">
                <a:solidFill>
                  <a:srgbClr val="063de8"/>
                </a:solidFill>
                <a:latin typeface="Courier New"/>
              </a:rPr>
              <a:t>&lt;path to icy.dlm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ndows: do one of the following two th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t environment variable IDL_DLM_PATH from the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dvance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pane of the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ystem Contro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pa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 the IDL register command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05280" indent="-30132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DL&gt; dlm_register, </a:t>
            </a:r>
            <a:r>
              <a:rPr b="0" lang="en-US" sz="1400" spc="-1" strike="noStrike">
                <a:solidFill>
                  <a:srgbClr val="063de8"/>
                </a:solidFill>
                <a:latin typeface="Courier New"/>
              </a:rPr>
              <a:t>&lt;path to icy.dlm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firm the IDL registration using the help comma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052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052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DL&gt; help, ‘icy’, /DL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052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*ICY - IDL/CSPICE interface from JPL/NAIF (not loaded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23000" y="1143000"/>
            <a:ext cx="237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Required for “Icy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tting Up Compu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33086-A778-4E56-A5AA-EF565DD5BAD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6840" y="1523520"/>
            <a:ext cx="822492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the IDL IDE’s preferences panel to set the current working directory to the location where you will be developing your lessons’ cod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al: Place you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lm_regist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mmand in a start up script. Specify the script using the IDL IDE’s preferences panel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3441600" y="380520"/>
            <a:ext cx="382104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Icy: Using the IDL IDE</a:t>
            </a:r>
            <a:endParaRPr b="1" lang="en-US" sz="28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726280" y="1143000"/>
            <a:ext cx="309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Recommended for “Icy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tting Up Compu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12C25-4236-48C1-928D-6F97406CC7C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6840" y="1523520"/>
            <a:ext cx="822492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80080" indent="-280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me Mice is installed at </a:t>
            </a:r>
            <a:r>
              <a:rPr b="0" lang="en-US" sz="1600" spc="-1" strike="noStrike">
                <a:solidFill>
                  <a:srgbClr val="063de8"/>
                </a:solidFill>
                <a:latin typeface="Courier New"/>
              </a:rPr>
              <a:t>C:\naif\mice\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 Windows, or </a:t>
            </a:r>
            <a:r>
              <a:rPr b="0" lang="en-US" sz="1600" spc="-1" strike="noStrike">
                <a:solidFill>
                  <a:srgbClr val="063de8"/>
                </a:solidFill>
                <a:latin typeface="Courier New"/>
              </a:rPr>
              <a:t>/naif/mice/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 Unix/Linux. Use of Mice from MATLAB requires the Mice source and library directories exist in the MATLAB search path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0320" indent="-222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 Window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8520" indent="-22392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ddpath('</a:t>
            </a:r>
            <a:r>
              <a:rPr b="0" lang="en-US" sz="1400" spc="-1" strike="noStrike">
                <a:solidFill>
                  <a:srgbClr val="063de8"/>
                </a:solidFill>
                <a:latin typeface="Courier New"/>
              </a:rPr>
              <a:t>C:\naif\mice\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ib'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8520" indent="-22392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ddpath('</a:t>
            </a:r>
            <a:r>
              <a:rPr b="0" lang="en-US" sz="1400" spc="-1" strike="noStrike">
                <a:solidFill>
                  <a:srgbClr val="063de8"/>
                </a:solidFill>
                <a:latin typeface="Courier New"/>
              </a:rPr>
              <a:t>C:\naif\mice\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rc\mice'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0320" indent="-222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 Unix/Linu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8520" indent="-22392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ddpath('</a:t>
            </a:r>
            <a:r>
              <a:rPr b="0" lang="en-US" sz="1400" spc="-1" strike="noStrike">
                <a:solidFill>
                  <a:srgbClr val="063de8"/>
                </a:solidFill>
                <a:latin typeface="Courier New"/>
              </a:rPr>
              <a:t>/naif/mice/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ib'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8520" indent="-22392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ddpath('</a:t>
            </a:r>
            <a:r>
              <a:rPr b="0" lang="en-US" sz="1400" spc="-1" strike="noStrike">
                <a:solidFill>
                  <a:srgbClr val="063de8"/>
                </a:solidFill>
                <a:latin typeface="Courier New"/>
              </a:rPr>
              <a:t>/naif/mice/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rc/mice'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4897080" y="380520"/>
            <a:ext cx="917640" cy="7923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Mice</a:t>
            </a:r>
            <a:endParaRPr b="1" lang="en-US" sz="28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30840" y="1143000"/>
            <a:ext cx="258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Required for “Mic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tting Up Compu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EB402-CB8E-4959-9763-34098D76493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0T21:44:41Z</dcterms:created>
  <dc:creator>Charles Acton</dc:creator>
  <dc:description/>
  <dc:language>en-US</dc:language>
  <cp:lastModifiedBy>Charles Acton</cp:lastModifiedBy>
  <cp:lastPrinted>2007-05-01T22:43:55Z</cp:lastPrinted>
  <dcterms:modified xsi:type="dcterms:W3CDTF">2007-10-12T23:30:27Z</dcterms:modified>
  <cp:revision>92</cp:revision>
  <dc:subject/>
  <dc:title>Starting Up Using Icy</dc:title>
</cp:coreProperties>
</file>