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5257-AE87-4821-847D-F9496304B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8A01-2B1B-42B5-91AD-BE4B54307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E5104-5E90-4CEF-A639-8967E0A7B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73698-A05A-4E51-93B9-023AFFDF9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30832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2D98-3F17-4C50-A813-6CACB3CBF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89F3-9B72-4919-827B-54657EF57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39512-C92F-474C-814C-452F8A741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CCAF-E6AE-40A8-B074-7441B20F1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30832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92F0-31A7-4424-A7CC-55EA52752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6501-E676-4E3E-92CE-98306AC6F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FE3A-D071-467C-8D48-06F71A636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7AB9-6127-47AA-AEA4-9BDE60F0B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A41A-BE40-4E68-BD52-ED1601DA61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7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3360" y="2514600"/>
            <a:ext cx="5056200" cy="528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Using Module Header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895120" y="3733560"/>
            <a:ext cx="3124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85680" y="380520"/>
            <a:ext cx="4778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odule Header Purpo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6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“headers” are provided for all Toolkit modules, whether FORTRAN, C, IDL, or MATLAB Toolki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language, these “headers” may be found within the source code, under the  …/doc directory, or both.  (All headers are available from the Toolkit API Reference Guide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fundamental source for detailed user information and examples on how to use the modu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some families of modules (e.g. SPK), additional information about the whole family is provided in a “required reading” document (e.g.  …/doc/spk.req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3708-C77A-4C43-A741-A687EBCAA4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1360" y="380520"/>
            <a:ext cx="71722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RTRAN Module Header Loc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ORTRAN toolkits, the headers are provided within the source code modu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SPICELIB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toolkit/src/spicelib/&lt;name.f or &lt;name&gt;.f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 versions of the headers are also availa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SPICELIB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toolkit/doc/html/spicelib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ost cases there is a single “header” at the top of the source c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few cases, where a FORTRAN module has multiple entry points, there are additional “headers” at each entry point. For 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er.f” has entries for FURNSH, KTOTAL, KINFO, KDATA, KCLEAR, and UN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092D-4AE5-4549-A312-B25E8D560A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43320" y="380520"/>
            <a:ext cx="5478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 Module Header Loc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1080"/>
            <a:ext cx="8153280" cy="419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 toolkits the headers are provided in two formats, at two lo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in text, in the source code head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CSPICE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cspice/src/cspice/&lt;name&gt;_c.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M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CSPICE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cspice/doc/html/cspi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2DDE-E0AC-4D91-97A6-62B4DE719B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49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Module Header Loc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108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DL (“Icy”) toolkits, two kinds of headers are provi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y wrappers in HTML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icy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icy/doc/html/icy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 restricted set of information, and refers the user to the corresponding cspice header for detai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pice headers, in text and HTML forma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icy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icy/src/cspice/&lt;name&gt;_c.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icy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icy/doc/html/cspi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formation provided in an “Icy” wrapper is minimal; the corresponding CSPICE wrapper provides more detai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86942-714C-4C6F-8A55-502FD53FAC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41280" y="380520"/>
            <a:ext cx="60879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Module Header Loc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ATLAB (“Mice”) toolkits, two kinds of headers are provid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e wrappers in HTML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Mice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mice/doc/html/mi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 restricted set of information, and refers the user to the corresponding cspice header for detai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user can also access the information presented in the HTML document via the MATLAB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el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pice headers, in text and HTML forma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Mice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mice/src/cspice/&lt;name&gt;_c.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&lt;path to Mice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mice/doc/html/cspi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formation provided in a “Mice” wrapper is minimal; the corresponding CSPICE wrapper provides more detai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0E77F-C8AA-48D0-9930-AB0C2C86BA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27360" y="380520"/>
            <a:ext cx="49147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ok at a Typical Header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108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ne out… whether FORTRAN, C, Icy or M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, look for one of these head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KEZR, spkezr_c, cspice_spkezr, cspice_spkez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2ET, str2et_c, cspice_str2et, cspice_str2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sing Module Hea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86BB-AB47-486D-BE6F-0B1AD78F7E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05-01T19:56:40Z</cp:lastPrinted>
  <dcterms:modified xsi:type="dcterms:W3CDTF">2007-09-22T20:58:30Z</dcterms:modified>
  <cp:revision>69</cp:revision>
  <dc:subject/>
  <dc:title>No Slide Title</dc:title>
</cp:coreProperties>
</file>