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328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3280" y="4331160"/>
            <a:ext cx="5465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OS X m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cspice.so, cspice.dlm with icy.so. icy.d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cspice.so, cspice.dlm with icy.so. icy.d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test information. Edited furnsh warning. CSPICE no longer throws an error for multiply loaded binary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7EAD5-6D8C-40AE-B372-F350BDB79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083E-0090-4D8D-A00A-FD8ABCCB8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C779-5599-4266-86B2-EAC6DD2E2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42CA-C691-4B77-B1AD-DF664E79B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CE89-C006-43A5-A5BC-B497EEA73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05F7E-DC60-4C4D-8204-A22143C99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7671-21E3-42C4-98C1-E9B44427B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0F9EC-05F8-4B93-8222-FE6FE4246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9DAE8-AE41-495F-9034-D9BADC218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EB6A-C9B9-4940-869D-08939CE1B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5786-D435-4C79-9E71-93ADEFCD8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549F-DE43-4478-9A7A-A5C613D5D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064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D8AAA4-70D1-4E07-A6B3-726B212A171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17600" y="2266920"/>
            <a:ext cx="4711680" cy="898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DL Interface to CSPICE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“Icy”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4000" y="3346560"/>
            <a:ext cx="7686360" cy="22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How to Access the CSPICE library 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Interactive Data Language (IDL)</a:t>
            </a:r>
            <a:r>
              <a:rPr b="1" lang="en-US" sz="2400" spc="-1" strike="noStrike" baseline="30000">
                <a:solidFill>
                  <a:srgbClr val="081d58"/>
                </a:solidFill>
                <a:latin typeface="Arial"/>
              </a:rPr>
              <a:t>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8400" y="6389640"/>
            <a:ext cx="911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 baseline="30000">
                <a:solidFill>
                  <a:srgbClr val="081d58"/>
                </a:solidFill>
                <a:latin typeface="Arial"/>
              </a:rPr>
              <a:t>© </a:t>
            </a:r>
            <a:r>
              <a:rPr b="1" lang="en-US" sz="1400" spc="-1" strike="noStrike">
                <a:solidFill>
                  <a:srgbClr val="081d58"/>
                </a:solidFill>
                <a:latin typeface="Arial"/>
              </a:rPr>
              <a:t>ITT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1676520"/>
            <a:ext cx="8076960" cy="42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81d58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Mitigation: two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 all needed SPICE kernels for your IDL session at the beginning of the session, paying careful attention to the files loaded and the loading order (loading order affects preced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vince yourself that this approach will provide ALL of the scripts you will run during this IDL session with the appropriate SPI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t or near the end of every IDL script you wri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ovi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unload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for each kernel loaded using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provi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kclear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to remove ALL kernel data from the kernel p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380880"/>
            <a:ext cx="3333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Operatio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AD418-99B8-4F6B-A241-59898CE4A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8040" y="1521000"/>
            <a:ext cx="783900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682560" indent="-2253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87320" y="380880"/>
            <a:ext cx="396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Vectoriz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88920" y="3270240"/>
            <a:ext cx="2282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64440" y="3328920"/>
            <a:ext cx="2700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292400"/>
            <a:ext cx="81406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common Icy functions include use of vectorized arguments, a capability not available in C or FORTRAN toolk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use Icy to retrieve state vectors and light-time values for 1000 ephemeris ti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n array of 1000 ephemeris times with step size of 10 hours, starting from July 1, 200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str2et, 'July 1, 2005',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t = dindgen( 1000 )*36000.d + 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the state vectors and corresponding light times from Mars to earth at 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J2000 frame, using LT+S aberration corre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spkezr, 'Earth', et, 'J2000', 'LT+S', 'MARS', state, l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6839-1C17-4198-BAA9-356E84F2AF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92400"/>
            <a:ext cx="81406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e 6-vector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_i = state[*,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ephemeris time vect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revious example to UTC calendar strings with three decimal places accu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= 'C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   = 3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et2utc, et, format, prec, utcst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tcs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array of 1000 strings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the calendar date corresponding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[i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of utcstr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cstr_i = utcstr[i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87320" y="380880"/>
            <a:ext cx="396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Vectoriz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160" y="6576840"/>
            <a:ext cx="2168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s on nex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97B73-A9A5-47D2-8F9D-3C89913CC6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1292400"/>
            <a:ext cx="861048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position components of the N state vectors to latitudinal coordinates (the first three components of a state vector - IDL uses a zero based vector index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spice_reclat, state[0:2,*], radius, latitude, long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three double precision variables of type Array[1000]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560" y="380880"/>
            <a:ext cx="3966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Vectorizatio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96EF-6061-4C9B-A06B-A528897961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320560" y="380880"/>
            <a:ext cx="61318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mple Use of Icy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295280"/>
            <a:ext cx="8065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n example of Icy use and vectorization, calculate and plot the trajectory in the J2000 inertial frame of the Cassini spacecraft from June 20, 2004 to December 1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51080"/>
            <a:ext cx="84582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; Define the number of divisions of the time interval and the tim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EP = 10000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tc  = [ 'Jun 20, 2004', 'Dec 1, 2005' 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; Load the needed ker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, 'standard.ker'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, '/kernels/cassini/spk/T18-5TDJ5.bsp'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str2et, utc, et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 = dindgen(STEP)*(et[1]-et[0])/STEP + et[0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spkpos, 'Cassini', times, 'J2000', 'NONE', 'SATURN BARYCENTER', pos, ltime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; Plot the resulting traj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pos[0,*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 = pos[1,*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 = pos[2,*]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plot, x, y,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E68D-FE2E-451E-B54E-8F0F496D43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311560" y="380880"/>
            <a:ext cx="6157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raphic Output using IDL i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6560" y="1673280"/>
            <a:ext cx="5332320" cy="3806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35160" y="5703840"/>
            <a:ext cx="6630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jectory of the Cassini vehicle in the J2000 frame, for June 20, 2005 to Dec 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33240" y="481500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15720" y="3193920"/>
            <a:ext cx="271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84600" y="2967120"/>
            <a:ext cx="260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E934-6FBB-40E6-8987-97EEDB6BC6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20680" y="380520"/>
            <a:ext cx="14367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6640" y="1978200"/>
            <a:ext cx="7610400" cy="31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y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y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Use of Icy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59FB7-589B-4E6A-8CEE-C62DED8410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8040" y="1521000"/>
            <a:ext cx="78390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e of use: Icy operates as an extension to the IDL language reg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supports more than three-hundred CSPICE rout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calls usually correspond to the call format of the underlying CSPICE routine, returning IDL native data typ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has some capability not available in CSPICE such as vector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PICE error messages return to IDL in the form usable b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rror handler constr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82920" y="380520"/>
            <a:ext cx="24084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Benefi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7CB8-0CF4-4A26-8205-57FD787C8E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676520"/>
            <a:ext cx="8839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L environment includes an intrinsic capability to use external rout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y functions as an IDL Dynamically Loadable Module (DLM).  A DLM consists of a shared object library (icy.so/.dll) and a DLM text definition file (icy.dl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hared library contains a set of IDL callable C interface routines that wrap a subset of CSPICE wrapper ca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xt definition file lists the routines within the shared library and the format for the routine’s call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45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41440" y="380520"/>
            <a:ext cx="4440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4A05-651B-4F82-AC88-65FE1D5BAA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320" y="1676520"/>
            <a:ext cx="8839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Icy from IDL requires you register the Icy DLM with IDL to access the interface routines. Several means exist to do s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Unix/Linux, start IDL from the directory containg icy.dlm and icy.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the IDL interpreter (or from a command script), execute the dlm_register command, 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L&gt; dlm_register, '/naif/icy/lib/icy.dlm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L&gt; dlm_register, 'c:\naif\icy\lib\icy.dlm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icy.dlm and icy.so (icy.dll) to IDL's binary directory {The IDL install directory}/bin/bin.&lt;your_arch&gt;, 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usr/local/rsi/idl_6.3/bin/bin.darwin.ppc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244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:\RSI\IDL63\bin\bin.x86\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he IDL_DLM_PATH environment variable to a directory containing icy.dlm and icy.so (icy.d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44680" y="380520"/>
            <a:ext cx="4440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692E-DFDD-42F3-AB71-B13E69C752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08040" y="1444680"/>
            <a:ext cx="79898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user invokes a call to a DLM rout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DL cal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e interface routine in the shared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, linked again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SPICE, which performs its func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s the resul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o ID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t from the user’s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44680" y="380520"/>
            <a:ext cx="4440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B6E5-B3E3-4F74-A71F-CEB5B1C97A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71440" y="380880"/>
            <a:ext cx="3085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76520"/>
            <a:ext cx="8066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distributes the Icy package as an independent product analogous to SPICELIB and CSP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ckag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SPIC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cy interface sourc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specific build scripts for Icy and C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L versions of the SPICE cookbook program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ict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HTML based help system for both Icy and CSPICE, with the Icy help cross-linked to C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cy shared library and DLM file. The system is ready for use after installation of the these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1406-0A4A-4600-B4D6-F6CB186A8B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914560" y="380880"/>
            <a:ext cx="3333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Oper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8040" y="1371600"/>
            <a:ext cx="791532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user may occasionally encounter an IDL math excep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Program caused arithmetic error: Floating und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arning occurs most often as a consequence of CSPICE math oper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ll known cases, the SIGFPE exceptions caused by CSPICE can be ignored. CSPICE assumes numeric underflow as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user can adjust IDL’s response to math exceptions by setting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 = 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uppresses the SIGFPE messag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 =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default, reports math exceptions on return to the interactive prom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!EXCEPT =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ports exceptions immediately after executing the comm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87A97-5F04-4899-9776-37F79E9DB3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895480" y="380880"/>
            <a:ext cx="33339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Oper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815328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81d58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A possible irritant exists in loading kernels using the </a:t>
            </a:r>
            <a:r>
              <a:rPr b="1" lang="en-US" sz="20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Kernels are loaded into your IDL session, not into your IDL scripts. This me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accessible (“active”) throughout your IDL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ata from 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text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in the kernel pool (in the IDL memory space) throughout your IDL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2560" indent="-22536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sequence: some kernel data may be available to one of your scripts even though not intended to be 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You could ge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correct results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(If you run only one script during your IDL session, there’s no problem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DL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FB72-AD58-487A-960B-FB82F1141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0T14:50:09Z</dcterms:created>
  <dc:creator>Chuck Acton</dc:creator>
  <dc:description/>
  <cp:keywords/>
  <dc:language>en-US</dc:language>
  <cp:lastModifiedBy>Charles Acton</cp:lastModifiedBy>
  <cp:lastPrinted>2007-03-23T21:08:12Z</cp:lastPrinted>
  <dcterms:modified xsi:type="dcterms:W3CDTF">2007-10-12T23:30:00Z</dcterms:modified>
  <cp:revision>641</cp:revision>
  <dc:subject/>
  <dc:title>No Slide Title</dc:title>
</cp:coreProperties>
</file>