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B6B3-3FDB-4352-8A7B-E718E294C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5925-8B6C-419A-BE11-D1AB97347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6641-7ABD-4ED8-923A-87FF40D00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98D9F-268B-4981-8FAA-A8E71DB99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F365F-1E78-43B0-AFE6-E10FA472C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5E9D-60A1-43CA-BC6E-9DDD36668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45383-E384-492C-BEAE-EE0D63F31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7493-7D2B-4DC3-8FFF-7334F5C14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4B6B-342B-4F33-ACF5-1A3397657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8887-2C6D-4DFD-A229-183E07BDD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3FF4-3C70-4640-B481-7A0D90678E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9314-BD6C-462A-A330-725AFC0DC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921B-7982-4974-BBB0-F1A68DD4D01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7240" y="2271240"/>
            <a:ext cx="72900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troduction to the SPICE Toolki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848720" cy="518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rting, finding order vector, reorde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ing:  linear, bina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ertion and dele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/code conver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/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unit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, read, write text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nel pool AP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exception handling behavior:  mode, message set, output de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ruct error mess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6356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5237A-8131-412C-BE53-AD46283585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ced data typ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s, Se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(sometimes called schedu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s, Ellip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0495-1B5F-436E-A5F0-CB79335F038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 SPICE Toolki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ed first: in use since February 19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ins code written in ANSI Standard Fortran 7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few widely supported non-ANSI extensions are used, for example DO WHILE, DO…END 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s under a wide variety of Fortran compi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209400" y="380520"/>
            <a:ext cx="4327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tran 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69E5-6A6E-4FB2-AC35-7D3442442E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2104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is designed to duplicate the functionality of the Fortran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CSPICE source code is in ANSI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ortran SPICE Toolkit code is converted to ANSI C using the automatic translation program f2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-level functions have been hand-coded in C and documented in C style in order to provide a natural C-style API.  These functions are called “wrappers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wrappers encapsulate calls to C functions generated by f2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impler wrappers do their work in-line to boost perform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2c’d functions may be called directly, but this is strongly discouraged since f2c’d functions emulate Fortran functionality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by re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-style array index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-style string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B310-9090-42D0-A699-D833317776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runs under a wide variety of ANSI C compil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functions may be called from within C++ sourc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 prototypes are protected from name mang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CSPICE Limi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ll “Required Reading” reference documents have been converted to C style, with C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entually all will be conver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 wrappers exist for only a subset of the functionality provided by SPICE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des all the most commonly used modu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e will be added as time permi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some very limited cases, code generated by f2c fails to emulate Fortran accurately. Should not be a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-directed I/O has some problems (not consequential for CSPIC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tment of white space in text output is slightly different in CSPI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 unit-to-file name translation does not handle file name "synonyms" properly under Linux:  once opened with a specified name, a file must be referred to using the same name throughout a program ru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81960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1B1F-4126-4C10-BD23-19FB16CD53C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9228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is a SPICE Toolkit for IDL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delivered as part of the N0057 Toolkit in March, 2004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provides an IDL-callable “wrapper” interface for many CSPICE wrapper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: spkezr_c ( targ, et, ref, abcorr, obs, state, &amp;ltime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: cspice_spkezr,  targ, et, ref, abcorr, obs, state, l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IDL-callable wrappers added as time per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necessity the Icy Toolkit includes the complete CSPICE Toolk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cy software compon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L interface wrappers (implemented in ANSI 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cookbook programs (implemented in ID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693B6-6487-4AD9-8202-BAE647C94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9228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Reference Gu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 documentation showing how to call Icy wrapp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Icy wrapper has an HTML page containing usage examples serving as the SPICE “module header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background information essential for programming with 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F8B4-133D-4FD9-8D37-98892C47C2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38200" y="380520"/>
            <a:ext cx="247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96320" cy="491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is a SPICE Toolkit for MATLAB us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under limited distribution as a Beta-test produ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 official distribution late in CY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provides a MATLAB-callable “wrapper” interface for many CSPICE wrapper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: spkezr_c ( targ, et, ref, abcorr, obs, state, &amp;ltime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: [state, ltime] = cspice_spkezr( targ, et, ref, abcorr, ob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MATLAB-callable wrappers added as time perm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necessity all Mice Toolkit packages include the complete CSPICE Toolk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Mice software component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LAB interface wrappers (implemented in MATLAB wrapper scripts calling the ANSI C based interface librar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cookbook programs (implemented in MATLAB scrip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7902-21B4-42C9-8D1C-1F23371B16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7040" y="380520"/>
            <a:ext cx="247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Reference Gu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documentation showing how to call Mice wrapp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Mice wrapper script has a documentation header containing usage examples, serving as SPICE “module header”, available from th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command. This documentation also exists as a HTML p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 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background information essential for programming with M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A2C11-7094-491B-A54F-B21CA60943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ory structures for the Toolkits are almost identical. However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like for SPICE, the CSPICE, Icy and Mice packages have a directory for include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mes for application source code directories in CSPICE, Icy and Mice differ, slightly, from those in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and Mice include additional directories f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/Mice source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/Mice cookbook progr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p level directory name for each Toolk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” for Fortran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” for C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” for IDL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” for MATLAB Toolk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16A8-D578-452D-9D71-03D4DB3CE0E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alled Directory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Utility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kit Application Progr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ed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3248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0C51-79D0-4A81-8A57-D506A34884B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level is comprised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kbook example kernels (use ONLY for training with cookbook program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documents — *.req, *.ug, spicelib.idx/cspice.idx, whats.new, dscriptn.txt, version.tx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directory containing HTML documentation, called “html”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“html” subdirectory contains a single file — the top level HTML documentation index called “index.html” — and a number of subdirectories, one for each of the various groups of documents in HTML format (API Reference Guide pages, User’s Guide pages, etc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generic Toolkits this directory is emp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s for  brief, chronos, ckbrief, commnt, inspekt, mkspk, msopck, spacit, spkdiff, spkmerge, tobin, toxfr, version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s for the several cookbook example program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A59D-E39E-4A89-9B1C-C83F0A515CA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 (applies to CSPICE, Icy, and Mic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I header files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 to include in callers of CSPICE is SpiceUsr.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kit librari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Fortran SPICE Toolk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icelib.a (public modules;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port.a (private modules; don’t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CSPICE Toolki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 (public modules;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 (private modules; don’t use thes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Icy Toolki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y.so (shared object library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cy.dlm (dynamically loadable modul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Mice Toolki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ce.mex* (shared object library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pice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upport.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code directories for executables and librari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es have type *.f, *.for, *.inc, *.pgm, *.c, *.h, *.x, *.pro, *.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.h files appearing here are not part of the user AP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57440" y="380520"/>
            <a:ext cx="5592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stalled Directory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A276-07E4-446E-B8A7-65FC7138C7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oolkits include documentation in plain text and HTML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documents are located under the “doc” direct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documents are located under the “doc/html” directory with the “doc/html/index.html” file as the top level 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oolkits include the following kinds of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 as primary functional specification:  I/O, exceptions, particulars defining behavior of mo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ain code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standard format is used for each routine or entry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Module Header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:      the top comment block in the source code files under “src/spicelib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the top comment block in the source code files under “src/cspice”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L:             Icy Module Headers are not available in plain text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TLAB     accessible via “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elp 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function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Module Headers are accessible using the “API Reference Guide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1999-B66C-428C-9852-E80B00D1EC6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5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ds of documents in the Toolkit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s for principal sub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many low-level detai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code examp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s are located under “doc” and have extension “.req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s are are accessible using the “Required Reading Docum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ll of Required Readings were adapted for all langu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of the Required Reading documents provided with CSPICE still cover Fortran SPI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 Required Readings were adapted for Icy or Mice (Icy and Mice toolkits contain CSPICE Required Reading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Gu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specifications for the Toolkit utility programs and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s are located under “doc” and have extension “.ug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s are are accessible using the “User’s Guide Docum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2C1A4-8431-4DBF-89EF-611BEF49F54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22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docu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muted Inde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 phrases describing functionality to corresponding module names and file nam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s names of all entry points in Fortran toolkit AP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located under “doc” and has extension “.idx”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tran:             spicelib.idx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:                       cspice.id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, MATLAB:   not avail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Permuted Index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 Descri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bes the directory structure and contents of an installed Toolk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ized based on set of delivered products and platfo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dscriptn.tx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Toolkit Contents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1456-CD3E-4AF0-B358-AAB5F0BA034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87360" y="380520"/>
            <a:ext cx="452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22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documents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 introduction to the Toolkit and SPICE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plain 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Introduction to the SPICE System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New in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bes new features and bug fi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whats.new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 version is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ble using the “What’s New in SPICE” link from the top level inde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 Version Descrip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tes Toolkit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in text version is “doc/version.txt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HTM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2FBC-3C1C-4159-A69F-201C1AF368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922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 utility programs are available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binary SPICE kernels between incompatible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bin, toxfr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comments to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comments from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nt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kt  (only for EK/ESQ fil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coverage of bin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ief, ckbrief, spac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ge or subset SP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mer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cate current Toolkit 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3003120" y="380520"/>
            <a:ext cx="47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Utility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AAB7-4A7D-464E-8D5B-0887DA54F1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 application programs perform various task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SPK file from a text file of state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ksp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(diff) two SP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new CK from a text file of attitude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sopc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 out a wide assortment  of time conver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 Event Kernels (E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k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455560" y="380520"/>
            <a:ext cx="5794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Application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B9BC-0758-42FB-99BD-3832804F734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orts the SPICE Toolkit to several popular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platform is characteriz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ed compilation o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rovides SPICE Toolkit packages for each supported platf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cannot find a package built for the platform of interest to you, contact NAI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Don’t try to port a Toolkit built for another platfor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281400" y="380520"/>
            <a:ext cx="4146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022A-B592-462A-B98D-CA1350BFF96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86080" y="380520"/>
            <a:ext cx="5929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Fortra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1449360"/>
          <a:ext cx="8001000" cy="4950000"/>
        </p:xfrm>
        <a:graphic>
          <a:graphicData uri="http://schemas.openxmlformats.org/drawingml/2006/table">
            <a:tbl>
              <a:tblPr/>
              <a:tblGrid>
                <a:gridCol w="2532240"/>
                <a:gridCol w="2771640"/>
                <a:gridCol w="269712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bsoft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ft Pro Fortran 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Intel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Fortran 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CYGWIN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/Cygw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77, GNU Fortran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Compaq Visual (Digital)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q Digital Fortran 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Intel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Visual Fortran 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Lahey FORTRAN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hey FORTRAN 95 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FORT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FORTRAN 77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BC38-39E4-45F1-8DBE-BC70E59FD3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Toolkit is available in Fortran, C, IDL (Interactive Data Language), and MATLA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kits contai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routine libraries, with sourc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ICELIB (Fortra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(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  (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 (C and MATLAB scrip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able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and utility progra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kbook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allation/build scrip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in ASCII and 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 kernel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lied 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or use with cookbook programs,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 valid for general u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56040" y="380520"/>
            <a:ext cx="2790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5AD6-4EE4-426A-905B-35F0F2F89D9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49120" y="380520"/>
            <a:ext cx="4800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C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09480" y="1454040"/>
          <a:ext cx="8001000" cy="4337280"/>
        </p:xfrm>
        <a:graphic>
          <a:graphicData uri="http://schemas.openxmlformats.org/drawingml/2006/table">
            <a:tbl>
              <a:tblPr/>
              <a:tblGrid>
                <a:gridCol w="2532240"/>
                <a:gridCol w="2771640"/>
                <a:gridCol w="2697120"/>
              </a:tblGrid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CYGWIN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/Cygw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/64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NT/2K/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C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/64b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2820960" y="2462040"/>
            <a:ext cx="252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68480" y="3841920"/>
            <a:ext cx="25236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C3808-C93E-4165-8CCF-11F8D36545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7760" y="380520"/>
            <a:ext cx="5156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ID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9480" y="1444680"/>
          <a:ext cx="8001000" cy="334656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6668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SUN 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WorkShop 6 update 2 C 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, Solaris, gcc/IDL 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aris 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1746000" y="6095880"/>
            <a:ext cx="566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was built and tested using IDL version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1043-E189-4ECB-B084-931769970F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51080" y="380520"/>
            <a:ext cx="6222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pported Platforms - MATLAB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09480" y="1447920"/>
          <a:ext cx="8001000" cy="2232000"/>
        </p:xfrm>
        <a:graphic>
          <a:graphicData uri="http://schemas.openxmlformats.org/drawingml/2006/table">
            <a:tbl>
              <a:tblPr/>
              <a:tblGrid>
                <a:gridCol w="2514600"/>
                <a:gridCol w="2819520"/>
                <a:gridCol w="26668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PowerPC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3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Linux, gC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Hat Linux (RHE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3.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, Windows, Microsoft Visual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dows X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Visual Studio .NET 7.0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/Intel, OS-X, Apple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X 10.4.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c, GNU C 4.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820440" y="6095880"/>
            <a:ext cx="7491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was built and tested using MATLAB version 7.2 (2006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C14D-534C-44C9-A7C8-27C82987622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2133720"/>
            <a:ext cx="814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onents listed on the previous page comprise the generic Toolk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kits delivered to missions or other special customers may be augmented with mission- or customer-specific 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, C, IDL, and MATLAB Toolkits are delivered as standalone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DL and MATLAB products include the CSPICE Toolk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tran, CSPICE, IDL, and MATLAB Toolkits use identical kernel files on all platfor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956040" y="380520"/>
            <a:ext cx="2790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4E96B-5B1E-4D9E-8D6D-883B335094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kit Ve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c SPICE Toolkits have an associat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“N0061” (also written as “N61”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ersion number applies to the Fortran, C, IDL and MATLAB implementations for all supported platfor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does NAIF release new SPICE Toolkit vers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ccording to a fixed sched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ily driven by addition of significant, new capabilities to Tool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, for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asionally Toolkit updates are released to fix bugs, improve documentation, or satisfy an urgent request from a flight pro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4BF0-B903-4E4C-AB16-31F64DC307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7292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85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libraries contain a fairly broad set of capabilities related to the computations needed for “space geometry” and time convers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 categories are enumerated on the next several p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a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not all functionality is yet present in all four language versions of the Toolkit libr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rtran (SPICE) and C (CSPICE) Toolkits provide virtually identical functiona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DL (Icy) toolkit duplicates most functionality from the C Toolkit wrapper routi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TLAB (Mice) Toolkit provides interfaces only to those routines NAIF considers the most often needed by us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23D0-E761-4801-8E43-FD986B3111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read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ad”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state or position vectors (SP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orientation of planets, natural satellites, etc. (PC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body shape parameters or physical constants (PC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orientation of spacecraft or spacecraft instruments or structures (CK, F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instrument parameters (e.g., FOV) (I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ry binary EK files (EK-ESQ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 wri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 wri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 wri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K writers (sequence component, ESQ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K writers (only for binary PCK fi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668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29200" y="5872320"/>
            <a:ext cx="1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7AC4-76BF-4D6D-B5E9-4261F83904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tional ephemeris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cal osculating el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body Keplerian propa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AD two line elements sets (TLE) propag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ght time and Stellar aberration compu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trans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3x3 matrices for frame transformations of posi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tain 6x6 matrices for frame transformations of 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between standard systems:  TDB, TT (TDT), U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sion between SCLK and other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 and format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668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FE74-888C-46FC-909F-AD174889C1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ctor/Matrix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s, Euler angles, quatern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 conversion (systems:  latitudinal, cylindrical, rectangular, RA and DEC, spherical, geodetic, planetographi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y:  ellipsoids, ellipses, pl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functions:  illumination angles, sub-observer point, sub-solar point, surfac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ian date of epoch J2000, SPD(seconds per day), PI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sing:  find tokens, wor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ace marker, sub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ffix, pref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se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first/last non-blank character, first/last printing charac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olkit Library Functionalit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27C7-A8D4-4E74-B505-C376F6FD6E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7T22:54:33Z</cp:lastPrinted>
  <dcterms:modified xsi:type="dcterms:W3CDTF">2007-09-22T22:23:50Z</dcterms:modified>
  <cp:revision>341</cp:revision>
  <dc:subject/>
  <dc:title>Introduction to the SPICE Toolkit</dc:title>
</cp:coreProperties>
</file>