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58288" cy="6872288"/>
  <p:notesSz cx="70088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8937-4F24-47E0-800B-366463C34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05A1-7876-49CF-9B9F-730175796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17E8-EC30-40B6-A486-A01B07FEA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9F77-3C2B-4625-B483-3955F881AC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09D34-E634-4DDA-A84D-BE85218C01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3B72E-0626-4782-8F62-F805220B5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6D03-5F8F-4CCE-AFBF-BE04FFF60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5EAB-E9F0-48B9-B51B-16E175448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C29A-0ABC-4934-AB7D-292623E030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D4AF9-D6FF-4445-99F6-55991E84E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76AF-FB99-47FC-BCDE-D8354E270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E033-2D22-41CF-9512-FCC9F485C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31CC-C387-45A5-AE72-CCECDCD41A7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440" y="2743200"/>
            <a:ext cx="4292640" cy="528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PICE Introduction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of a precursor to SPICE was initiated by scientists in 1984 as part of a major initiative to improve archiving and distribution of space science data in all NASA discip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y for leading this effort was assigned to the newly-created Navigation and Ancillary Information Facility (NAIF), located at the Jet Propulsion Labora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’s SPICE system dates from about 199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89640" y="380520"/>
            <a:ext cx="15271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torials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C5FD-A1A6-45E2-B240-09A7113D4DA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7994520" cy="250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iginal focus of SPICE was on “ancillary” (engineering/housekeeping) data and associated software needed by scientists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ience data analysis and correlation with other resul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cope of SPICE usage has now grown to cover the full lifecycle of a mis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2680" y="4343400"/>
            <a:ext cx="1750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on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30240" y="5638680"/>
            <a:ext cx="942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337840" y="4343400"/>
            <a:ext cx="2658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on design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science purpo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27680" y="4343400"/>
            <a:ext cx="26161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ailed science observation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6560" y="5638680"/>
            <a:ext cx="2029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sion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9040" y="5638680"/>
            <a:ext cx="2520000" cy="833760"/>
          </a:xfrm>
          <a:prstGeom prst="rect">
            <a:avLst/>
          </a:prstGeom>
          <a:solidFill>
            <a:srgbClr val="d5f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tial scien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lysis and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other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8960" y="4343400"/>
            <a:ext cx="1817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ience archive user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847680" y="380520"/>
            <a:ext cx="30178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readth of U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5105520"/>
            <a:ext cx="8076960" cy="279360"/>
          </a:xfrm>
          <a:prstGeom prst="rect">
            <a:avLst/>
          </a:prstGeom>
          <a:solidFill>
            <a:srgbClr val="25d9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11520" y="5087880"/>
            <a:ext cx="2073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 Life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16360" y="6477120"/>
            <a:ext cx="18403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iginal focus of SP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8343720" y="4960800"/>
            <a:ext cx="685800" cy="609840"/>
          </a:xfrm>
          <a:prstGeom prst="triangle">
            <a:avLst>
              <a:gd name="adj" fmla="val 50000"/>
            </a:avLst>
          </a:prstGeom>
          <a:solidFill>
            <a:srgbClr val="25d9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4952880"/>
            <a:ext cx="76212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362320" y="4952520"/>
            <a:ext cx="83808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4952880"/>
            <a:ext cx="76212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181480" y="4952520"/>
            <a:ext cx="83844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4952880"/>
            <a:ext cx="76176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91520" y="4952520"/>
            <a:ext cx="838080" cy="68580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torials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034D-3DC8-43BA-BC25-4A9D069D32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is used on essentially all NASA solar system exploration pro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:  All Mars missions, Cassini, Deep Impact, Messenger, Ju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mited SPICE data have been (or are being) created for some past mi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: Voyager, Viking Orbi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is used to some degree in support of some space physics and astrophysics mi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: Hubble Space Telescope, SIRTF, Genesis, Kep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is used on some non-NASA mi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Russia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ars 96;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ESA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uygens Probe, Mars Express, Rosetta and Venus Express;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Japan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yabusa;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India’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drayaan-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ephemerides are used at some terrestrial observato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is used by NASA’s Deep Space Network for both scheduling and operating the antenn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632040" y="380520"/>
            <a:ext cx="3446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ajor Customer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torials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F89AD-FB1C-4713-B261-B4336DE773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61760" y="20570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CE is the U.S. Planetary Data System de facto standard for archival of ancillary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CE data for European planetary missions are archived in ESA’s Planetary Science Arch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036960" y="380520"/>
            <a:ext cx="4667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Ancillary Data Archiv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torials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0753-81AF-4FBA-9D44-86E2D76201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CE system components are freely 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costs to individual u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s pay for adaptation, deployment and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TAR restri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get complete source code and much doc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SPICE system development and maintenance is supported by NASA, based on the backing of the space science commun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152600" y="380520"/>
            <a:ext cx="2406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stribu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torials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D7D9E-C067-4D05-BE70-472AF9152D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6968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Quality of Training Materia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et of tutorials has been presented and revised numerous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“good news”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quality is much better than earlier ver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“bad news”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matter how hard we try, it seems impossible to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all the facts absolutely right and up-to-d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the level of detail “right” for every stud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 all of the language clear, complete and conci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t everything in the “correct” ord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training materials are meant to supplement–not replace–the subroutine headers and the “required reading” reference documents that are the primary sources for user information about SP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torials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96B1-F9DC-4D34-A717-4E580EB7A9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19:16:27Z</dcterms:created>
  <dc:creator>Chuck Acton</dc:creator>
  <dc:description/>
  <cp:keywords/>
  <dc:language>en-US</dc:language>
  <cp:lastModifiedBy>Charles Acton</cp:lastModifiedBy>
  <cp:lastPrinted>2000-04-30T20:24:19Z</cp:lastPrinted>
  <dcterms:modified xsi:type="dcterms:W3CDTF">2007-10-12T22:36:42Z</dcterms:modified>
  <cp:revision>70</cp:revision>
  <dc:subject/>
  <dc:title>SPICE Overview - 1</dc:title>
</cp:coreProperties>
</file>