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6240" y="691920"/>
            <a:ext cx="4565520" cy="342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893880" y="4357440"/>
            <a:ext cx="5068800" cy="41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75040" y="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75040" y="871704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871704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93880" y="4357440"/>
            <a:ext cx="50688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75040" y="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75040" y="871704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71704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3880" y="4357440"/>
            <a:ext cx="50688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75040" y="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75040" y="871704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871704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893880" y="4357440"/>
            <a:ext cx="50688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8C5D3-4E37-4356-9005-14300D6C4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4D44A-435D-4333-9756-0C5D51C4F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A46E4-D615-4F82-BA80-296482AC9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37C7-14B6-40D0-B960-22F79956B2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3E090-9E52-49C2-B5B7-16C2618465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80AB-2275-48F2-9644-2D3D9F610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D45BB-D4D3-4142-9F02-64E1C92D9A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39FA2-E578-4ADF-8399-ACD158382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8FB5E-46F1-4D83-BDCE-ADE82A8C71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52CBE-1B69-42EC-B3B2-8803A1170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C4A0C-566A-4E10-9FE5-0E76FEEF2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8D11F-D1FC-4A17-A6F6-91DC7A73F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DB50-02CB-4712-84FD-E53CCEAE052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46200" y="2285640"/>
            <a:ext cx="4259520" cy="2127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elcome</a:t>
            </a:r>
            <a:br>
              <a:rPr sz="32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to the</a:t>
            </a:r>
            <a:br>
              <a:rPr sz="24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Training Class</a:t>
            </a:r>
            <a:br>
              <a:rPr sz="3200"/>
            </a:b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64080" y="380520"/>
            <a:ext cx="33796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ass Objectiv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yo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n overview of the entire SPICE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sense of the purpose and uses of SP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n introduction to the use of primary SPICE compon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examples of how to use SPICE software and data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ome insight into conventions and common probl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variety of “hands-on” programming exerci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peek at new capabilities being worked on or consider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ze you with available SPICE resourc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NA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student’s feedback on today’s SPICE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pecially what’s hard to understand, hard to use, miss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student’s suggestions for further development of SP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student’s suggestions for improvements to NAIF support of the space science commun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elco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CDF5-C52A-4818-B65E-D46D8F5FFC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 cove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s at a high level, but quickly drills down to detai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es on many SPICE-related topics that could be of interest to science and engineering te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th of discussion varies somewhat amongst top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information for FORTRAN, C, IDL and Matlab programm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topics are addressed very little or not at 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production methods, tools and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stuff under develop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ving SPICE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3672000" y="380520"/>
            <a:ext cx="2544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ass Scop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elco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369C2-9926-41C4-B455-DD3594ECF5B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53920" y="380520"/>
            <a:ext cx="35989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peated Material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topics will be repeated in two or more tutori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re not trying to bore you, but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don’t wish to assume people will read all of the tutorials at the sam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think some items are sufficiently important to mention them more than o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elco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41005-F631-4890-87E3-66EACC18F9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535640" cy="4705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78200" y="56736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000"/>
                </a:solidFill>
                <a:latin typeface="Arial"/>
              </a:rPr>
              <a:t>•••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58880" y="1981080"/>
            <a:ext cx="3737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it does tak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t amount of eff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learn enough 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CE to begin to use 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with good suc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helps to have 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h skills, some innate s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patial orientation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familiarity with y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and its ope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, a code editor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or Integ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 Environment (ID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07800" y="355680"/>
            <a:ext cx="66769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Your SPICE Odyssey Begins Her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6680" y="11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elcom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7F142-D794-4ADC-8CC1-640FA48F1A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7680" y="380520"/>
            <a:ext cx="50004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is a Large Produc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ic SPICE Toolkit contai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 over 1000 individual public mod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ut most customers use only a handful of the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13 utility and application executables (with User Guid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23  subsystem reference docu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ral “cookbook” tutorial programs (with User Guid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assorted other documents, scripts and librar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’ll not fully grasp all the details during this class, but you can get a good start on i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53400" y="5943600"/>
            <a:ext cx="25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873c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0a873c"/>
                </a:solidFill>
                <a:latin typeface="Arial"/>
              </a:rPr>
              <a:t>Just do i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elcom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A2F72-647E-47DD-B82E-3FBFC6710F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47480" y="380520"/>
            <a:ext cx="44182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he NAIF Team at JPL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82600" y="347508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 Bach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12640" y="62578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 Wr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24640" y="631512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ris Semen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91600" y="346392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uck Ac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4114800"/>
            <a:ext cx="1943280" cy="2235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410080" y="4191120"/>
            <a:ext cx="2057400" cy="209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334120" y="1219320"/>
            <a:ext cx="2193840" cy="2222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828800" y="1219320"/>
            <a:ext cx="19033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elcom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ED15-BC46-4CF3-9975-10561833A79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1-02-22T02:08:29Z</cp:lastPrinted>
  <dcterms:modified xsi:type="dcterms:W3CDTF">2007-10-13T00:11:06Z</dcterms:modified>
  <cp:revision>63</cp:revision>
  <dc:subject/>
  <dc:title>A Collection of SPICE Tutorials</dc:title>
</cp:coreProperties>
</file>