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90045-2EBE-4E92-A632-57C320D87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B170D-B28D-4E12-8452-1ECF61D099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58A12-C3C0-4E12-A70F-3DCEA03D93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0F6BB-C9B6-4942-8D0C-F4DDBA4C62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1954A-6219-4A1D-9908-FF5DDF5922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176F3-CBCC-4E64-ABD3-FC2341019A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F9E7E-F356-4A64-ADB6-F8F0BE1F66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2D9DB-54DE-4E16-A88A-874C4001E7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FB02D-11AE-451E-85BF-CFD9CEDCE9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5E758-3312-41C0-84DC-85DDDA5870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C111D-FE7F-408A-A2B9-A23F723D05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845A8-7833-457D-A6E7-9BE2BD99A3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40C6C-4648-4132-A940-02ACC5408E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243E-765D-4608-BEF1-5ED2549C97E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04960" y="3171600"/>
            <a:ext cx="4305600" cy="952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Remote Sensing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rch 200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0360" y="380520"/>
            <a:ext cx="59104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getsta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253200" cy="451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BC7C7-D659-4245-9F19-55447B7FF3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60600" y="380520"/>
            <a:ext cx="58420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xform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307200" cy="467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BC076-EBD3-4F3B-BA27-63C6CCAC76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59080" y="380520"/>
            <a:ext cx="604512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subpts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380280" cy="467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A83A6-E806-48DF-9493-E80ECAF82A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73200" y="380520"/>
            <a:ext cx="58197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fovint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326280" cy="467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89C29-D9D0-4901-BC36-677AEB6692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381400" y="380520"/>
            <a:ext cx="60004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angles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518520" cy="467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5FDC4-5D7C-4E1B-9A54-A22316616C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4-04-30T20:29:12Z</cp:lastPrinted>
  <dcterms:modified xsi:type="dcterms:W3CDTF">2006-03-14T18:58:20Z</dcterms:modified>
  <cp:revision>71</cp:revision>
  <dc:subject/>
  <dc:title>Preview of Coming Attractions</dc:title>
</cp:coreProperties>
</file>