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B5533-3510-476D-9A30-80465F645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0EEF9-CACC-4431-A12E-0B66881E43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8A5F8-9A52-4F3F-AADE-BE25A41DD0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7F156-D1D4-4D23-8F1D-93B347E52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93DE1-62D7-42B5-AF98-2D394B775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3552C-FA87-4994-8A84-DD2ABD1F3F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7B4C-3F77-434B-9CF1-FDF37301D5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D6041-1C92-4A81-96C6-98FC839D1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3307B-314E-48EF-ACC1-A05A9B9BB9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F19BE-90F5-484D-A93D-6F8DFED200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D832B-D21D-488A-B3CE-F96877B91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B0AE7-20BC-497F-8D85-10A2F6362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BD52C-46DC-4F4F-9537-D505FD811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7B0A-EBC2-4A6F-83E4-92DEF1A15AD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253200" cy="451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A9A6A-89E1-4C4E-966C-B7B86E008B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60600" y="380520"/>
            <a:ext cx="5842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07200" cy="46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01504-7036-42FE-913D-DA49D11800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9080" y="380520"/>
            <a:ext cx="60451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80280" cy="46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D5328-AE9B-4DD6-875A-2C8F2E01392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3200" y="380520"/>
            <a:ext cx="5819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26280" cy="46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E6F7-E6F4-4A84-A427-CC8DEB0B18A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81400" y="380520"/>
            <a:ext cx="600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angle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18520" cy="46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675ED-D06A-4D3C-B9A2-9802976536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8:20Z</dcterms:modified>
  <cp:revision>71</cp:revision>
  <dc:subject/>
  <dc:title>Preview of Coming Attractions</dc:title>
</cp:coreProperties>
</file>