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58288" cy="68722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6918B-2F55-4DB9-9C49-EEDD7AC8C6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875040" y="-14400"/>
            <a:ext cx="29829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875040" y="8704440"/>
            <a:ext cx="29829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8704440"/>
            <a:ext cx="29811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-14400"/>
            <a:ext cx="29811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57400" y="698400"/>
            <a:ext cx="4543200" cy="340992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896760" y="4352760"/>
            <a:ext cx="5081760" cy="41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FEE52B-586F-4830-B367-20D35A9CBF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6D0AF9-C249-4423-8E7E-8BC82D572E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BDC13F-2C2B-4945-87E2-87BDF2A95A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AB756F-CD53-4D2E-8D87-4F58C53991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01F21F-0448-4006-9D83-EEAA6E0FE2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87EC3D-F684-4A56-ADF3-329CCDF063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2592A4-4754-490A-A122-D0FA2BC545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867D89-DC21-4489-84E0-F245752562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D601AD-127F-4421-9F6B-4989CB2D0A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9204E8-9E83-4C41-8A66-A7A40E7168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AD889F-0DC0-4CCD-A5C0-C65D457AA9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60EDFA-44D3-45C8-964E-6DED4807F0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-360" y="6629400"/>
            <a:ext cx="289548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25148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D2AAE-4012-401C-9A6F-52A324651E02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-228240" y="182520"/>
            <a:ext cx="2230200" cy="897120"/>
            <a:chOff x="-228240" y="182520"/>
            <a:chExt cx="2230200" cy="897120"/>
          </a:xfrm>
        </p:grpSpPr>
        <p:sp>
          <p:nvSpPr>
            <p:cNvPr id="8" name=""/>
            <p:cNvSpPr/>
            <p:nvPr/>
          </p:nvSpPr>
          <p:spPr>
            <a:xfrm flipH="1">
              <a:off x="1008000" y="326880"/>
              <a:ext cx="125280" cy="123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684" y="19702"/>
                  </a:moveTo>
                  <a:arcTo wR="10800" hR="10800" stAng="7469441" swAng="17318365"/>
                  <a:lnTo>
                    <a:pt x="10800" y="10800"/>
                  </a:lnTo>
                  <a:close/>
                </a:path>
                <a:path fill="none" w="21600" h="21600">
                  <a:moveTo>
                    <a:pt x="4684" y="19702"/>
                  </a:moveTo>
                  <a:arcTo wR="10800" hR="10800" stAng="7469441" swAng="17318365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>
              <a:off x="-227880" y="368280"/>
              <a:ext cx="2208960" cy="518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672674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6726747"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88840" y="371520"/>
              <a:ext cx="370080" cy="398520"/>
            </a:xfrm>
            <a:custGeom>
              <a:avLst/>
              <a:gdLst/>
              <a:ahLst/>
              <a:rect l="l" t="t" r="r" b="b"/>
              <a:pathLst>
                <a:path w="233" h="251">
                  <a:moveTo>
                    <a:pt x="134" y="0"/>
                  </a:moveTo>
                  <a:lnTo>
                    <a:pt x="95" y="0"/>
                  </a:lnTo>
                  <a:lnTo>
                    <a:pt x="0" y="246"/>
                  </a:lnTo>
                  <a:lnTo>
                    <a:pt x="114" y="35"/>
                  </a:lnTo>
                  <a:lnTo>
                    <a:pt x="233" y="251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08200" y="228564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-228240" y="182520"/>
            <a:ext cx="2230200" cy="897120"/>
            <a:chOff x="-228240" y="182520"/>
            <a:chExt cx="2230200" cy="897120"/>
          </a:xfrm>
        </p:grpSpPr>
        <p:sp>
          <p:nvSpPr>
            <p:cNvPr id="62" name=""/>
            <p:cNvSpPr/>
            <p:nvPr/>
          </p:nvSpPr>
          <p:spPr>
            <a:xfrm flipH="1">
              <a:off x="1008000" y="326880"/>
              <a:ext cx="125280" cy="123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684" y="19702"/>
                  </a:moveTo>
                  <a:arcTo wR="10800" hR="10800" stAng="7469441" swAng="17318365"/>
                  <a:lnTo>
                    <a:pt x="10800" y="10800"/>
                  </a:lnTo>
                  <a:close/>
                </a:path>
                <a:path fill="none" w="21600" h="21600">
                  <a:moveTo>
                    <a:pt x="4684" y="19702"/>
                  </a:moveTo>
                  <a:arcTo wR="10800" hR="10800" stAng="7469441" swAng="17318365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V="1">
              <a:off x="-227880" y="368280"/>
              <a:ext cx="2208960" cy="518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672674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6726747"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88840" y="371520"/>
              <a:ext cx="370080" cy="398520"/>
            </a:xfrm>
            <a:custGeom>
              <a:avLst/>
              <a:gdLst/>
              <a:ahLst/>
              <a:rect l="l" t="t" r="r" b="b"/>
              <a:pathLst>
                <a:path w="233" h="251">
                  <a:moveTo>
                    <a:pt x="134" y="0"/>
                  </a:moveTo>
                  <a:lnTo>
                    <a:pt x="95" y="0"/>
                  </a:lnTo>
                  <a:lnTo>
                    <a:pt x="0" y="246"/>
                  </a:lnTo>
                  <a:lnTo>
                    <a:pt x="114" y="35"/>
                  </a:lnTo>
                  <a:lnTo>
                    <a:pt x="233" y="251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457920" y="1608120"/>
            <a:ext cx="8242200" cy="39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604960" y="3171600"/>
            <a:ext cx="4305600" cy="952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</a:rPr>
              <a:t>“</a:t>
            </a:r>
            <a:r>
              <a:rPr b="1" lang="en-US" sz="3600" spc="-1" strike="noStrike">
                <a:solidFill>
                  <a:srgbClr val="081d58"/>
                </a:solidFill>
                <a:latin typeface="Arial"/>
              </a:rPr>
              <a:t>Other Stuff”</a:t>
            </a:r>
            <a:br>
              <a:rPr sz="3600"/>
            </a:b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Programming Lesson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1374840" y="5668560"/>
            <a:ext cx="6400800" cy="50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1d58"/>
                </a:solidFill>
                <a:latin typeface="Arial"/>
              </a:rPr>
              <a:t>March 2006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90680" y="380520"/>
            <a:ext cx="6153120" cy="4222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1d58"/>
                </a:solidFill>
                <a:latin typeface="Arial"/>
              </a:rPr>
              <a:t>Other Stuff Programming Examples</a:t>
            </a:r>
            <a:endParaRPr b="1" lang="en-US" sz="28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888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Keeper subsystem basic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erva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Kernel pool subsystem basic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or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ordinate system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se of advanced time routine cal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rrsys, adder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monstration of error handling (language dependen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ndows, sets, and cells basics (language dependen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monstrate utility fun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s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SPICE constants fun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814C4D-AA59-422D-AF6F-62454E1C220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Boris Semenov</cp:lastModifiedBy>
  <cp:lastPrinted>2004-04-30T20:29:12Z</cp:lastPrinted>
  <dcterms:modified xsi:type="dcterms:W3CDTF">2006-03-14T18:57:55Z</dcterms:modified>
  <cp:revision>65</cp:revision>
  <dc:subject/>
  <dc:title>Preview of Coming Attractions</dc:title>
</cp:coreProperties>
</file>