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B9F8-A2A3-4D29-A9AA-B56E794B3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FDDC7-E3AE-4EBE-BBA9-78DB7DFD4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3F960-01D1-4BFB-95F3-7E061084F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29F1E-A59A-44F3-A240-45DC15393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C71FE-FD46-46CC-B9D8-F2515F92D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DDD3C-43E3-42B2-9810-2EE9CF385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0A963-8417-4F7D-8E66-72AFC0E9C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A7F54-1FBA-42ED-88E4-29D106B3F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358ED-9747-42BD-8DBA-169261105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14D1-ACE3-4D21-883E-45C8E1EE4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AA874-8692-4989-8B2F-A8EFD5B08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79C2F-0881-4254-99F4-62C8A8CA3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E72A0-D9F3-4590-8AA4-7F68E9A10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68B0-F610-47AA-8ECA-C9A7291C5A2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Other Stuff”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rch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90680" y="380520"/>
            <a:ext cx="615312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Other Stuff Programming Examp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er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v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pool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ordinate system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of advanced time routine cal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sys, adder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ion of error handling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, sets, and cells basics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utility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SPICE constants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BE8D0-49A1-44E4-856F-44D60184D5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6-03-14T18:57:55Z</dcterms:modified>
  <cp:revision>65</cp:revision>
  <dc:subject/>
  <dc:title>Preview of Coming Attractions</dc:title>
</cp:coreProperties>
</file>