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7FA1-D038-4F5B-815F-B2F372F35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3BF9-5F79-48F9-A6C4-47B308F3E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25D0-1A3C-4E70-8AD1-40A9A98B0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411B-082B-4722-841A-025342910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CCFD-F10F-44AA-91A6-B9F943289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72A57-FB20-425A-9BB8-00ED6A2BE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453A-AAB0-4262-BAC0-2D580EA8E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F948B-B7E9-4B00-8C12-6923210FD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76D9A-6F0C-4470-82A2-8D8FDE023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1A56-E4BF-45BB-BF9C-F4C20B5B5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2ECF8-F94C-457A-AF29-DAEF892B2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0BCD6-F5CA-4199-9BEA-81EA9CA09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85BB-C4B6-400D-861F-66A62121C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7B39-B373-4482-85FC-D8306DD8528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6760" y="3171600"/>
            <a:ext cx="4300560" cy="1375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In-situ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8200" y="380520"/>
            <a:ext cx="3740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207120" cy="45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7F880-46A2-45B6-9110-AE94928BDD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05240" cy="45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DCAA8-5020-482B-AD6E-98AF4B2BA4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5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379920" cy="46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2154-A543-4692-AC7C-5D7E6A4427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6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306840" cy="45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54BEB-77F7-4357-B51B-D06605865E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6:17Z</dcterms:modified>
  <cp:revision>69</cp:revision>
  <dc:subject/>
  <dc:title>Preview of Coming Attractions</dc:title>
</cp:coreProperties>
</file>