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7FF2-63DD-47C3-9FF6-4C6C53C6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D787-400E-499E-BDDD-25B4FD5DD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9F0D-D4A4-4475-84BF-44BFA6C59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B36E-A23B-43F3-9226-A8B04805D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AD1D-E06A-4294-A254-6B2D745E0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A0EA-16FC-454A-8C96-4AADFCC26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D4D4-26F8-4716-80D8-62E19CE2B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C906-64A4-4775-BCC8-51EB12A30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A647-B9F0-4DB4-82C8-E5F87FAF0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D79C-8844-492C-A5FC-259846826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3D32-B62D-4464-92C6-4B0D3D05C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2B73-B70F-4AEE-9B48-F5B28B983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B24B-CF0D-4DCF-8925-552842A6D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2F63-D824-49E1-BD8F-6AD8BDB4AD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50E7-A1D8-4DF4-876C-432A7718E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A6D7-D086-426B-8470-BACFDFBBE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2337-2AD1-4CEC-8C43-607AA10DF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62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4AD5-F8DC-4E9F-A7BF-A216A3F4A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81400" y="380520"/>
            <a:ext cx="600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angle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1852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0D18-A552-4ACD-A175-C8560D5A05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4-10-15T20:20:15Z</dcterms:modified>
  <cp:revision>70</cp:revision>
  <dc:subject/>
  <dc:title>Preview of Coming Attractions</dc:title>
</cp:coreProperties>
</file>