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4136-8CC1-4B87-AE6F-7FE395D1A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8042F-8DB3-4534-A4AF-2FE095EB3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46DDC-D64C-4CC0-9BC2-D0E5589F7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6FBB9-27FB-416F-B60C-9A83CFED3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1C816-5A2A-4CB0-904B-827AF33FD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C4727-4F12-4331-86EE-810DB1E86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71CD3-2A68-4EFF-B8B8-8DAD19363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8F5C3-DF24-4B56-9DA6-5C74CB7EC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5A94-0427-4B87-850A-17D5236B0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873A4-F5FD-4B64-ADB2-767F3E249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07373-B95A-4ABF-87E1-B932A440B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DBDF1-0CCD-491D-923C-DBA646F91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86226-2666-4B1E-8B14-42B774FD7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A421-F272-47BE-9CC1-7ABEE622EBD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Other Stuff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90680" y="380520"/>
            <a:ext cx="615312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Other Stuff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er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v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pool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rdinate system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of advanced time routine cal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sys, adder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ion of error handling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, sets, and cells basics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utility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SPICE constants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C6610-C714-4ECF-8884-9C2CDE6360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4-10-14T23:35:29Z</dcterms:modified>
  <cp:revision>64</cp:revision>
  <dc:subject/>
  <dc:title>Preview of Coming Attractions</dc:title>
</cp:coreProperties>
</file>